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A1D-4404-4167-AB46-5CE33AEB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C9D-D075-4EA0-875B-32B3F1D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424-4102-4BB2-9803-7B821711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A5F-2A7C-4BC1-A7A5-0408BF7E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CE6-18F5-45CB-BB0E-31B4A751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447-CBF4-4BA5-A7A6-0B9FA282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A42-BA03-42BB-89FE-6C8CAF53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6CE-01B4-4E38-BABC-6F46A2F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AD1-8DF2-45B4-8B65-778A7AD4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514-5719-4056-9421-BA417A4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6DE-658F-4E6A-BF63-27A8827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C93-2200-45D4-8ACA-27EFB49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216-735C-46D7-8F3A-C36BE250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280" y="611280"/>
            <a:ext cx="6337440" cy="82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6480" y="212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ＵＳＥＮ様処理フロー　　（業務店・秋田ﾀﾞｲﾚｸﾄ即決）〔ＯＳＭ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34440" y="10800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.09.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900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84280" y="611280"/>
            <a:ext cx="0" cy="828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3000" y="611280"/>
            <a:ext cx="0" cy="828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8600" y="68436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お客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98800" y="68436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ＵＳＥＮ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9000" y="68436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秋田・ＩＰ受付セン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4400" y="1042920"/>
            <a:ext cx="2872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申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8640" y="1332000"/>
            <a:ext cx="576360" cy="3603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ご注文内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確認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52640" y="1187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8040" y="1042920"/>
            <a:ext cx="39420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申込受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52640" y="1476360"/>
            <a:ext cx="5760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4400" y="1411200"/>
            <a:ext cx="2872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確認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1000" y="1258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6280" y="1908000"/>
            <a:ext cx="8650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　即決帳票作成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2124000"/>
            <a:ext cx="1152360" cy="64764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【ﾀﾞｲﾚｸﾄ即決】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ﾌﾚｯﾂ工事日即決受付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送信票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ﾌﾚｯﾂ工事日即決申込補助票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2268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23480" y="2195640"/>
            <a:ext cx="2872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受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14440" y="2124000"/>
            <a:ext cx="3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97360" y="2411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40600" y="3279600"/>
            <a:ext cx="61020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内容確認・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付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97360" y="3490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37000" y="3701880"/>
            <a:ext cx="93672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工事日ご案内等　内容確認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7360" y="3995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43040" y="7192800"/>
            <a:ext cx="144000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秋田ＩＰ受付センタ連絡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ＴＥＬ：０１２０－５２９１１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ＦＡＸ：０１２０－８３６８１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65880" y="5380200"/>
            <a:ext cx="411120" cy="36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>
            <a:off x="2637000" y="3851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94120" y="3760920"/>
            <a:ext cx="447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工事日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ＣＯＰ受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637000" y="468648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18400" y="4579920"/>
            <a:ext cx="2872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受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97360" y="476892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8040" y="4524480"/>
            <a:ext cx="53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バッ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7956720"/>
            <a:ext cx="2448000" cy="86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＜留意事項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１．</a:t>
            </a:r>
            <a:r>
              <a:rPr b="0" lang="zh-CN" sz="700" spc="-1" strike="noStrike">
                <a:solidFill>
                  <a:srgbClr val="ff0000"/>
                </a:solidFill>
                <a:latin typeface="Arial"/>
              </a:rPr>
              <a:t>１９時までの</a:t>
            </a: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FAX</a:t>
            </a:r>
            <a:r>
              <a:rPr b="0" lang="zh-CN" sz="700" spc="-1" strike="noStrike">
                <a:solidFill>
                  <a:srgbClr val="ff0000"/>
                </a:solidFill>
                <a:latin typeface="Arial"/>
              </a:rPr>
              <a:t>到着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で、当日に即決受付を実施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２．即決受付ができなかった場合は、案件ごとの判断で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700" spc="-1" strike="noStrike">
                <a:solidFill>
                  <a:srgbClr val="ff0000"/>
                </a:solidFill>
                <a:latin typeface="Arial"/>
              </a:rPr>
              <a:t>通常取次　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または</a:t>
            </a:r>
            <a:r>
              <a:rPr b="0" lang="zh-CN" sz="700" spc="-1" strike="noStrike">
                <a:solidFill>
                  <a:srgbClr val="ff0000"/>
                </a:solidFill>
                <a:latin typeface="Arial"/>
              </a:rPr>
              <a:t>　一旦ｷｬﾝｾﾙし不明点解消後、再度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0000"/>
                </a:solidFill>
                <a:latin typeface="Arial"/>
              </a:rPr>
              <a:t>　　即決取次　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と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3360" y="971640"/>
            <a:ext cx="2664000" cy="288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プロバイダは</a:t>
            </a:r>
            <a:r>
              <a:rPr b="1" lang="ja-JP" sz="10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GyA-SA</a:t>
            </a:r>
            <a:r>
              <a:rPr b="1" lang="ja-JP" sz="10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光ｗ</a:t>
            </a:r>
            <a:r>
              <a:rPr b="1" lang="ja-JP" sz="10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ith</a:t>
            </a:r>
            <a:r>
              <a:rPr b="1" lang="ja-JP" sz="10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ﾌﾚｯ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00640" y="3203640"/>
            <a:ext cx="411120" cy="365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37000" y="2629080"/>
            <a:ext cx="720720" cy="35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即決可能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0440" y="291636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97360" y="2987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4920" y="2620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149720" y="2843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42040" y="277164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ＵＳＥＮ様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通常取次連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21000" y="2987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2760" y="2916360"/>
            <a:ext cx="2872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受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5000" y="3132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3348000"/>
            <a:ext cx="6382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通常取次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2280" y="1908000"/>
            <a:ext cx="1152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本人性確認はＵＳＥＮ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で行い、ＦＡＸにより送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9720" y="7189920"/>
            <a:ext cx="1360440" cy="945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様連絡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〔秋田支店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ＴＥＬ：０１８－８６５－１１０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ＦＡＸ：０１８－８６５－３７２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〔大曲支店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ＴＥＬ：０１８７－８６－３３２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ＦＡＸ：０１８７－８６－３３２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89320" y="5435640"/>
            <a:ext cx="1224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ＮＴＴ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申込処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0440" y="365904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即決受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4320" y="38178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37000" y="4545000"/>
            <a:ext cx="93672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即決帳票返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0640" y="4067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60640" y="4643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7320" y="5803920"/>
            <a:ext cx="66096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ＮＴＴ取次情報登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60640" y="6012000"/>
            <a:ext cx="1873080" cy="504720"/>
          </a:xfrm>
          <a:custGeom>
            <a:avLst/>
            <a:gdLst/>
            <a:ahLst/>
            <a:rect l="l" t="t" r="r" b="b"/>
            <a:pathLst>
              <a:path w="817" h="318">
                <a:moveTo>
                  <a:pt x="0" y="0"/>
                </a:moveTo>
                <a:lnTo>
                  <a:pt x="0" y="318"/>
                </a:lnTo>
                <a:lnTo>
                  <a:pt x="817" y="3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34600" y="63579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新エントリシステ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72400" y="647388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工事手配済みで配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28640" y="3924360"/>
            <a:ext cx="360360" cy="2808360"/>
          </a:xfrm>
          <a:custGeom>
            <a:avLst/>
            <a:gdLst/>
            <a:ahLst/>
            <a:rect l="l" t="t" r="r" b="b"/>
            <a:pathLst>
              <a:path w="227" h="1497">
                <a:moveTo>
                  <a:pt x="227" y="0"/>
                </a:moveTo>
                <a:lnTo>
                  <a:pt x="0" y="0"/>
                </a:lnTo>
                <a:lnTo>
                  <a:pt x="0" y="1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43760" y="6740640"/>
            <a:ext cx="85752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様内　申込処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84240" y="3836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4320" y="3635280"/>
            <a:ext cx="59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工事日等連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880" y="3760920"/>
            <a:ext cx="447480" cy="2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工事日了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1160" y="7189920"/>
            <a:ext cx="1871640" cy="1067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営業担当者様連絡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〔秋田支店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杉田支店長様：０７０－６５８６－２３９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岩渕様：０７０－６５８６ー０４９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大渕様：０７０－６５８６－０４９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〔大曲支店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杉田支店長様：０７０－６５８６－２３９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金沢様：０７０－６５８６－０５３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2176560"/>
            <a:ext cx="1629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即決ができなかった場合は、■通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取次とする　または　■一旦キャンセルし不明点の解消後、再度即決取次する　　のいずれか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どちらのパターンにするかは、案件ごとに柔軟なご対応をお願いいた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95840" y="8342280"/>
            <a:ext cx="1871640" cy="459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N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様　代理店コ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〔秋田支店〕１００１０６０５０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〔大曲支店〕１００１０６０５０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73360" y="4788000"/>
            <a:ext cx="1152720" cy="64764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【ﾀﾞｲﾚｸﾄ即決】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ﾌﾚｯﾂ工事日即決受付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送信票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ﾌﾚｯﾂ工事日即決申込補助票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7240" y="4829040"/>
            <a:ext cx="1152360" cy="64800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【ﾀﾞｲﾚｸﾄ即決】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ﾌﾚｯﾂ工事日即決受付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送信票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ﾌﾚｯﾂ工事日即決申込補助票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4:27:24Z</dcterms:created>
  <dc:creator>takahasi</dc:creator>
  <dc:description/>
  <dc:language>en-US</dc:language>
  <cp:lastModifiedBy>ti83235a</cp:lastModifiedBy>
  <dcterms:modified xsi:type="dcterms:W3CDTF">2008-09-08T01:44:30Z</dcterms:modified>
  <cp:revision>38</cp:revision>
  <dc:subject/>
  <dc:title>スライド 1</dc:title>
</cp:coreProperties>
</file>