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867900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6E8-8D1C-47CB-8180-D40A7147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2E7-2FCD-4167-B0B3-B0897DD4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0D1C-1E3A-4A0A-BB67-AF96B36E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A8C7-E4BF-44C3-AAF0-487F122A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43D-90E5-4903-AE07-8AE8EA16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DFF-0531-458D-8ECE-245248E3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87B-83D4-428B-8408-51F4E4B3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C70-D2AB-4D07-90E5-DC2C32AD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3E1-745D-476F-862E-4E8CBB7D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045-E2FB-4DD8-B9B7-CFB48119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13D-A332-47E0-8935-B0F40D84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4F1-56FA-49D7-9A17-BF8F2100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422B-9D7C-45DA-A419-A61828A77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240" y="361800"/>
            <a:ext cx="8807400" cy="645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240" y="677880"/>
            <a:ext cx="87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547640" y="360360"/>
            <a:ext cx="6480" cy="645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700360" y="504720"/>
            <a:ext cx="30240" cy="630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0" y="372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Ｐゴシック"/>
              </a:rPr>
              <a:t>お客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54120" y="469800"/>
            <a:ext cx="117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Ｐゴシック"/>
              </a:rPr>
              <a:t>営業担当者様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97320" y="411120"/>
            <a:ext cx="289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Ｐゴシック"/>
              </a:rPr>
              <a:t>ひかりセン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02600" y="360360"/>
            <a:ext cx="41400" cy="645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24920" y="372960"/>
            <a:ext cx="69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Ｐゴシック"/>
              </a:rPr>
              <a:t>各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I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42040" y="649764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設置工事完了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20" y="309600"/>
            <a:ext cx="910908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235640" y="360360"/>
            <a:ext cx="29880" cy="645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94600" y="32688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Ｐゴシック"/>
              </a:rPr>
              <a:t>販売パートナー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Ｐゴシック"/>
              </a:rPr>
              <a:t>サポートセンタ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51640" y="613584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取次情報登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8600" y="725400"/>
            <a:ext cx="86364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申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4" idx="2"/>
            <a:endCxn id="57" idx="3"/>
          </p:cNvCxnSpPr>
          <p:nvPr/>
        </p:nvCxnSpPr>
        <p:spPr>
          <a:xfrm rot="5400000">
            <a:off x="5046480" y="3892320"/>
            <a:ext cx="306720" cy="5224680"/>
          </a:xfrm>
          <a:prstGeom prst="bentConnector2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402240" y="648000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工事手配済みで配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4720" y="720720"/>
            <a:ext cx="97812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受注後、速やか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ひかりセンタへ連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8600" y="2919240"/>
            <a:ext cx="865080" cy="2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詳細内容確認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23280" y="6426360"/>
            <a:ext cx="546120" cy="2268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販ﾊﾟ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S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95920" y="2922480"/>
            <a:ext cx="158436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（現調日）・工事日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のご案内業務（Ｗ即決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22600" y="6550200"/>
            <a:ext cx="865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手数料支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87640" y="400536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87840" y="6278400"/>
            <a:ext cx="372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53200" y="607680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00"/>
                </a:solidFill>
                <a:latin typeface="ＭＳ Ｐゴシック"/>
              </a:rPr>
              <a:t>（ＯＳＭの場合）工事日・ＣＯＰ・ＩＳＰ受番を入手しＵＳＥＮ社基幹システムにてデータ送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-71280"/>
            <a:ext cx="9180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㈱ＵＳＥＮ様　業務店営業向けダイレクト即決</a:t>
            </a:r>
            <a:r>
              <a:rPr b="1" lang="zh-CN" sz="1400" spc="-1" strike="noStrike">
                <a:solidFill>
                  <a:srgbClr val="000000"/>
                </a:solidFill>
                <a:latin typeface="ＭＳ Ｐゴシック"/>
              </a:rPr>
              <a:t>フロ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5" idx="3"/>
            <a:endCxn id="59" idx="1"/>
          </p:cNvCxnSpPr>
          <p:nvPr/>
        </p:nvCxnSpPr>
        <p:spPr>
          <a:xfrm flipV="1">
            <a:off x="1362240" y="846720"/>
            <a:ext cx="312840" cy="5040"/>
          </a:xfrm>
          <a:prstGeom prst="bentConnector3">
            <a:avLst>
              <a:gd name="adj1" fmla="val 51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8600" y="3475080"/>
            <a:ext cx="86508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（現調日）・工事日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確認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0" idx="2"/>
            <a:endCxn id="68" idx="0"/>
          </p:cNvCxnSpPr>
          <p:nvPr/>
        </p:nvCxnSpPr>
        <p:spPr>
          <a:xfrm>
            <a:off x="930960" y="3171960"/>
            <a:ext cx="3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380360" y="5187960"/>
            <a:ext cx="43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完了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140000" y="360360"/>
            <a:ext cx="4680" cy="645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49400" y="463680"/>
            <a:ext cx="117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Ｐゴシック"/>
              </a:rPr>
              <a:t>事務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7080" y="2133720"/>
            <a:ext cx="158436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お客様情報起票及び設備確認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99160" y="2511360"/>
            <a:ext cx="158400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初期登録及び空工事日の確認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94440" y="583236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申込後６日程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7" idx="2"/>
            <a:endCxn id="78" idx="3"/>
          </p:cNvCxnSpPr>
          <p:nvPr/>
        </p:nvCxnSpPr>
        <p:spPr>
          <a:xfrm rot="5400000">
            <a:off x="4905720" y="2298240"/>
            <a:ext cx="160560" cy="7247880"/>
          </a:xfrm>
          <a:prstGeom prst="bentConnector4">
            <a:avLst>
              <a:gd name="adj1" fmla="val 152359"/>
              <a:gd name="adj2" fmla="val 51897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498600" y="5626080"/>
            <a:ext cx="863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ISP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お客様申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Gyao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以外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62240" y="5702400"/>
            <a:ext cx="695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21760" y="5626080"/>
            <a:ext cx="57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ID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発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6800" y="5894280"/>
            <a:ext cx="865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ISP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開通通知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32000" y="5603760"/>
            <a:ext cx="863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ISP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手配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Gyao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の場合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43640" y="2492280"/>
            <a:ext cx="2376360" cy="865440"/>
          </a:xfrm>
          <a:prstGeom prst="wedgeRectCallout">
            <a:avLst>
              <a:gd name="adj1" fmla="val -57282"/>
              <a:gd name="adj2" fmla="val 926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工事日は、申し込み日＋７日以降で取得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原則、９０分～当日中の範囲でお客様へ架電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３日間を経過し、工事のご案内業務が未完了の場合、③再応対依頼票（再対応依頼）を用いて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ＵＳＥＮ様のフォローを依頼（３日間ルール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お客様から取消依頼があった場合、③再応対依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　頼票（取消通知）にてＵＳＥＮ様へ通知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95920" y="4363920"/>
            <a:ext cx="1584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工事手配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67120" y="3786120"/>
            <a:ext cx="1000080" cy="216000"/>
          </a:xfrm>
          <a:prstGeom prst="wedgeRectCallout">
            <a:avLst>
              <a:gd name="adj1" fmla="val 23175"/>
              <a:gd name="adj2" fmla="val -1463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１日１回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FAX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返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70640" y="5003640"/>
            <a:ext cx="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7" idx="1"/>
            <a:endCxn id="88" idx="3"/>
          </p:cNvCxnSpPr>
          <p:nvPr/>
        </p:nvCxnSpPr>
        <p:spPr>
          <a:xfrm flipV="1" rot="10800000">
            <a:off x="3929040" y="4893840"/>
            <a:ext cx="868680" cy="236880"/>
          </a:xfrm>
          <a:prstGeom prst="bentConnector3">
            <a:avLst>
              <a:gd name="adj1" fmla="val 49295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3938760" y="5129280"/>
            <a:ext cx="84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現調ＮＧの場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8600" y="5302080"/>
            <a:ext cx="865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工事立会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440" y="4738680"/>
            <a:ext cx="865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現調立会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353600" y="4838760"/>
            <a:ext cx="3938760" cy="1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335240" y="5416560"/>
            <a:ext cx="388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3960" y="5022720"/>
            <a:ext cx="865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（現調ＮＧ確認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95920" y="3841920"/>
            <a:ext cx="158436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USEN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様事務所へ連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20000" y="1239840"/>
            <a:ext cx="1800000" cy="431640"/>
          </a:xfrm>
          <a:prstGeom prst="wedgeRectCallout">
            <a:avLst>
              <a:gd name="adj1" fmla="val -67370"/>
              <a:gd name="adj2" fmla="val 514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設備ＮＧの場合、設備検討依頼を行い設備提供の目処が立ち次第、現場調査日・工事のご案内業務を実施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95920" y="3471840"/>
            <a:ext cx="158436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（現調日）・工事日・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COP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番号取得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49440" y="514440"/>
            <a:ext cx="260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8680" y="322200"/>
            <a:ext cx="117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Ｐゴシック"/>
              </a:rPr>
              <a:t>㈱ＵＳＥＮ様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2440" y="34920"/>
            <a:ext cx="1106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埼玉－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0808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38800" y="1384200"/>
            <a:ext cx="230328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即決受付票＆②チェック票の内容を確認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59" idx="3"/>
            <a:endCxn id="102" idx="0"/>
          </p:cNvCxnSpPr>
          <p:nvPr/>
        </p:nvCxnSpPr>
        <p:spPr>
          <a:xfrm>
            <a:off x="2652840" y="846720"/>
            <a:ext cx="2294280" cy="99720"/>
          </a:xfrm>
          <a:prstGeom prst="bentConnector4">
            <a:avLst>
              <a:gd name="adj1" fmla="val 34902"/>
              <a:gd name="adj2" fmla="val -13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100" idx="2"/>
            <a:endCxn id="73" idx="0"/>
          </p:cNvCxnSpPr>
          <p:nvPr/>
        </p:nvCxnSpPr>
        <p:spPr>
          <a:xfrm flipH="1" rot="16200000">
            <a:off x="5346360" y="1880640"/>
            <a:ext cx="497520" cy="9000"/>
          </a:xfrm>
          <a:prstGeom prst="bentConnector3">
            <a:avLst>
              <a:gd name="adj1" fmla="val 511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73" idx="2"/>
            <a:endCxn id="74" idx="0"/>
          </p:cNvCxnSpPr>
          <p:nvPr/>
        </p:nvCxnSpPr>
        <p:spPr>
          <a:xfrm rot="5400000">
            <a:off x="5532480" y="2444760"/>
            <a:ext cx="125640" cy="8280"/>
          </a:xfrm>
          <a:prstGeom prst="bentConnector3">
            <a:avLst>
              <a:gd name="adj1" fmla="val 548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74" idx="2"/>
            <a:endCxn id="62" idx="0"/>
          </p:cNvCxnSpPr>
          <p:nvPr/>
        </p:nvCxnSpPr>
        <p:spPr>
          <a:xfrm rot="5400000">
            <a:off x="5509800" y="2841480"/>
            <a:ext cx="159120" cy="3600"/>
          </a:xfrm>
          <a:prstGeom prst="bentConnector3">
            <a:avLst>
              <a:gd name="adj1" fmla="val 537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6" idx="1"/>
            <a:endCxn id="68" idx="3"/>
          </p:cNvCxnSpPr>
          <p:nvPr/>
        </p:nvCxnSpPr>
        <p:spPr>
          <a:xfrm flipV="1" rot="10800000">
            <a:off x="1363680" y="3597480"/>
            <a:ext cx="3432600" cy="3600"/>
          </a:xfrm>
          <a:prstGeom prst="curvedConnector3">
            <a:avLst>
              <a:gd name="adj1" fmla="val 2365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7" name=""/>
          <p:cNvCxnSpPr>
            <a:stCxn id="94" idx="1"/>
            <a:endCxn id="108" idx="3"/>
          </p:cNvCxnSpPr>
          <p:nvPr/>
        </p:nvCxnSpPr>
        <p:spPr>
          <a:xfrm rot="10800000">
            <a:off x="3754080" y="3961440"/>
            <a:ext cx="1041840" cy="6840"/>
          </a:xfrm>
          <a:prstGeom prst="curvedConnector3">
            <a:avLst>
              <a:gd name="adj1" fmla="val 241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8131320" y="3379680"/>
            <a:ext cx="761760" cy="381240"/>
          </a:xfrm>
          <a:prstGeom prst="foldedCorner">
            <a:avLst>
              <a:gd name="adj" fmla="val 12500"/>
            </a:avLst>
          </a:prstGeom>
          <a:solidFill>
            <a:srgbClr val="cc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再応対依頼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（再応対依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／取消通知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3720" y="360360"/>
            <a:ext cx="0" cy="645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5920" y="21765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当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62" idx="2"/>
            <a:endCxn id="96" idx="0"/>
          </p:cNvCxnSpPr>
          <p:nvPr/>
        </p:nvCxnSpPr>
        <p:spPr>
          <a:xfrm rot="16200000">
            <a:off x="5439600" y="3323160"/>
            <a:ext cx="297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6" idx="2"/>
            <a:endCxn id="94" idx="0"/>
          </p:cNvCxnSpPr>
          <p:nvPr/>
        </p:nvCxnSpPr>
        <p:spPr>
          <a:xfrm rot="16200000">
            <a:off x="5529240" y="3782880"/>
            <a:ext cx="1180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94" idx="2"/>
            <a:endCxn id="83" idx="0"/>
          </p:cNvCxnSpPr>
          <p:nvPr/>
        </p:nvCxnSpPr>
        <p:spPr>
          <a:xfrm rot="16200000">
            <a:off x="5453280" y="4228920"/>
            <a:ext cx="270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38240" y="4232160"/>
            <a:ext cx="878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8640" y="5232240"/>
            <a:ext cx="33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翌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以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22600" y="5302080"/>
            <a:ext cx="865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工事立会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22600" y="4738680"/>
            <a:ext cx="865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工事立会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41880" y="946080"/>
            <a:ext cx="140976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『（ハイパー）ファミリータイプ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第一ひかり　℡　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0120-1169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54680" y="946080"/>
            <a:ext cx="130968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『マンションタイプ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第三ひかり ℡ 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0120-2059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89360" y="3835440"/>
            <a:ext cx="86508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現調日・工事日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COP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番号連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59" idx="3"/>
            <a:endCxn id="119" idx="0"/>
          </p:cNvCxnSpPr>
          <p:nvPr/>
        </p:nvCxnSpPr>
        <p:spPr>
          <a:xfrm>
            <a:off x="2652840" y="846720"/>
            <a:ext cx="3857040" cy="99720"/>
          </a:xfrm>
          <a:prstGeom prst="bentConnector4">
            <a:avLst>
              <a:gd name="adj1" fmla="val 41669"/>
              <a:gd name="adj2" fmla="val -13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031840" y="981000"/>
            <a:ext cx="1295640" cy="576360"/>
          </a:xfrm>
          <a:prstGeom prst="foldedCorner">
            <a:avLst>
              <a:gd name="adj" fmla="val 17504"/>
            </a:avLst>
          </a:prstGeom>
          <a:solidFill>
            <a:srgbClr val="cc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即決受付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チェック票の内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ＭＳ Ｐゴシック"/>
              </a:rPr>
              <a:t>③</a:t>
            </a:r>
            <a:r>
              <a:rPr b="1" lang="zh-CN" sz="800" spc="-1" strike="noStrike">
                <a:solidFill>
                  <a:srgbClr val="ff0000"/>
                </a:solidFill>
                <a:latin typeface="ＭＳ Ｐゴシック"/>
              </a:rPr>
              <a:t>ＯＳＭの有無、該当の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00"/>
                </a:solidFill>
                <a:latin typeface="ＭＳ Ｐゴシック"/>
              </a:rPr>
              <a:t>　ＩＳＰ名を伝達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9" idx="2"/>
            <a:endCxn id="100" idx="0"/>
          </p:cNvCxnSpPr>
          <p:nvPr/>
        </p:nvCxnSpPr>
        <p:spPr>
          <a:xfrm rot="5400000">
            <a:off x="5956200" y="831240"/>
            <a:ext cx="187560" cy="919440"/>
          </a:xfrm>
          <a:prstGeom prst="bentConnector3">
            <a:avLst>
              <a:gd name="adj1" fmla="val 53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2" idx="2"/>
            <a:endCxn id="100" idx="0"/>
          </p:cNvCxnSpPr>
          <p:nvPr/>
        </p:nvCxnSpPr>
        <p:spPr>
          <a:xfrm flipH="1" rot="16200000">
            <a:off x="5175000" y="968760"/>
            <a:ext cx="187560" cy="644040"/>
          </a:xfrm>
          <a:prstGeom prst="bentConnector3">
            <a:avLst>
              <a:gd name="adj1" fmla="val 53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5" idx="3"/>
            <a:endCxn id="126" idx="3"/>
          </p:cNvCxnSpPr>
          <p:nvPr/>
        </p:nvCxnSpPr>
        <p:spPr>
          <a:xfrm flipV="1">
            <a:off x="6372360" y="3703680"/>
            <a:ext cx="1355400" cy="1700640"/>
          </a:xfrm>
          <a:prstGeom prst="bentConnector2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7439040" y="3487680"/>
            <a:ext cx="576360" cy="21600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Front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83" idx="3"/>
            <a:endCxn id="126" idx="3"/>
          </p:cNvCxnSpPr>
          <p:nvPr/>
        </p:nvCxnSpPr>
        <p:spPr>
          <a:xfrm flipV="1">
            <a:off x="6380280" y="3703680"/>
            <a:ext cx="1347480" cy="768600"/>
          </a:xfrm>
          <a:prstGeom prst="bentConnector2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8" name=""/>
          <p:cNvCxnSpPr>
            <a:stCxn id="96" idx="3"/>
            <a:endCxn id="126" idx="2"/>
          </p:cNvCxnSpPr>
          <p:nvPr/>
        </p:nvCxnSpPr>
        <p:spPr>
          <a:xfrm flipV="1">
            <a:off x="6380280" y="3595680"/>
            <a:ext cx="1059120" cy="2520"/>
          </a:xfrm>
          <a:prstGeom prst="bentConnector3">
            <a:avLst>
              <a:gd name="adj1" fmla="val 50561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9" name=""/>
          <p:cNvCxnSpPr>
            <a:stCxn id="83" idx="2"/>
            <a:endCxn id="87" idx="0"/>
          </p:cNvCxnSpPr>
          <p:nvPr/>
        </p:nvCxnSpPr>
        <p:spPr>
          <a:xfrm flipH="1" rot="16200000">
            <a:off x="5485680" y="4682160"/>
            <a:ext cx="206640" cy="1800"/>
          </a:xfrm>
          <a:prstGeom prst="bentConnector3">
            <a:avLst>
              <a:gd name="adj1" fmla="val 530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4797360" y="4786200"/>
            <a:ext cx="1584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（現調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57880" y="4848120"/>
            <a:ext cx="762120" cy="381240"/>
          </a:xfrm>
          <a:prstGeom prst="foldedCorner">
            <a:avLst>
              <a:gd name="adj" fmla="val 12500"/>
            </a:avLst>
          </a:prstGeom>
          <a:solidFill>
            <a:srgbClr val="cc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再応対依頼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（現調ＮＧ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取消通知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15200" y="3914640"/>
            <a:ext cx="2447640" cy="216000"/>
          </a:xfrm>
          <a:prstGeom prst="wedgeRectCallout">
            <a:avLst>
              <a:gd name="adj1" fmla="val -55643"/>
              <a:gd name="adj2" fmla="val -3823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設備／名義ＮＧの場合も、１日１回のＦＡＸにより回答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63720" y="6137280"/>
            <a:ext cx="865440" cy="38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取次情報を送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295960"/>
            <a:ext cx="1584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B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フレッツ・ひかり電話開通工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62" idx="1"/>
            <a:endCxn id="60" idx="3"/>
          </p:cNvCxnSpPr>
          <p:nvPr/>
        </p:nvCxnSpPr>
        <p:spPr>
          <a:xfrm rot="10800000">
            <a:off x="1363680" y="3045600"/>
            <a:ext cx="3432600" cy="3240"/>
          </a:xfrm>
          <a:prstGeom prst="curvedConnector3">
            <a:avLst>
              <a:gd name="adj1" fmla="val 2473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1244160" y="4533840"/>
            <a:ext cx="23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マンションタイプは現調を行いません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9680" y="3141720"/>
            <a:ext cx="1370160" cy="431640"/>
          </a:xfrm>
          <a:prstGeom prst="wedgeRectCallout">
            <a:avLst>
              <a:gd name="adj1" fmla="val 58111"/>
              <a:gd name="adj2" fmla="val 330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ＭＳ Ｐゴシック"/>
              </a:rPr>
              <a:t>OSM</a:t>
            </a:r>
            <a:r>
              <a:rPr b="1" lang="zh-CN" sz="800" spc="-1" strike="noStrike">
                <a:solidFill>
                  <a:srgbClr val="ff0000"/>
                </a:solidFill>
                <a:latin typeface="ＭＳ Ｐゴシック"/>
              </a:rPr>
              <a:t>有りの場合：「ＯＳＭ同時申込情報」、該当のＩＳＰ名にチェックのこ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81" idx="2"/>
            <a:endCxn id="132" idx="0"/>
          </p:cNvCxnSpPr>
          <p:nvPr/>
        </p:nvCxnSpPr>
        <p:spPr>
          <a:xfrm rot="5400000">
            <a:off x="3221280" y="5794920"/>
            <a:ext cx="317880" cy="367560"/>
          </a:xfrm>
          <a:prstGeom prst="bentConnector3">
            <a:avLst>
              <a:gd name="adj1" fmla="val 54081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797360" y="1763640"/>
            <a:ext cx="158436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3333cc"/>
                </a:solidFill>
                <a:latin typeface="ＭＳ Ｐゴシック"/>
              </a:rPr>
              <a:t>フレッツ光ネクスト提供エリアで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ＭＳ Ｐゴシック"/>
              </a:rPr>
              <a:t>B</a:t>
            </a:r>
            <a:r>
              <a:rPr b="1" lang="zh-CN" sz="800" spc="-1" strike="noStrike">
                <a:solidFill>
                  <a:srgbClr val="3333cc"/>
                </a:solidFill>
                <a:latin typeface="ＭＳ Ｐゴシック"/>
              </a:rPr>
              <a:t>フレッツ取次ぎの場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00" idx="2"/>
            <a:endCxn id="137" idx="0"/>
          </p:cNvCxnSpPr>
          <p:nvPr/>
        </p:nvCxnSpPr>
        <p:spPr>
          <a:xfrm rot="5400000">
            <a:off x="5526000" y="1699560"/>
            <a:ext cx="127440" cy="1440"/>
          </a:xfrm>
          <a:prstGeom prst="bentConnector3">
            <a:avLst>
              <a:gd name="adj1" fmla="val 546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692360" y="1763640"/>
            <a:ext cx="86508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3333cc"/>
                </a:solidFill>
                <a:latin typeface="ＭＳ Ｐゴシック"/>
              </a:rPr>
              <a:t>フレッツ光ネクス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3333cc"/>
                </a:solidFill>
                <a:latin typeface="ＭＳ Ｐゴシック"/>
              </a:rPr>
              <a:t>移行工事費等説明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9" idx="3"/>
            <a:endCxn id="137" idx="1"/>
          </p:cNvCxnSpPr>
          <p:nvPr/>
        </p:nvCxnSpPr>
        <p:spPr>
          <a:xfrm>
            <a:off x="2557440" y="1889640"/>
            <a:ext cx="2240280" cy="36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539640" y="1763640"/>
            <a:ext cx="86364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3333cc"/>
                </a:solidFill>
                <a:latin typeface="ＭＳ Ｐゴシック"/>
              </a:rPr>
              <a:t>フレッツ光ネクス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3333cc"/>
                </a:solidFill>
                <a:latin typeface="ＭＳ Ｐゴシック"/>
              </a:rPr>
              <a:t>へ品目変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3"/>
            <a:endCxn id="139" idx="1"/>
          </p:cNvCxnSpPr>
          <p:nvPr/>
        </p:nvCxnSpPr>
        <p:spPr>
          <a:xfrm>
            <a:off x="1403280" y="188964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73" idx="1"/>
            <a:endCxn id="139" idx="2"/>
          </p:cNvCxnSpPr>
          <p:nvPr/>
        </p:nvCxnSpPr>
        <p:spPr>
          <a:xfrm rot="10800000">
            <a:off x="2124360" y="2015640"/>
            <a:ext cx="2682720" cy="244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851200" y="204804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3333cc"/>
                </a:solidFill>
                <a:latin typeface="Times New Roman"/>
              </a:rPr>
              <a:t>フレッツ光ネクストへの品目変更の連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0840" y="-2844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0000"/>
                </a:solidFill>
                <a:latin typeface="Times New Roman"/>
              </a:rPr>
              <a:t>赤字：</a:t>
            </a:r>
            <a:r>
              <a:rPr b="0" lang="ja-JP" sz="900" spc="-1" strike="noStrike">
                <a:solidFill>
                  <a:srgbClr val="ff0000"/>
                </a:solidFill>
                <a:latin typeface="Times New Roman"/>
              </a:rPr>
              <a:t>GyaoSA</a:t>
            </a:r>
            <a:r>
              <a:rPr b="0" lang="ja-JP" sz="900" spc="-1" strike="noStrike">
                <a:solidFill>
                  <a:srgbClr val="ff0000"/>
                </a:solidFill>
                <a:latin typeface="Times New Roman"/>
              </a:rPr>
              <a:t>の</a:t>
            </a:r>
            <a:r>
              <a:rPr b="0" lang="ja-JP" sz="900" spc="-1" strike="noStrike">
                <a:solidFill>
                  <a:srgbClr val="ff0000"/>
                </a:solidFill>
                <a:latin typeface="Times New Roman"/>
              </a:rPr>
              <a:t>OSM</a:t>
            </a:r>
            <a:r>
              <a:rPr b="0" lang="ja-JP" sz="900" spc="-1" strike="noStrike">
                <a:solidFill>
                  <a:srgbClr val="ff0000"/>
                </a:solidFill>
                <a:latin typeface="Times New Roman"/>
              </a:rPr>
              <a:t>化に伴うフロー変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6440" y="106200"/>
            <a:ext cx="156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cc"/>
                </a:solidFill>
                <a:latin typeface="Times New Roman"/>
              </a:rPr>
              <a:t>青字：</a:t>
            </a:r>
            <a:r>
              <a:rPr b="0" lang="en-US" sz="900" spc="-1" strike="noStrike">
                <a:solidFill>
                  <a:srgbClr val="3333cc"/>
                </a:solidFill>
                <a:latin typeface="Times New Roman"/>
              </a:rPr>
              <a:t>SPI</a:t>
            </a:r>
            <a:r>
              <a:rPr b="0" lang="zh-CN" sz="900" spc="-1" strike="noStrike">
                <a:solidFill>
                  <a:srgbClr val="3333cc"/>
                </a:solidFill>
                <a:latin typeface="Times New Roman"/>
              </a:rPr>
              <a:t>ネクスト対応に伴うフロー変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25960" y="38160"/>
            <a:ext cx="935280" cy="23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00"/>
                </a:solidFill>
                <a:latin typeface="Times New Roman"/>
              </a:rPr>
              <a:t>フロー変更日：８月５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3160" y="170640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3333cc"/>
                </a:solidFill>
                <a:latin typeface="Times New Roman"/>
              </a:rPr>
              <a:t>注意喚起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26200" y="6256440"/>
            <a:ext cx="22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00"/>
                </a:solidFill>
                <a:latin typeface="ＭＳ Ｐゴシック"/>
              </a:rPr>
              <a:t>（ＯＳＭ以外）従来どおりＦＡＸにてＡ票を送信（工事即決済み、手配済みにチェック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13:11:02Z</dcterms:created>
  <dc:creator>埼玉</dc:creator>
  <dc:description/>
  <dc:language>en-US</dc:language>
  <cp:lastModifiedBy>北関東支社　増田</cp:lastModifiedBy>
  <dcterms:modified xsi:type="dcterms:W3CDTF">2008-08-04T01:51:33Z</dcterms:modified>
  <cp:revision>966</cp:revision>
  <dc:subject/>
  <dc:title>PowerPoint プレゼンテーション</dc:title>
</cp:coreProperties>
</file>