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3DA-4055-40EC-B7CB-BE0E8F06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B62-4161-4E07-8716-E1DA431E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02E-C668-4069-BAC0-FDD1A3E3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BDF-B6F1-409C-A574-34B734A0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21F-7154-4574-B25E-51AA2DA3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A35-A11B-4192-A91F-C6EC6CC8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48C-BB4F-49D6-9737-8BB50480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27B-A2E7-478B-927E-0E4C0136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B06-30A8-45FA-8BDC-87FC1668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BEE-305F-4ABE-814F-66A934B3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EBF-CB4C-40E0-8956-7AE1B321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CB2-0B67-44A9-A62E-3F22EE3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53E-69C4-46D6-913E-5501DADC8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9360" y="3419640"/>
            <a:ext cx="19447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9360" y="4211640"/>
            <a:ext cx="1942920" cy="1224000"/>
          </a:xfrm>
          <a:prstGeom prst="line">
            <a:avLst/>
          </a:prstGeom>
          <a:ln cap="rnd" w="57240">
            <a:solidFill>
              <a:srgbClr val="3366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9360" y="3995640"/>
            <a:ext cx="19447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84640" y="755640"/>
            <a:ext cx="0" cy="820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755640"/>
            <a:ext cx="0" cy="820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755640"/>
            <a:ext cx="0" cy="820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00640" y="1042920"/>
            <a:ext cx="12240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X0120-8107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45000" y="104940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0120-915481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X0120-2439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9360" y="6732720"/>
            <a:ext cx="201636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9360" y="5724360"/>
            <a:ext cx="201636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9360" y="5219640"/>
            <a:ext cx="2016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21000" y="1908000"/>
            <a:ext cx="19447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3360" y="684360"/>
            <a:ext cx="1224000" cy="42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お客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9000" y="684360"/>
            <a:ext cx="1224000" cy="422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販売代理店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5000" y="684360"/>
            <a:ext cx="1224000" cy="42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ＮＴＴ東日本－山形</a:t>
            </a:r>
            <a:br>
              <a:rPr sz="1000"/>
            </a:b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パートナー担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00640" y="684360"/>
            <a:ext cx="122400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販売パートナー</a:t>
            </a: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サポートセン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5000" y="1763640"/>
            <a:ext cx="187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81000" y="1332000"/>
            <a:ext cx="14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申込受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代理店様でお客様に問診して即決に必要な情報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44640" y="106200"/>
            <a:ext cx="482436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ＤＦＧ平成ゴシック体W9"/>
                <a:ea typeface="ＤＦＧ平成ゴシック体W9"/>
              </a:rPr>
              <a:t>ＨＭＩダイレクト（山形版）即決フローチャート図</a:t>
            </a:r>
            <a:br>
              <a:rPr sz="1800"/>
            </a:br>
            <a:r>
              <a:rPr b="0" lang="zh-CN" sz="1200" spc="-1" strike="noStrike">
                <a:solidFill>
                  <a:srgbClr val="000000"/>
                </a:solidFill>
                <a:latin typeface="ＤＦＧ平成ゴシック体W9"/>
                <a:ea typeface="ＤＦＧ平成ゴシック体W9"/>
              </a:rPr>
              <a:t>Ｈ</a:t>
            </a:r>
            <a:r>
              <a:rPr b="0" lang="en-US" sz="1200" spc="-1" strike="noStrike">
                <a:solidFill>
                  <a:srgbClr val="000000"/>
                </a:solidFill>
                <a:latin typeface="ＤＦＧ平成ゴシック体W9"/>
                <a:ea typeface="ＤＦＧ平成ゴシック体W9"/>
              </a:rPr>
              <a:t>19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37000" y="1620720"/>
            <a:ext cx="1439640" cy="28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山形即決フリーダイヤル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20-915481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）に電話、「工事日即決をお願いします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代理店名、代理店コード、担当者名、折返しの連絡番号を伝え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申込お客様の情報を伝え、工事日即決の判定を依頼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即決可で即答の場合、お客様と相談して工事日を予約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と調整して、工事日を予約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番号、工事予約日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担当者名」を確認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折返し連絡の場合は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担当者の名前を確認す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6640" y="1187280"/>
            <a:ext cx="21600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92280" y="1476360"/>
            <a:ext cx="21600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76640" y="2050920"/>
            <a:ext cx="72072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必要なお客様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契約者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申込者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申込電話番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設置場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申込商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37000" y="485784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即決の可否を回答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即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の場合は、「●●日以降工事でき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37000" y="53625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と調整して、工事日を予約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番号、工事予約日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担当者名」を確認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65360" y="46879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折返しの場合は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分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7000" y="6372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代理店担当者様が、事務所に戻りましたら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をパートナー担当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20-243908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）に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送信し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92280" y="6227640"/>
            <a:ext cx="21600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0440" y="3635280"/>
            <a:ext cx="1871640" cy="3529080"/>
          </a:xfrm>
          <a:prstGeom prst="rect">
            <a:avLst/>
          </a:prstGeom>
          <a:solidFill>
            <a:srgbClr val="ffff99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工事日即決の前提条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【ハイパーファミリータイプ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「１戸建て」かつ「二階建て」以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建物に孔を開ける場合があり、了解していただけ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集合住宅の場合、二階以下で事前にオーナーまたは管理会社から承諾をいただいており、現場調査が不要な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【マンションタイプ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マンションタイプ装置設置済みの集合住宅で空きポートがあるこ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41720" y="5506920"/>
            <a:ext cx="1729080" cy="180180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1801800"/>
              <a:gd name="textAreaBottom" fmla="*/ 1717560 h 1801800"/>
            </a:gdLst>
            <a:ahLst/>
            <a:rect l="textAreaLeft" t="textAreaTop" r="textAreaRight" b="textAreaBottom"/>
            <a:pathLst>
              <a:path w="21600" h="22508">
                <a:moveTo>
                  <a:pt x="3600" y="0"/>
                </a:moveTo>
                <a:arcTo wR="3600" hR="3600" stAng="16200000" swAng="-5400000"/>
                <a:lnTo>
                  <a:pt x="0" y="18908"/>
                </a:lnTo>
                <a:arcTo wR="3600" hR="3600" stAng="10800000" swAng="-5400000"/>
                <a:lnTo>
                  <a:pt x="18000" y="225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重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契約者様が、既設電話番号をお持ちでない場合、本人性の確認が必要で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免許証等で、名前・顔が一致することを確認していただいて生年月日を確認し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確認できる証明書をお持ちで無い場合は、後日お客様から証明書の写しをパートナー担当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20-243908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）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送信（または郵送）していただき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92280" y="4356000"/>
            <a:ext cx="216000" cy="576360"/>
          </a:xfrm>
          <a:custGeom>
            <a:avLst/>
            <a:gdLst/>
            <a:ahLst/>
            <a:rect l="l" t="t" r="r" b="b"/>
            <a:pathLst>
              <a:path w="136" h="363">
                <a:moveTo>
                  <a:pt x="136" y="0"/>
                </a:moveTo>
                <a:cubicBezTo>
                  <a:pt x="68" y="60"/>
                  <a:pt x="0" y="121"/>
                  <a:pt x="0" y="181"/>
                </a:cubicBezTo>
                <a:cubicBezTo>
                  <a:pt x="0" y="241"/>
                  <a:pt x="68" y="302"/>
                  <a:pt x="136" y="363"/>
                </a:cubicBezTo>
              </a:path>
            </a:pathLst>
          </a:custGeom>
          <a:noFill/>
          <a:ln cap="rnd" w="93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6640" y="3780000"/>
            <a:ext cx="144000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に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フレッツ導入ガイドに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番号、工事予約日、申込商品等」を記入して、渡します（お客様不在の場合は、郵送または電話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等でお客様にご連絡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8280" y="6200640"/>
            <a:ext cx="1368360" cy="216000"/>
          </a:xfrm>
          <a:prstGeom prst="rect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X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送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8280" y="1442880"/>
            <a:ext cx="1368360" cy="216000"/>
          </a:xfrm>
          <a:prstGeom prst="rect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電話連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5920" y="108000"/>
            <a:ext cx="1584360" cy="503280"/>
          </a:xfrm>
          <a:prstGeom prst="flowChartDocumen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Arial"/>
              </a:rPr>
              <a:t>パターン１</a:t>
            </a:r>
            <a:br>
              <a:rPr sz="14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電話連絡先行パター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6640" y="2987640"/>
            <a:ext cx="1440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予約後、または折返し連絡待機中に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の未記入事項をお客様に聞取り、記入し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7920" y="8172360"/>
            <a:ext cx="432144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600" y="7596360"/>
            <a:ext cx="841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8748720"/>
            <a:ext cx="3961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88930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東日本－山形パートナー担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524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4280" y="7682040"/>
            <a:ext cx="2747880" cy="65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Arial"/>
              </a:rPr>
              <a:t>申込受付後、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1000" spc="-1" strike="noStrike">
                <a:solidFill>
                  <a:srgbClr val="ff0000"/>
                </a:solidFill>
                <a:latin typeface="Arial"/>
              </a:rPr>
              <a:t>票を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代理店様でお客様に問診して即決に必要な情報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本社送付先へ必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をして下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即決時の記入例については別途資料掲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52472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必須事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82840" y="8647200"/>
            <a:ext cx="23036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NTT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よりお客様にコンサルティング実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20640" y="4788000"/>
            <a:ext cx="1944720" cy="1944720"/>
          </a:xfrm>
          <a:prstGeom prst="line">
            <a:avLst/>
          </a:prstGeom>
          <a:ln cap="rnd" w="57240">
            <a:solidFill>
              <a:srgbClr val="3366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0640" y="4572000"/>
            <a:ext cx="19447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84640" y="755640"/>
            <a:ext cx="0" cy="820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755640"/>
            <a:ext cx="0" cy="820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73360" y="755640"/>
            <a:ext cx="0" cy="820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00640" y="1042920"/>
            <a:ext cx="12240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X0120-8107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45000" y="104292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0120-915481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X0120-2439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9360" y="2771640"/>
            <a:ext cx="201636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9360" y="5940360"/>
            <a:ext cx="2016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21000" y="1908000"/>
            <a:ext cx="19447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3360" y="684360"/>
            <a:ext cx="1224000" cy="42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お客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9000" y="684360"/>
            <a:ext cx="1224000" cy="422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販売代理店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45000" y="684360"/>
            <a:ext cx="1224000" cy="42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ＮＴＴ東日本－山形</a:t>
            </a:r>
            <a:br>
              <a:rPr sz="1000"/>
            </a:b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パートナー担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84360"/>
            <a:ext cx="122400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販売パートナー</a:t>
            </a: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サポートセン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5000" y="1763640"/>
            <a:ext cx="187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1000" y="1332000"/>
            <a:ext cx="1440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申込受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代理店様でお客様に問診して必要事項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73360" y="106200"/>
            <a:ext cx="482436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ＤＦＧ平成ゴシック体W9"/>
                <a:ea typeface="ＤＦＧ平成ゴシック体W9"/>
              </a:rPr>
              <a:t>ＨＭＩダイレクト（山形版）即決フローチャート図</a:t>
            </a:r>
            <a:br>
              <a:rPr sz="1800"/>
            </a:br>
            <a:r>
              <a:rPr b="0" lang="zh-CN" sz="1200" spc="-1" strike="noStrike">
                <a:solidFill>
                  <a:srgbClr val="000000"/>
                </a:solidFill>
                <a:latin typeface="ＤＦＧ平成ゴシック体W9"/>
                <a:ea typeface="ＤＦＧ平成ゴシック体W9"/>
              </a:rPr>
              <a:t>Ｈ</a:t>
            </a:r>
            <a:r>
              <a:rPr b="0" lang="en-US" sz="1200" spc="-1" strike="noStrike">
                <a:solidFill>
                  <a:srgbClr val="000000"/>
                </a:solidFill>
                <a:latin typeface="ＤＦＧ平成ゴシック体W9"/>
                <a:ea typeface="ＤＦＧ平成ゴシック体W9"/>
              </a:rPr>
              <a:t>19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37000" y="2556000"/>
            <a:ext cx="143964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山形即決フリーダイヤル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20-915481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）に電話、「工事日即決をお願いします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代理店名、代理店コード、担当者名を伝え</a:t>
            </a:r>
            <a:br>
              <a:rPr sz="800"/>
            </a:b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「先ほ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送信した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の■■様の工事日予約お願いします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即決可で即答の場合で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の希望日（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）と一致したら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番号、工事予約日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担当者名」を確認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折返し連絡の場合は、連絡番号を伝え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担当者の名前を確認す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6640" y="1187280"/>
            <a:ext cx="21600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37000" y="5649840"/>
            <a:ext cx="143964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工事日即決の可否を回答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即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の場合は、「●●日以降工事できます。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の希望日と一致する場合は、「第○希望日が予約できます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37000" y="6588000"/>
            <a:ext cx="1439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番号、工事予約日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担当者名」を確認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65360" y="543564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折返しの場合は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分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37000" y="1619280"/>
            <a:ext cx="143964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代理店担当者様が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をパートナー担当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20-243908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）に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送信し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92280" y="2411280"/>
            <a:ext cx="21600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0440" y="3708360"/>
            <a:ext cx="1871640" cy="3456000"/>
          </a:xfrm>
          <a:prstGeom prst="rect">
            <a:avLst/>
          </a:prstGeom>
          <a:solidFill>
            <a:srgbClr val="ffff99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工事日即決の前提条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【ハイパーファミリータイプ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「１戸建て」かつ「二階建て」以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建物に孔を開ける場合があり、了解していただけ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集合住宅の場合、二階以下で事前にオーナーまたは管理会社から承諾をいただいており、現場調査が不要な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【マンションタイプ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マンションタイプ装置設置済みの集合住宅で空きポートがあるこ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41720" y="5506920"/>
            <a:ext cx="1729080" cy="187344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1873440"/>
              <a:gd name="textAreaBottom" fmla="*/ 1789200 h 1873440"/>
            </a:gdLst>
            <a:ahLst/>
            <a:rect l="textAreaLeft" t="textAreaTop" r="textAreaRight" b="textAreaBottom"/>
            <a:pathLst>
              <a:path w="21600" h="23403">
                <a:moveTo>
                  <a:pt x="3600" y="0"/>
                </a:moveTo>
                <a:arcTo wR="3600" hR="3600" stAng="16200000" swAng="-5400000"/>
                <a:lnTo>
                  <a:pt x="0" y="19803"/>
                </a:lnTo>
                <a:arcTo wR="3600" hR="3600" stAng="10800000" swAng="-5400000"/>
                <a:lnTo>
                  <a:pt x="18000" y="23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重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契約者様が、既設電話番号をお持ちでない場合、本人性の確認が必要で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免許証等で、名前・顔が一致することを確認していただいて生年月日を確認し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確認できる証明書をお持ちで無い場合は、後日お客様から証明書の写しをパートナー担当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20-243908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）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送信（または郵送）していただき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88930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東日本－山形パートナー担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92280" y="1476360"/>
            <a:ext cx="21600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81000" y="3780000"/>
            <a:ext cx="1440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がいらっしゃる場合は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フレッツ導入ガイドに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番号、工事予約日、申込商品等」を記入して、お渡しください</a:t>
            </a:r>
            <a:br>
              <a:rPr sz="800"/>
            </a:b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（不在の場合、郵送または電話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等で連絡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92280" y="5148360"/>
            <a:ext cx="216000" cy="576000"/>
          </a:xfrm>
          <a:custGeom>
            <a:avLst/>
            <a:gdLst/>
            <a:ahLst/>
            <a:rect l="l" t="t" r="r" b="b"/>
            <a:pathLst>
              <a:path w="136" h="363">
                <a:moveTo>
                  <a:pt x="136" y="0"/>
                </a:moveTo>
                <a:cubicBezTo>
                  <a:pt x="68" y="60"/>
                  <a:pt x="0" y="121"/>
                  <a:pt x="0" y="181"/>
                </a:cubicBezTo>
                <a:cubicBezTo>
                  <a:pt x="0" y="241"/>
                  <a:pt x="68" y="302"/>
                  <a:pt x="136" y="363"/>
                </a:cubicBezTo>
              </a:path>
            </a:pathLst>
          </a:custGeom>
          <a:noFill/>
          <a:ln cap="rnd" w="93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5560" y="1476360"/>
            <a:ext cx="1368720" cy="216000"/>
          </a:xfrm>
          <a:prstGeom prst="rect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X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送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30600" y="2411280"/>
            <a:ext cx="1368360" cy="216000"/>
          </a:xfrm>
          <a:prstGeom prst="rect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電話連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52640" y="5003640"/>
            <a:ext cx="1296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66ff"/>
                </a:solidFill>
                <a:latin typeface="Arial"/>
              </a:rPr>
              <a:t>即決可で、工事希望日が無い場合はお客様と最短工事日以降で調整願い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80" y="36360"/>
            <a:ext cx="1584360" cy="503280"/>
          </a:xfrm>
          <a:prstGeom prst="flowChartDocumen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66ff"/>
                </a:solidFill>
                <a:uFillTx/>
                <a:latin typeface="Arial"/>
              </a:rPr>
              <a:t>パターン２</a:t>
            </a:r>
            <a:br>
              <a:rPr sz="14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ＦＡＸ送信先行パター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7920" y="8172360"/>
            <a:ext cx="432144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00" y="7596360"/>
            <a:ext cx="841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7920" y="8748720"/>
            <a:ext cx="3961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88930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東日本－山形パートナー担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524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84280" y="7682040"/>
            <a:ext cx="2747880" cy="65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Arial"/>
              </a:rPr>
              <a:t>申込受付後、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1000" spc="-1" strike="noStrike">
                <a:solidFill>
                  <a:srgbClr val="ff0000"/>
                </a:solidFill>
                <a:latin typeface="Arial"/>
              </a:rPr>
              <a:t>票を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代理店様でお客様に問診して即決に必要な情報を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票に記入し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N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本社送付先へ必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をして下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即決時の記入例については別途資料掲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52472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必須事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82840" y="8647200"/>
            <a:ext cx="23036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NTT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よりお客様にコンサルティング実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6:56:07Z</dcterms:created>
  <dc:creator>YI</dc:creator>
  <dc:description/>
  <dc:language>en-US</dc:language>
  <cp:lastModifiedBy>kk28980a</cp:lastModifiedBy>
  <dcterms:modified xsi:type="dcterms:W3CDTF">2008-02-08T08:59:48Z</dcterms:modified>
  <cp:revision>8</cp:revision>
  <dc:subject/>
  <dc:title>スライド 1</dc:title>
</cp:coreProperties>
</file>