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DC9-D78E-442F-BED7-CBA37E1B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41E-DCED-4D8D-B430-BCD4DEE6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B57-EC9E-4A90-BE0D-78FE1E82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14D-29B9-4787-BD57-46E9AD77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C05-32AB-46B4-9E7A-F3DDCA38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24D-7104-49E3-B650-37840D26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150-38B6-45D9-8887-B3C4A9E3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D60-7BD8-492F-A3E7-801C208A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420-ADA7-437F-B0F3-FD17D20C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F23-8EDB-4AB4-BE4B-78CB7BDA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D5D-3ABC-4335-8C3D-3CF7E9F1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C08-8E5D-4885-A07A-81B8A8AB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C7D-ECD7-4E41-A8B5-F262EEE4E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997360"/>
            <a:ext cx="6553440" cy="201600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333360"/>
            <a:ext cx="8928000" cy="35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四国様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間における工事日決定運用フロー　（ノーコンサル即決ｽｷｰﾑ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333360"/>
            <a:ext cx="8928000" cy="64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9228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417480" y="476280"/>
            <a:ext cx="1800" cy="626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476280"/>
            <a:ext cx="194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営業担当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4280"/>
            <a:ext cx="20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四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9204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76500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申込承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76500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販売活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2" idx="3"/>
            <a:endCxn id="53" idx="1"/>
          </p:cNvCxnSpPr>
          <p:nvPr/>
        </p:nvCxnSpPr>
        <p:spPr>
          <a:xfrm>
            <a:off x="971640" y="873000"/>
            <a:ext cx="505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476360" y="1125360"/>
            <a:ext cx="936720" cy="216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コンサルシート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1484280"/>
            <a:ext cx="936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依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77920"/>
            <a:ext cx="360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476280"/>
            <a:ext cx="15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支社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476280"/>
            <a:ext cx="374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2" idx="2"/>
            <a:endCxn id="55" idx="1"/>
          </p:cNvCxnSpPr>
          <p:nvPr/>
        </p:nvCxnSpPr>
        <p:spPr>
          <a:xfrm flipH="1" rot="16200000">
            <a:off x="899640" y="656280"/>
            <a:ext cx="252720" cy="901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3564000" y="148428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受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4042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備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5" idx="3"/>
            <a:endCxn id="56" idx="0"/>
          </p:cNvCxnSpPr>
          <p:nvPr/>
        </p:nvCxnSpPr>
        <p:spPr>
          <a:xfrm>
            <a:off x="2413080" y="1233360"/>
            <a:ext cx="395640" cy="25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179280" y="1413000"/>
            <a:ext cx="936720" cy="215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利用状況ﾋｱﾘﾝｸ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5" idx="2"/>
            <a:endCxn id="66" idx="3"/>
          </p:cNvCxnSpPr>
          <p:nvPr/>
        </p:nvCxnSpPr>
        <p:spPr>
          <a:xfrm rot="5400000">
            <a:off x="1440720" y="1016640"/>
            <a:ext cx="179640" cy="829080"/>
          </a:xfrm>
          <a:prstGeom prst="bentConnector2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900000" y="2058840"/>
            <a:ext cx="792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不備解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4581360"/>
            <a:ext cx="72072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戻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479736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443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581360"/>
            <a:ext cx="72072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状況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1"/>
            <a:endCxn id="74" idx="3"/>
          </p:cNvCxnSpPr>
          <p:nvPr/>
        </p:nvCxnSpPr>
        <p:spPr>
          <a:xfrm flipH="1">
            <a:off x="2844720" y="4690080"/>
            <a:ext cx="1006920" cy="36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8101080" y="4428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9/10/27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1989000"/>
            <a:ext cx="1008000" cy="3603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内容に不備は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6" idx="1"/>
            <a:endCxn id="68" idx="3"/>
          </p:cNvCxnSpPr>
          <p:nvPr/>
        </p:nvCxnSpPr>
        <p:spPr>
          <a:xfrm flipH="1" flipV="1">
            <a:off x="1692360" y="2167560"/>
            <a:ext cx="2159280" cy="2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5580000" y="134136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ノーコンサル依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2421000"/>
            <a:ext cx="865080" cy="3585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要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3357720"/>
            <a:ext cx="1008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設定依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35772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日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6022800"/>
            <a:ext cx="187344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工事手配済み」として取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yaO 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お申込取次書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3357720"/>
            <a:ext cx="1008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日調整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1"/>
            <a:endCxn id="81" idx="3"/>
          </p:cNvCxnSpPr>
          <p:nvPr/>
        </p:nvCxnSpPr>
        <p:spPr>
          <a:xfrm flipH="1">
            <a:off x="971640" y="3465360"/>
            <a:ext cx="1008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86" idx="1"/>
          </p:cNvCxnSpPr>
          <p:nvPr/>
        </p:nvCxnSpPr>
        <p:spPr>
          <a:xfrm flipH="1" rot="16200000">
            <a:off x="2970000" y="3087000"/>
            <a:ext cx="252720" cy="122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708360" y="3718080"/>
            <a:ext cx="1008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日取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4149720"/>
            <a:ext cx="100800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実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551664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取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515772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設定依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5157720"/>
            <a:ext cx="1008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調整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515772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1"/>
            <a:endCxn id="91" idx="3"/>
          </p:cNvCxnSpPr>
          <p:nvPr/>
        </p:nvCxnSpPr>
        <p:spPr>
          <a:xfrm flipH="1">
            <a:off x="971640" y="5265720"/>
            <a:ext cx="1079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83" idx="3"/>
            <a:endCxn id="80" idx="1"/>
          </p:cNvCxnSpPr>
          <p:nvPr/>
        </p:nvCxnSpPr>
        <p:spPr>
          <a:xfrm>
            <a:off x="2987640" y="3465360"/>
            <a:ext cx="721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90" idx="3"/>
            <a:endCxn id="89" idx="1"/>
          </p:cNvCxnSpPr>
          <p:nvPr/>
        </p:nvCxnSpPr>
        <p:spPr>
          <a:xfrm>
            <a:off x="3059280" y="5265720"/>
            <a:ext cx="649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5" name=""/>
          <p:cNvCxnSpPr>
            <a:stCxn id="90" idx="2"/>
            <a:endCxn id="88" idx="1"/>
          </p:cNvCxnSpPr>
          <p:nvPr/>
        </p:nvCxnSpPr>
        <p:spPr>
          <a:xfrm flipH="1" rot="16200000">
            <a:off x="3006360" y="4922280"/>
            <a:ext cx="251280" cy="115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653080" y="4508640"/>
            <a:ext cx="863640" cy="3585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結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80000" y="3357720"/>
            <a:ext cx="1008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日取得依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80000" y="515772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取得依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79" idx="3"/>
            <a:endCxn id="98" idx="3"/>
          </p:cNvCxnSpPr>
          <p:nvPr/>
        </p:nvCxnSpPr>
        <p:spPr>
          <a:xfrm>
            <a:off x="6516720" y="2600280"/>
            <a:ext cx="71640" cy="2665800"/>
          </a:xfrm>
          <a:prstGeom prst="bentConnector3">
            <a:avLst>
              <a:gd name="adj1" fmla="val 42474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>
            <a:off x="6084000" y="4867200"/>
            <a:ext cx="1440" cy="29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79" idx="2"/>
            <a:endCxn id="97" idx="0"/>
          </p:cNvCxnSpPr>
          <p:nvPr/>
        </p:nvCxnSpPr>
        <p:spPr>
          <a:xfrm flipH="1">
            <a:off x="6084000" y="2779560"/>
            <a:ext cx="72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5580000" y="3718080"/>
            <a:ext cx="1008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日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5516640"/>
            <a:ext cx="115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87" idx="2"/>
            <a:endCxn id="96" idx="0"/>
          </p:cNvCxnSpPr>
          <p:nvPr/>
        </p:nvCxnSpPr>
        <p:spPr>
          <a:xfrm>
            <a:off x="6084000" y="4365720"/>
            <a:ext cx="144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1"/>
            <a:endCxn id="80" idx="3"/>
          </p:cNvCxnSpPr>
          <p:nvPr/>
        </p:nvCxnSpPr>
        <p:spPr>
          <a:xfrm flipH="1">
            <a:off x="4716360" y="3465360"/>
            <a:ext cx="8640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435640" y="6093000"/>
            <a:ext cx="115236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受領・照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6453360"/>
            <a:ext cx="115236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実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96" idx="1"/>
            <a:endCxn id="69" idx="3"/>
          </p:cNvCxnSpPr>
          <p:nvPr/>
        </p:nvCxnSpPr>
        <p:spPr>
          <a:xfrm flipV="1" rot="10800000">
            <a:off x="4571640" y="4687920"/>
            <a:ext cx="1081440" cy="2520"/>
          </a:xfrm>
          <a:prstGeom prst="bentConnector3">
            <a:avLst>
              <a:gd name="adj1" fmla="val 50349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63" idx="3"/>
            <a:endCxn id="76" idx="0"/>
          </p:cNvCxnSpPr>
          <p:nvPr/>
        </p:nvCxnSpPr>
        <p:spPr>
          <a:xfrm>
            <a:off x="4211640" y="1592280"/>
            <a:ext cx="144000" cy="397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78" idx="2"/>
            <a:endCxn id="79" idx="0"/>
          </p:cNvCxnSpPr>
          <p:nvPr/>
        </p:nvCxnSpPr>
        <p:spPr>
          <a:xfrm>
            <a:off x="6084000" y="1557360"/>
            <a:ext cx="720" cy="86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86" idx="3"/>
            <a:endCxn id="102" idx="1"/>
          </p:cNvCxnSpPr>
          <p:nvPr/>
        </p:nvCxnSpPr>
        <p:spPr>
          <a:xfrm>
            <a:off x="4716360" y="3825720"/>
            <a:ext cx="8640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88" idx="3"/>
            <a:endCxn id="103" idx="1"/>
          </p:cNvCxnSpPr>
          <p:nvPr/>
        </p:nvCxnSpPr>
        <p:spPr>
          <a:xfrm>
            <a:off x="4716360" y="5624640"/>
            <a:ext cx="719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3" idx="2"/>
            <a:endCxn id="106" idx="0"/>
          </p:cNvCxnSpPr>
          <p:nvPr/>
        </p:nvCxnSpPr>
        <p:spPr>
          <a:xfrm>
            <a:off x="6011640" y="5732640"/>
            <a:ext cx="360" cy="36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82" idx="3"/>
            <a:endCxn id="106" idx="1"/>
          </p:cNvCxnSpPr>
          <p:nvPr/>
        </p:nvCxnSpPr>
        <p:spPr>
          <a:xfrm flipV="1">
            <a:off x="3276720" y="6200640"/>
            <a:ext cx="2159280" cy="18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2" idx="2"/>
            <a:endCxn id="87" idx="0"/>
          </p:cNvCxnSpPr>
          <p:nvPr/>
        </p:nvCxnSpPr>
        <p:spPr>
          <a:xfrm>
            <a:off x="6084000" y="393372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5940360" y="27828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9280" y="234936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不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76" idx="3"/>
            <a:endCxn id="78" idx="1"/>
          </p:cNvCxnSpPr>
          <p:nvPr/>
        </p:nvCxnSpPr>
        <p:spPr>
          <a:xfrm flipV="1">
            <a:off x="4859280" y="1449360"/>
            <a:ext cx="721080" cy="720360"/>
          </a:xfrm>
          <a:prstGeom prst="bentConnector3">
            <a:avLst>
              <a:gd name="adj1" fmla="val 506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2"/>
            <a:endCxn id="107" idx="0"/>
          </p:cNvCxnSpPr>
          <p:nvPr/>
        </p:nvCxnSpPr>
        <p:spPr>
          <a:xfrm>
            <a:off x="6011640" y="6308640"/>
            <a:ext cx="360" cy="14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98" idx="1"/>
            <a:endCxn id="89" idx="3"/>
          </p:cNvCxnSpPr>
          <p:nvPr/>
        </p:nvCxnSpPr>
        <p:spPr>
          <a:xfrm flipH="1">
            <a:off x="4716360" y="5265720"/>
            <a:ext cx="8640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564000" y="22068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不備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91916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不備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3068640"/>
            <a:ext cx="144144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【現調が必要な場合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24922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戻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227664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設備検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79" idx="1"/>
            <a:endCxn id="124" idx="3"/>
          </p:cNvCxnSpPr>
          <p:nvPr/>
        </p:nvCxnSpPr>
        <p:spPr>
          <a:xfrm flipH="1">
            <a:off x="4645080" y="2600280"/>
            <a:ext cx="100692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2492280"/>
            <a:ext cx="7207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状況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1"/>
            <a:endCxn id="129" idx="3"/>
          </p:cNvCxnSpPr>
          <p:nvPr/>
        </p:nvCxnSpPr>
        <p:spPr>
          <a:xfrm flipH="1">
            <a:off x="2844720" y="2600280"/>
            <a:ext cx="10800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7164360" y="765000"/>
            <a:ext cx="1800360" cy="100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新規申し込みは、午前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時までに支社依頼分を当日分受付とします。以降分については翌日受付となります。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＊内容に不備がなければ、原則当日夕方には現調日・工事日を連絡。　　　　　　　　　　　　　　　　　　　　　　　　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341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2133720"/>
            <a:ext cx="1800360" cy="1224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マンション・ビル等で現調を要するものは現調希望日（土・日・祝を除く）を記入。支社依頼日の３営業日以降を指定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一戸建て等で現調を要しないものは、工事希望日を記入。支社依頼日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営業日以降を指定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718080"/>
            <a:ext cx="1800360" cy="863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設備検討の場合は、営業担当へ連絡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設備検討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時に、現調・工事希望日の調整が出来ない場合は、改めて現調・工事希望日の調整を営業担当へ依頼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69228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3573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2205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5877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5445000"/>
            <a:ext cx="1800360" cy="1152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yaO 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お申込取次書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については、工事日確定後に事務センターへ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3300"/>
                </a:solidFill>
                <a:latin typeface="Arial"/>
              </a:rPr>
              <a:t>■</a:t>
            </a:r>
            <a:r>
              <a:rPr b="0" lang="ja-JP" sz="800" spc="-1" strike="noStrike">
                <a:solidFill>
                  <a:srgbClr val="ff3300"/>
                </a:solidFill>
                <a:latin typeface="Arial"/>
              </a:rPr>
              <a:t>注意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現調決定段階で事務センターへ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決して行わないこと！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4360" y="530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56" idx="3"/>
            <a:endCxn id="63" idx="1"/>
          </p:cNvCxnSpPr>
          <p:nvPr/>
        </p:nvCxnSpPr>
        <p:spPr>
          <a:xfrm>
            <a:off x="3276720" y="1592280"/>
            <a:ext cx="287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1979640" y="2492280"/>
            <a:ext cx="865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対応依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29" idx="1"/>
            <a:endCxn id="127" idx="3"/>
          </p:cNvCxnSpPr>
          <p:nvPr/>
        </p:nvCxnSpPr>
        <p:spPr>
          <a:xfrm flipH="1">
            <a:off x="1042920" y="2601000"/>
            <a:ext cx="93708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79640" y="4581360"/>
            <a:ext cx="86508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対応依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74" idx="1"/>
            <a:endCxn id="72" idx="3"/>
          </p:cNvCxnSpPr>
          <p:nvPr/>
        </p:nvCxnSpPr>
        <p:spPr>
          <a:xfrm flipH="1">
            <a:off x="1116000" y="4690080"/>
            <a:ext cx="864000" cy="36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80360" y="521964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1" lang="zh-CN" sz="1000" spc="-1" strike="noStrike">
                <a:solidFill>
                  <a:srgbClr val="ff0000"/>
                </a:solidFill>
                <a:latin typeface="Arial"/>
              </a:rPr>
              <a:t>重要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6:04:52Z</dcterms:created>
  <dc:creator>usen_user</dc:creator>
  <dc:description/>
  <dc:language>en-US</dc:language>
  <cp:lastModifiedBy> </cp:lastModifiedBy>
  <dcterms:modified xsi:type="dcterms:W3CDTF">2009-10-28T08:34:59Z</dcterms:modified>
  <cp:revision>26</cp:revision>
  <dc:subject/>
  <dc:title>スライド 1</dc:title>
</cp:coreProperties>
</file>