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95E6-9CF5-4359-93DC-03962A8A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30F-DE8B-455E-BD6B-FDB529CB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5C1-4250-42D3-A373-9DBD5330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E68-0F4D-4C61-AA98-65752DDF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34A-B5D7-4E15-90BD-4EE52B09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E8D-889D-4D59-B5FC-BD7E51A9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5DC-F5AE-466E-9A23-4B0977FF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81E-68E4-4620-8680-F8AAC765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4CA-492D-4002-866C-ADD080EC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7E6-FBFB-421C-94A6-1B2F0EEA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F06-EFF5-45AC-BF34-6584FC73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606-F6CB-42D6-AD3F-9B1ECEBF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1401-6770-4B04-8E11-37E68BF1E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37240" y="0"/>
            <a:ext cx="20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管理番号　　　　　　　　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884160"/>
            <a:ext cx="424980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＜支店名＞□にチェック願います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ＢＢ営業開発（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8130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・</a:t>
            </a:r>
            <a:r>
              <a:rPr b="0" lang="en-US" sz="13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さいたま（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107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川口（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110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・</a:t>
            </a:r>
            <a:r>
              <a:rPr b="0" lang="en-US" sz="13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越谷（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109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・</a:t>
            </a:r>
            <a:r>
              <a:rPr b="0" lang="en-US" sz="13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春日部（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106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川越（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103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・</a:t>
            </a:r>
            <a:r>
              <a:rPr b="0" lang="en-US" sz="13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所沢（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102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・</a:t>
            </a:r>
            <a:r>
              <a:rPr b="0" lang="en-US" sz="13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熊谷（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104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担当者：　　　　　　　　　 　携帯：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　　　　　　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話：　　　　　　　　　　　ＦＡＸ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440" y="704880"/>
            <a:ext cx="2441520" cy="192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ひかりセンタ（第一・第三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受付時間：午前１０時～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時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0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＜受付担当者＞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＜コンタクト担当＞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480" y="295200"/>
            <a:ext cx="658152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r>
              <a:rPr b="1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Ｂフレッツ　ＵＳＥＮ業務店様ダイレクト即決受付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2760" y="4576680"/>
            <a:ext cx="4530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同一設置場所に既設回線有り（既設回線番号　　　　　－　　　　　－　　　　　）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14480" y="4576680"/>
            <a:ext cx="368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14480" y="7893000"/>
            <a:ext cx="48992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14480" y="6885000"/>
            <a:ext cx="48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14480" y="7610400"/>
            <a:ext cx="48992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14480" y="8683560"/>
            <a:ext cx="48992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80" y="8454960"/>
            <a:ext cx="1828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記事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14480" y="8440560"/>
            <a:ext cx="4899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14480" y="3397320"/>
            <a:ext cx="48992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5680" y="3397320"/>
            <a:ext cx="1828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名義確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14480" y="8197920"/>
            <a:ext cx="48992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OP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　　　　　　　　　　　　　　　</a:t>
            </a:r>
            <a:r>
              <a:rPr b="1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工事日　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月　　　　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680" y="8197920"/>
            <a:ext cx="1828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OP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ひかりセンタ記入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680" y="4334040"/>
            <a:ext cx="18288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申し込み電話番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14480" y="4334040"/>
            <a:ext cx="48992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　　　－　　　　　　　　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14480" y="6176880"/>
            <a:ext cx="4899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14480" y="7405560"/>
            <a:ext cx="48992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680" y="7367760"/>
            <a:ext cx="18288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希望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ISP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及びプラン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14480" y="7935840"/>
            <a:ext cx="4899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5680" y="7935840"/>
            <a:ext cx="18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廃止回線の有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680" y="5273640"/>
            <a:ext cx="18288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申込希望商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14480" y="4849920"/>
            <a:ext cx="48992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携帯　　　　　　　　　　　　　 　　　　　　勤務先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680" y="4849920"/>
            <a:ext cx="1828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連絡先電話番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5680" y="3057480"/>
            <a:ext cx="1828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ご契約者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14480" y="3049560"/>
            <a:ext cx="48992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680" y="3564000"/>
            <a:ext cx="18288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申込者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14480" y="3887640"/>
            <a:ext cx="4899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〒　　　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-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680" y="3887640"/>
            <a:ext cx="18288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設置場所情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住所、マンション名・部屋番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14480" y="2809800"/>
            <a:ext cx="2498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平成 　　年 　　　月　 　　日  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680" y="2800440"/>
            <a:ext cx="18288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申込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680" y="3639960"/>
            <a:ext cx="672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14480" y="2863800"/>
            <a:ext cx="0" cy="615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5680" y="3887640"/>
            <a:ext cx="672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680" y="3114720"/>
            <a:ext cx="672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680" y="4849920"/>
            <a:ext cx="672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5680" y="5092560"/>
            <a:ext cx="672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5680" y="7367760"/>
            <a:ext cx="672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680" y="7964640"/>
            <a:ext cx="672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680" y="4334040"/>
            <a:ext cx="672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680" y="8440560"/>
            <a:ext cx="672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14480" y="6885000"/>
            <a:ext cx="489924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14480" y="4576680"/>
            <a:ext cx="489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2760" y="45766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44080" y="6346800"/>
            <a:ext cx="60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＜ひかり電話＞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89600" y="6434280"/>
            <a:ext cx="42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13480" y="6434280"/>
            <a:ext cx="42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55760" y="681372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＜ひかり電話　付加サービス＞　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従来通り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24360" y="6966000"/>
            <a:ext cx="72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キャッチホ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0600" y="6961320"/>
            <a:ext cx="72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ボイスワー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77280" y="69516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ナンバーディスプレイ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5800" y="6951600"/>
            <a:ext cx="90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ナンバーリクエス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44880" y="7122960"/>
            <a:ext cx="7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ダブルチャネ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70440" y="7122960"/>
            <a:ext cx="72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マイナンバ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48760" y="738828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yao 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81640" y="7388280"/>
            <a:ext cx="13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その他（　　　　　　　　）⇒□ＮＴＴによる手配が必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14560" y="7923240"/>
            <a:ext cx="462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ＡＤＳＬ有　　　　□廃止　　　その他廃止回線有（電番　　　　　　　　　　　　　　　）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44720" y="8089920"/>
            <a:ext cx="2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2800" y="3381480"/>
            <a:ext cx="395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既設　　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運免　　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その他（　　　　　　　）　※生年月日　　　　年　　　月　　　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41600" y="6624720"/>
            <a:ext cx="55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□</a:t>
            </a: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A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・エー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4800" y="66247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基本プラ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68080" y="66247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安心プラ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360" y="6624720"/>
            <a:ext cx="90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もっと安心プラン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05480" y="64436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番ポ有　　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番ポ無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57480" y="678492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86080" y="660384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57480" y="667080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7960" y="2357280"/>
          <a:ext cx="1589400" cy="24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2357280"/>
                    <a:ext cx="1589400" cy="2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887480" y="8475840"/>
            <a:ext cx="51418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申込日以外のコンタクト可能日　　　月　　　日　ＡＭ・ＰＭ　　　　時～　　　　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工事希望日①　　　月　　　日、②　　　　月　　　日（ 月・火・水・木・金・土・日 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240" y="41400"/>
            <a:ext cx="7351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埼玉－</a:t>
            </a: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0808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16080" y="216000"/>
            <a:ext cx="200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4480" y="5273640"/>
            <a:ext cx="489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4480" y="5977080"/>
            <a:ext cx="489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63080" y="5370480"/>
            <a:ext cx="66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＜</a:t>
            </a: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B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レッツ＞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60768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リモートサポートサービ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39040" y="5942160"/>
            <a:ext cx="66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＜付加サービス＞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67200" y="60786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フレッツナンバー通知機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14480" y="60768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フレッツ・ウィルスクリア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60800" y="5353200"/>
            <a:ext cx="476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ハイパーファミリータイプ（以下も確認）　　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マンションタイ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0680" y="3416400"/>
            <a:ext cx="632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160" y="8199360"/>
            <a:ext cx="672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8280" y="2859120"/>
            <a:ext cx="6705720" cy="616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2058840"/>
            <a:ext cx="1565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ＣＯＰ番号</a:t>
            </a: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8</a:t>
            </a: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桁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31840" y="2295360"/>
            <a:ext cx="3774600" cy="301680"/>
            <a:chOff x="2931840" y="2295360"/>
            <a:chExt cx="3774600" cy="301680"/>
          </a:xfrm>
        </p:grpSpPr>
        <p:sp>
          <p:nvSpPr>
            <p:cNvPr id="128" name=""/>
            <p:cNvSpPr/>
            <p:nvPr/>
          </p:nvSpPr>
          <p:spPr>
            <a:xfrm flipH="1">
              <a:off x="2941200" y="2597040"/>
              <a:ext cx="37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31840" y="2295360"/>
              <a:ext cx="37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787480" y="907920"/>
            <a:ext cx="4003920" cy="172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960" y="3413160"/>
            <a:ext cx="0" cy="23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47600" y="264168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＜ＵＳＥＮ様へ＞太枠内をすべて記入のうえ、ひかりセンタへ伝達願います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54560" y="642960"/>
            <a:ext cx="21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株式会社ＵＳＥＮ　　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企業コード・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100106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22400" y="6346800"/>
            <a:ext cx="489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5619600"/>
            <a:ext cx="367524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22400" y="5627520"/>
            <a:ext cx="120960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35160" y="5599080"/>
            <a:ext cx="476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 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階建て以上の鉄筋コンクリートの建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一戸建て、長屋形式、２階建て以下で木造（木造モルタル）の建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684760"/>
            <a:ext cx="119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＜建物状況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72880" y="510228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＜フレッツ光ネクスト＞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68720" y="5075280"/>
            <a:ext cx="476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ミリータイプ（以下も確認）　　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マンションタイ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4480" y="5086440"/>
            <a:ext cx="4884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5094360"/>
            <a:ext cx="36673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8120" y="7651800"/>
            <a:ext cx="14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□</a:t>
            </a: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OSM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有り　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□</a:t>
            </a: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OSM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無し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74760" y="7812000"/>
            <a:ext cx="2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74760" y="76312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5:09:21Z</dcterms:created>
  <dc:creator>shi107023</dc:creator>
  <dc:description/>
  <dc:language>en-US</dc:language>
  <cp:lastModifiedBy>北関東支社　増田</cp:lastModifiedBy>
  <dcterms:modified xsi:type="dcterms:W3CDTF">2008-10-24T07:32:26Z</dcterms:modified>
  <cp:revision>217</cp:revision>
  <dc:subject/>
  <dc:title>PowerPoint プレゼンテーション</dc:title>
</cp:coreProperties>
</file>