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6E97-3C5B-464E-B4A8-98F13377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42D-8B9C-497B-A3A0-C763EB4A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011-B5AE-40BE-A072-810A8085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95EB-39EA-49B6-ACAE-D22A841B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112-16A8-4295-85CA-D88EB268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68A-E238-4195-A5BF-FDC40BEA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131-7335-448F-ADDF-5AFA28CF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E1CD-3C38-4EEB-8817-5CAF02BE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18E1-BF7B-4232-AF72-B3684CFB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6240-F3F4-4D27-B4CB-3CF65FAB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9A1-E57D-403B-8295-F397F80E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108-3A6D-4175-8D64-C84AF4E6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50D7-8DB8-426C-908D-C0CD12D9F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052640"/>
            <a:ext cx="7704000" cy="360036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4797360"/>
            <a:ext cx="7704000" cy="19447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928000" cy="35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6028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T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鳥取様－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間における工事日決定運用フロー　（ノーコンサルｽｷｰﾑ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333360"/>
            <a:ext cx="8928000" cy="64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692280"/>
            <a:ext cx="89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417480" y="476280"/>
            <a:ext cx="1800" cy="626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476280"/>
            <a:ext cx="1944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営業担当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12000" y="333360"/>
            <a:ext cx="0" cy="640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56000" y="404280"/>
            <a:ext cx="352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販売パートナー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39204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お客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765000"/>
            <a:ext cx="79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申込承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765000"/>
            <a:ext cx="79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販売活動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3" idx="3"/>
            <a:endCxn id="54" idx="1"/>
          </p:cNvCxnSpPr>
          <p:nvPr/>
        </p:nvCxnSpPr>
        <p:spPr>
          <a:xfrm>
            <a:off x="1042920" y="873000"/>
            <a:ext cx="4338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476360" y="1125360"/>
            <a:ext cx="936720" cy="2160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コンサルシート記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5080" y="4076640"/>
            <a:ext cx="719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事務処理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40000" y="1413000"/>
            <a:ext cx="936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ｺﾝｻﾙ依頼連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8" idx="3"/>
            <a:endCxn id="60" idx="1"/>
          </p:cNvCxnSpPr>
          <p:nvPr/>
        </p:nvCxnSpPr>
        <p:spPr>
          <a:xfrm>
            <a:off x="3276720" y="1557360"/>
            <a:ext cx="1945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445080" y="2494080"/>
            <a:ext cx="11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★</a:t>
            </a:r>
            <a:r>
              <a:rPr b="0" lang="zh-CN" sz="800" spc="-1" strike="noStrike" u="sng">
                <a:solidFill>
                  <a:srgbClr val="000000"/>
                </a:solidFill>
                <a:uFillTx/>
                <a:latin typeface="Arial"/>
              </a:rPr>
              <a:t>設備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G</a:t>
            </a:r>
            <a:r>
              <a:rPr b="0" lang="zh-CN" sz="800" spc="-1" strike="noStrike" u="sng">
                <a:solidFill>
                  <a:srgbClr val="000000"/>
                </a:solidFill>
                <a:uFillTx/>
                <a:latin typeface="Arial"/>
              </a:rPr>
              <a:t>の場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333360"/>
            <a:ext cx="0" cy="640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277920"/>
            <a:ext cx="302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333360"/>
            <a:ext cx="0" cy="640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6" idx="3"/>
            <a:endCxn id="67" idx="3"/>
          </p:cNvCxnSpPr>
          <p:nvPr/>
        </p:nvCxnSpPr>
        <p:spPr>
          <a:xfrm flipH="1">
            <a:off x="3132000" y="2096280"/>
            <a:ext cx="3601080" cy="432000"/>
          </a:xfrm>
          <a:prstGeom prst="bentConnector3">
            <a:avLst>
              <a:gd name="adj1" fmla="val -6638"/>
            </a:avLst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179280" y="4292640"/>
            <a:ext cx="1656000" cy="35856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工事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現調日即決ｽｷｰ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19640" y="476280"/>
            <a:ext cx="86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事務ｾﾝﾀ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32000" y="476280"/>
            <a:ext cx="302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53" idx="2"/>
            <a:endCxn id="56" idx="1"/>
          </p:cNvCxnSpPr>
          <p:nvPr/>
        </p:nvCxnSpPr>
        <p:spPr>
          <a:xfrm flipH="1" rot="16200000">
            <a:off x="935640" y="692280"/>
            <a:ext cx="252720" cy="829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5221440" y="1413000"/>
            <a:ext cx="1079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必要事項ﾋｱﾘﾝｸ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受付ﾃﾞｰﾀ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89440" y="1916280"/>
            <a:ext cx="194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ｺﾝｻﾙ及び工事可能日・現調可能日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非即決（設備工事待ち）の連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0" idx="2"/>
            <a:endCxn id="66" idx="0"/>
          </p:cNvCxnSpPr>
          <p:nvPr/>
        </p:nvCxnSpPr>
        <p:spPr>
          <a:xfrm>
            <a:off x="5761080" y="1701720"/>
            <a:ext cx="3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7885080" y="4042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備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5080" y="1916280"/>
            <a:ext cx="187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ｺﾝｻﾙ及び工事可能日・現調可能日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非即決（設備工事待ち）の連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56" idx="3"/>
            <a:endCxn id="58" idx="0"/>
          </p:cNvCxnSpPr>
          <p:nvPr/>
        </p:nvCxnSpPr>
        <p:spPr>
          <a:xfrm>
            <a:off x="2413080" y="1233360"/>
            <a:ext cx="395640" cy="18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50920" y="1413000"/>
            <a:ext cx="936360" cy="2156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利用状況ﾋｱﾘﾝｸ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56" idx="2"/>
            <a:endCxn id="76" idx="3"/>
          </p:cNvCxnSpPr>
          <p:nvPr/>
        </p:nvCxnSpPr>
        <p:spPr>
          <a:xfrm rot="5400000">
            <a:off x="1476360" y="1052280"/>
            <a:ext cx="179640" cy="757800"/>
          </a:xfrm>
          <a:prstGeom prst="bentConnector2">
            <a:avLst/>
          </a:prstGeom>
          <a:ln w="255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66" idx="1"/>
            <a:endCxn id="74" idx="3"/>
          </p:cNvCxnSpPr>
          <p:nvPr/>
        </p:nvCxnSpPr>
        <p:spPr>
          <a:xfrm flipH="1">
            <a:off x="3276720" y="2096280"/>
            <a:ext cx="1513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324000" y="1916280"/>
            <a:ext cx="86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今後の工程説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及び日程の確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4" idx="1"/>
            <a:endCxn id="79" idx="3"/>
          </p:cNvCxnSpPr>
          <p:nvPr/>
        </p:nvCxnSpPr>
        <p:spPr>
          <a:xfrm flipH="1">
            <a:off x="1187280" y="2096280"/>
            <a:ext cx="2181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1906560" y="2995560"/>
            <a:ext cx="936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ｺﾝｻﾙ結果連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1640" y="2995560"/>
            <a:ext cx="172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ｺﾝｻﾙ結果確認及びﾃﾞｰﾀ入力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1" idx="3"/>
            <a:endCxn id="82" idx="1"/>
          </p:cNvCxnSpPr>
          <p:nvPr/>
        </p:nvCxnSpPr>
        <p:spPr>
          <a:xfrm>
            <a:off x="2843280" y="3139920"/>
            <a:ext cx="28087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9" idx="1"/>
            <a:endCxn id="81" idx="1"/>
          </p:cNvCxnSpPr>
          <p:nvPr/>
        </p:nvCxnSpPr>
        <p:spPr>
          <a:xfrm flipH="1" flipV="1" rot="10800000">
            <a:off x="324000" y="2095920"/>
            <a:ext cx="1582920" cy="1044000"/>
          </a:xfrm>
          <a:prstGeom prst="bentConnector3">
            <a:avLst>
              <a:gd name="adj1" fmla="val -146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2340000" y="2419200"/>
            <a:ext cx="79200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USEN</a:t>
            </a:r>
            <a:r>
              <a:rPr b="0" lang="zh-CN" sz="700" spc="-1" strike="noStrike">
                <a:solidFill>
                  <a:srgbClr val="808080"/>
                </a:solidFill>
                <a:latin typeface="Arial"/>
              </a:rPr>
              <a:t>戻り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2419200"/>
            <a:ext cx="64764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808080"/>
                </a:solidFill>
                <a:latin typeface="Arial"/>
              </a:rPr>
              <a:t>状況説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67" idx="1"/>
            <a:endCxn id="85" idx="3"/>
          </p:cNvCxnSpPr>
          <p:nvPr/>
        </p:nvCxnSpPr>
        <p:spPr>
          <a:xfrm flipH="1">
            <a:off x="1187280" y="2527920"/>
            <a:ext cx="1153080" cy="360"/>
          </a:xfrm>
          <a:prstGeom prst="straightConnector1">
            <a:avLst/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1403280" y="3502080"/>
            <a:ext cx="1944720" cy="35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工事手配済み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通常」で取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GyaO SA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光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お取次書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2000" y="4005360"/>
            <a:ext cx="1224000" cy="577800"/>
          </a:xfrm>
          <a:prstGeom prst="wedgeRectCallout">
            <a:avLst>
              <a:gd name="adj1" fmla="val -45458"/>
              <a:gd name="adj2" fmla="val -94231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（記事欄記入項目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3300"/>
                </a:solidFill>
                <a:latin typeface="Arial"/>
              </a:rPr>
              <a:t>・「即決ワン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様担当者○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管理番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1" idx="2"/>
            <a:endCxn id="87" idx="0"/>
          </p:cNvCxnSpPr>
          <p:nvPr/>
        </p:nvCxnSpPr>
        <p:spPr>
          <a:xfrm>
            <a:off x="2374920" y="3284640"/>
            <a:ext cx="1080" cy="2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300720" y="3573360"/>
            <a:ext cx="1008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ﾃﾞｰﾀ受信・突合せ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5229360"/>
            <a:ext cx="1008000" cy="431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現調結果確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3"/>
            <a:endCxn id="91" idx="0"/>
          </p:cNvCxnSpPr>
          <p:nvPr/>
        </p:nvCxnSpPr>
        <p:spPr>
          <a:xfrm>
            <a:off x="6012000" y="4797360"/>
            <a:ext cx="1152000" cy="432360"/>
          </a:xfrm>
          <a:prstGeom prst="bent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1906560" y="5229360"/>
            <a:ext cx="72072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USEN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戻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2720" y="5662440"/>
            <a:ext cx="100800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工事日可能連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2360" y="56624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工事日連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5" idx="1"/>
            <a:endCxn id="96" idx="3"/>
          </p:cNvCxnSpPr>
          <p:nvPr/>
        </p:nvCxnSpPr>
        <p:spPr>
          <a:xfrm flipH="1">
            <a:off x="900000" y="5806080"/>
            <a:ext cx="4393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7093080" y="48560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3300"/>
                </a:solidFill>
                <a:uFillTx/>
                <a:latin typeface="Arial"/>
              </a:rPr>
              <a:t>現調実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1280" y="5632560"/>
            <a:ext cx="5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93080" y="609300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工事日決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0560" y="6453360"/>
            <a:ext cx="1081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工事日決定連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6453360"/>
            <a:ext cx="1081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工事日決定受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1" idx="1"/>
            <a:endCxn id="102" idx="3"/>
          </p:cNvCxnSpPr>
          <p:nvPr/>
        </p:nvCxnSpPr>
        <p:spPr>
          <a:xfrm flipH="1">
            <a:off x="3924360" y="6561000"/>
            <a:ext cx="6465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012000" y="6453360"/>
            <a:ext cx="936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ﾃﾞｰﾀ入力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96" idx="2"/>
            <a:endCxn id="100" idx="1"/>
          </p:cNvCxnSpPr>
          <p:nvPr/>
        </p:nvCxnSpPr>
        <p:spPr>
          <a:xfrm flipH="1" rot="16200000">
            <a:off x="3709080" y="2816640"/>
            <a:ext cx="250920" cy="6517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100" idx="2"/>
            <a:endCxn id="104" idx="3"/>
          </p:cNvCxnSpPr>
          <p:nvPr/>
        </p:nvCxnSpPr>
        <p:spPr>
          <a:xfrm rot="5400000">
            <a:off x="7056000" y="6200640"/>
            <a:ext cx="252720" cy="468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4" idx="1"/>
            <a:endCxn id="101" idx="3"/>
          </p:cNvCxnSpPr>
          <p:nvPr/>
        </p:nvCxnSpPr>
        <p:spPr>
          <a:xfrm flipH="1">
            <a:off x="5651640" y="6561000"/>
            <a:ext cx="3607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6372360" y="520056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87" idx="3"/>
            <a:endCxn id="90" idx="1"/>
          </p:cNvCxnSpPr>
          <p:nvPr/>
        </p:nvCxnSpPr>
        <p:spPr>
          <a:xfrm>
            <a:off x="3348000" y="3681360"/>
            <a:ext cx="29530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3780000" y="765000"/>
            <a:ext cx="1871640" cy="432000"/>
          </a:xfrm>
          <a:prstGeom prst="wedgeRectCallout">
            <a:avLst>
              <a:gd name="adj1" fmla="val -82824"/>
              <a:gd name="adj2" fmla="val 115074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FAX 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Arial"/>
              </a:rPr>
              <a:t>：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0120-475-70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EL 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Arial"/>
              </a:rPr>
              <a:t>：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0120-475-7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0000"/>
                </a:solidFill>
                <a:uFillTx/>
                <a:latin typeface="Arial"/>
              </a:rPr>
              <a:t>受付時間 ：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10:00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Arial"/>
              </a:rPr>
              <a:t>～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18: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4795920"/>
            <a:ext cx="1656000" cy="288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非即決（設備工事待ち）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現調実施後の工事日決定ｽｷｰ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4724280"/>
            <a:ext cx="756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4581360"/>
            <a:ext cx="129564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3300"/>
                </a:solidFill>
                <a:uFillTx/>
                <a:latin typeface="Arial"/>
              </a:rPr>
              <a:t>工事・現調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3357720"/>
            <a:ext cx="790560" cy="57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808080"/>
                </a:solidFill>
                <a:latin typeface="Arial"/>
              </a:rPr>
              <a:t>＜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USEN</a:t>
            </a:r>
            <a:r>
              <a:rPr b="0" lang="zh-CN" sz="700" spc="-1" strike="noStrike">
                <a:solidFill>
                  <a:srgbClr val="808080"/>
                </a:solidFill>
                <a:latin typeface="Arial"/>
              </a:rPr>
              <a:t>事務ｾﾝﾀ＞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808080"/>
                </a:solidFill>
                <a:latin typeface="Arial"/>
              </a:rPr>
              <a:t>取次ﾃﾞｰﾀ受領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808080"/>
                </a:solidFill>
                <a:latin typeface="Arial"/>
              </a:rPr>
              <a:t>システム反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90" idx="2"/>
            <a:endCxn id="57" idx="0"/>
          </p:cNvCxnSpPr>
          <p:nvPr/>
        </p:nvCxnSpPr>
        <p:spPr>
          <a:xfrm>
            <a:off x="6804720" y="3789360"/>
            <a:ext cx="360" cy="287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15" name=""/>
          <p:cNvCxnSpPr>
            <a:stCxn id="57" idx="1"/>
            <a:endCxn id="93" idx="0"/>
          </p:cNvCxnSpPr>
          <p:nvPr/>
        </p:nvCxnSpPr>
        <p:spPr>
          <a:xfrm flipV="1" rot="10800000">
            <a:off x="5363640" y="4184640"/>
            <a:ext cx="1081440" cy="397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82" idx="3"/>
            <a:endCxn id="57" idx="3"/>
          </p:cNvCxnSpPr>
          <p:nvPr/>
        </p:nvCxnSpPr>
        <p:spPr>
          <a:xfrm flipH="1">
            <a:off x="7164360" y="3139920"/>
            <a:ext cx="216360" cy="1045080"/>
          </a:xfrm>
          <a:prstGeom prst="bentConnector3">
            <a:avLst>
              <a:gd name="adj1" fmla="val -107166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17" name=""/>
          <p:cNvCxnSpPr>
            <a:stCxn id="91" idx="2"/>
            <a:endCxn id="95" idx="3"/>
          </p:cNvCxnSpPr>
          <p:nvPr/>
        </p:nvCxnSpPr>
        <p:spPr>
          <a:xfrm rot="5400000">
            <a:off x="6659280" y="5302080"/>
            <a:ext cx="145440" cy="863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50920" y="5227560"/>
            <a:ext cx="79200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状況説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94" idx="1"/>
            <a:endCxn id="118" idx="3"/>
          </p:cNvCxnSpPr>
          <p:nvPr/>
        </p:nvCxnSpPr>
        <p:spPr>
          <a:xfrm flipH="1" flipV="1">
            <a:off x="1042920" y="5336280"/>
            <a:ext cx="864000" cy="2160"/>
          </a:xfrm>
          <a:prstGeom prst="straightConnector1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85" idx="2"/>
            <a:endCxn id="82" idx="0"/>
          </p:cNvCxnSpPr>
          <p:nvPr/>
        </p:nvCxnSpPr>
        <p:spPr>
          <a:xfrm flipH="1" rot="16200000">
            <a:off x="3510360" y="-10080"/>
            <a:ext cx="358920" cy="5653080"/>
          </a:xfrm>
          <a:prstGeom prst="bentConnector5">
            <a:avLst>
              <a:gd name="adj1" fmla="val 64457"/>
              <a:gd name="adj2" fmla="val 45217"/>
              <a:gd name="adj3" fmla="val 35341"/>
            </a:avLst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266920" y="5661000"/>
            <a:ext cx="936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工事日調整連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609300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結果連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91" idx="1"/>
            <a:endCxn id="94" idx="3"/>
          </p:cNvCxnSpPr>
          <p:nvPr/>
        </p:nvCxnSpPr>
        <p:spPr>
          <a:xfrm rot="10800000">
            <a:off x="2626920" y="5338080"/>
            <a:ext cx="4032720" cy="107640"/>
          </a:xfrm>
          <a:prstGeom prst="bentConnector3">
            <a:avLst>
              <a:gd name="adj1" fmla="val 50093"/>
            </a:avLst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7885080" y="981000"/>
            <a:ext cx="1079640" cy="576360"/>
          </a:xfrm>
          <a:prstGeom prst="wedgeRectCallout">
            <a:avLst>
              <a:gd name="adj1" fmla="val -287351"/>
              <a:gd name="adj2" fmla="val -51930"/>
            </a:avLst>
          </a:prstGeom>
          <a:solidFill>
            <a:srgbClr val="ff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指定時間内においてｺﾝｻﾙｼｰﾄを</a:t>
            </a:r>
            <a:r>
              <a:rPr b="0" lang="en-US" sz="800" spc="-1" strike="noStrike">
                <a:solidFill>
                  <a:srgbClr val="0033cc"/>
                </a:solidFill>
                <a:latin typeface="Arial"/>
              </a:rPr>
              <a:t>NTT</a:t>
            </a: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様へ納品担当より</a:t>
            </a:r>
            <a:r>
              <a:rPr b="0" lang="en-US" sz="800" spc="-1" strike="noStrike">
                <a:solidFill>
                  <a:srgbClr val="0033cc"/>
                </a:solidFill>
                <a:latin typeface="Arial"/>
              </a:rPr>
              <a:t>FAX</a:t>
            </a: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の上、ｺﾝｻﾙ依頼連絡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85080" y="1700280"/>
            <a:ext cx="1079640" cy="720720"/>
          </a:xfrm>
          <a:prstGeom prst="wedgeRectCallout">
            <a:avLst>
              <a:gd name="adj1" fmla="val -206615"/>
              <a:gd name="adj2" fmla="val -69601"/>
            </a:avLst>
          </a:prstGeom>
          <a:solidFill>
            <a:srgbClr val="ff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ｺﾝｻﾙｼｰﾄの内容をもとに</a:t>
            </a:r>
            <a:r>
              <a:rPr b="0" lang="en-US" sz="800" spc="-1" strike="noStrike">
                <a:solidFill>
                  <a:srgbClr val="0033cc"/>
                </a:solidFill>
                <a:latin typeface="Arial"/>
              </a:rPr>
              <a:t>NTT</a:t>
            </a: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コンサル担当様よりＵＳＥＮ営業担当者に必要事項をヒアリング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85080" y="2563920"/>
            <a:ext cx="1079640" cy="1081080"/>
          </a:xfrm>
          <a:prstGeom prst="wedgeRectCallout">
            <a:avLst>
              <a:gd name="adj1" fmla="val -184412"/>
              <a:gd name="adj2" fmla="val -98310"/>
            </a:avLst>
          </a:prstGeom>
          <a:solidFill>
            <a:srgbClr val="ff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コンサル担当様から</a:t>
            </a:r>
            <a:r>
              <a:rPr b="0" lang="en-US" sz="800" spc="-1" strike="noStrike">
                <a:solidFill>
                  <a:srgbClr val="0033cc"/>
                </a:solidFill>
                <a:latin typeface="Arial"/>
              </a:rPr>
              <a:t>USEN</a:t>
            </a: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担当への折り返しのお電話は、</a:t>
            </a:r>
            <a:r>
              <a:rPr b="0" lang="zh-CN" sz="800" spc="-1" strike="noStrike">
                <a:solidFill>
                  <a:srgbClr val="ff3300"/>
                </a:solidFill>
                <a:latin typeface="Arial"/>
              </a:rPr>
              <a:t>コンサル担当者様の業務状況に応じつつ実施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85080" y="3860640"/>
            <a:ext cx="1079640" cy="1224000"/>
          </a:xfrm>
          <a:prstGeom prst="wedgeRectCallout">
            <a:avLst>
              <a:gd name="adj1" fmla="val -254560"/>
              <a:gd name="adj2" fmla="val 28986"/>
            </a:avLst>
          </a:prstGeom>
          <a:solidFill>
            <a:srgbClr val="ff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工事、現調実施日までに、必ず</a:t>
            </a:r>
            <a:r>
              <a:rPr b="0" lang="en-US" sz="800" spc="-1" strike="noStrike">
                <a:solidFill>
                  <a:srgbClr val="0033cc"/>
                </a:solidFill>
                <a:latin typeface="Arial"/>
              </a:rPr>
              <a:t>USEN</a:t>
            </a: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にてビルキーマンにご了承を得ます。ご了承頂けない場合は、日程を再度調整する必要があることから、ｺﾝｻﾙ担当へご連絡いた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01080" y="4428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9/10/27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　改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6:04:52Z</dcterms:created>
  <dc:creator>usen_user</dc:creator>
  <dc:description/>
  <dc:language>en-US</dc:language>
  <cp:lastModifiedBy> </cp:lastModifiedBy>
  <dcterms:modified xsi:type="dcterms:W3CDTF">2009-10-31T02:15:14Z</dcterms:modified>
  <cp:revision>19</cp:revision>
  <dc:subject/>
  <dc:title>スライド 1</dc:title>
</cp:coreProperties>
</file>