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DF3-FA63-4252-8D46-1B42E780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128-058C-43CF-BC8C-D6150420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65E-C7AB-4DEF-B8C0-41A0BC77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F5B-2D62-4923-AADE-F269A772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B29-98BE-4498-AE73-69FF0338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9B3-FD03-4E3D-93BF-F80A8856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F14-6756-4BE0-9166-F79A79FF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6F3-23BD-47F1-B3AA-14BE1338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8ED-1EF8-4553-9108-39DC913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B2C-5DC6-44E3-B7FB-B9A47993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932-D784-4148-B835-1253D7C9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F12-2560-46F5-846B-9752CC65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6F04-0875-459F-837C-CF32DC7D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052640"/>
            <a:ext cx="7704000" cy="36003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4797360"/>
            <a:ext cx="7704000" cy="19447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928000" cy="35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7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島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様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間における業務店ノーコンサルフロー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333360"/>
            <a:ext cx="8928000" cy="64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9228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417480" y="476280"/>
            <a:ext cx="1800" cy="626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76280"/>
            <a:ext cx="194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営業担当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1200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404280"/>
            <a:ext cx="35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販売パートナー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9204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765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申込承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765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販売活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3"/>
            <a:endCxn id="54" idx="1"/>
          </p:cNvCxnSpPr>
          <p:nvPr/>
        </p:nvCxnSpPr>
        <p:spPr>
          <a:xfrm>
            <a:off x="1042920" y="873000"/>
            <a:ext cx="433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476360" y="1125360"/>
            <a:ext cx="936720" cy="216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コンサルシート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5080" y="4076640"/>
            <a:ext cx="719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事務処理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1413000"/>
            <a:ext cx="93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依頼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8" idx="3"/>
            <a:endCxn id="60" idx="1"/>
          </p:cNvCxnSpPr>
          <p:nvPr/>
        </p:nvCxnSpPr>
        <p:spPr>
          <a:xfrm>
            <a:off x="3276720" y="1557360"/>
            <a:ext cx="1945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445080" y="2494080"/>
            <a:ext cx="11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★</a:t>
            </a:r>
            <a:r>
              <a:rPr b="0" lang="zh-CN" sz="800" spc="-1" strike="noStrike" u="sng">
                <a:solidFill>
                  <a:srgbClr val="000000"/>
                </a:solidFill>
                <a:uFillTx/>
                <a:latin typeface="Arial"/>
              </a:rPr>
              <a:t>設備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G</a:t>
            </a:r>
            <a:r>
              <a:rPr b="0" lang="zh-CN" sz="800" spc="-1" strike="noStrike" u="sng">
                <a:solidFill>
                  <a:srgbClr val="000000"/>
                </a:solidFill>
                <a:uFillTx/>
                <a:latin typeface="Arial"/>
              </a:rPr>
              <a:t>の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77920"/>
            <a:ext cx="302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333360"/>
            <a:ext cx="0" cy="640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6" idx="3"/>
            <a:endCxn id="67" idx="3"/>
          </p:cNvCxnSpPr>
          <p:nvPr/>
        </p:nvCxnSpPr>
        <p:spPr>
          <a:xfrm flipH="1">
            <a:off x="3132000" y="2096280"/>
            <a:ext cx="3601080" cy="432000"/>
          </a:xfrm>
          <a:prstGeom prst="bentConnector3">
            <a:avLst>
              <a:gd name="adj1" fmla="val -6638"/>
            </a:avLst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79280" y="4292640"/>
            <a:ext cx="1656000" cy="3585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工事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現調日即決ｽｷｰ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476280"/>
            <a:ext cx="86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事務ｾﾝﾀ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476280"/>
            <a:ext cx="30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53" idx="2"/>
            <a:endCxn id="56" idx="1"/>
          </p:cNvCxnSpPr>
          <p:nvPr/>
        </p:nvCxnSpPr>
        <p:spPr>
          <a:xfrm flipH="1" rot="16200000">
            <a:off x="935640" y="692280"/>
            <a:ext cx="252720" cy="829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221440" y="1413000"/>
            <a:ext cx="1079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必要事項ﾋｱﾘﾝｸ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受付ﾃﾞｰﾀ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9440" y="1916280"/>
            <a:ext cx="194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及び工事可能日・現調可能日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非即決（設備工事待ち）の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0" idx="2"/>
            <a:endCxn id="66" idx="0"/>
          </p:cNvCxnSpPr>
          <p:nvPr/>
        </p:nvCxnSpPr>
        <p:spPr>
          <a:xfrm>
            <a:off x="5761080" y="1701720"/>
            <a:ext cx="3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885080" y="4042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備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5080" y="191628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及び工事可能日・現調可能日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非即決（設備工事待ち）の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56" idx="3"/>
            <a:endCxn id="58" idx="0"/>
          </p:cNvCxnSpPr>
          <p:nvPr/>
        </p:nvCxnSpPr>
        <p:spPr>
          <a:xfrm>
            <a:off x="2413080" y="1233360"/>
            <a:ext cx="39564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50920" y="1413000"/>
            <a:ext cx="936360" cy="215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利用状況ﾋｱﾘﾝｸ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56" idx="2"/>
            <a:endCxn id="76" idx="3"/>
          </p:cNvCxnSpPr>
          <p:nvPr/>
        </p:nvCxnSpPr>
        <p:spPr>
          <a:xfrm rot="5400000">
            <a:off x="1476360" y="1052280"/>
            <a:ext cx="179640" cy="757800"/>
          </a:xfrm>
          <a:prstGeom prst="bentConnector2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66" idx="1"/>
            <a:endCxn id="74" idx="3"/>
          </p:cNvCxnSpPr>
          <p:nvPr/>
        </p:nvCxnSpPr>
        <p:spPr>
          <a:xfrm flipH="1">
            <a:off x="3276720" y="2096280"/>
            <a:ext cx="151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24000" y="1916280"/>
            <a:ext cx="86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今後の工程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及び日程の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4" idx="1"/>
            <a:endCxn id="79" idx="3"/>
          </p:cNvCxnSpPr>
          <p:nvPr/>
        </p:nvCxnSpPr>
        <p:spPr>
          <a:xfrm flipH="1">
            <a:off x="1187280" y="2096280"/>
            <a:ext cx="218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1906560" y="2995560"/>
            <a:ext cx="936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結果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299556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ｺﾝｻﾙ結果確認及びﾃﾞｰﾀ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1" idx="3"/>
            <a:endCxn id="82" idx="1"/>
          </p:cNvCxnSpPr>
          <p:nvPr/>
        </p:nvCxnSpPr>
        <p:spPr>
          <a:xfrm>
            <a:off x="2843280" y="3139920"/>
            <a:ext cx="2808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9" idx="1"/>
            <a:endCxn id="81" idx="1"/>
          </p:cNvCxnSpPr>
          <p:nvPr/>
        </p:nvCxnSpPr>
        <p:spPr>
          <a:xfrm flipH="1" flipV="1" rot="10800000">
            <a:off x="324000" y="2095920"/>
            <a:ext cx="1582920" cy="1044000"/>
          </a:xfrm>
          <a:prstGeom prst="bentConnector3">
            <a:avLst>
              <a:gd name="adj1" fmla="val -146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340000" y="2419200"/>
            <a:ext cx="79200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USEN</a:t>
            </a: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戻り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419200"/>
            <a:ext cx="64764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状況説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67" idx="1"/>
            <a:endCxn id="85" idx="3"/>
          </p:cNvCxnSpPr>
          <p:nvPr/>
        </p:nvCxnSpPr>
        <p:spPr>
          <a:xfrm flipH="1">
            <a:off x="1187280" y="2527920"/>
            <a:ext cx="1153080" cy="360"/>
          </a:xfrm>
          <a:prstGeom prst="straightConnector1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403280" y="3502080"/>
            <a:ext cx="194472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GyaO S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フレッツ申込書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3949560"/>
            <a:ext cx="1295640" cy="703440"/>
          </a:xfrm>
          <a:prstGeom prst="wedgeRectCallout">
            <a:avLst>
              <a:gd name="adj1" fmla="val -45712"/>
              <a:gd name="adj2" fmla="val -78444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（記事欄記入項目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「即決ワン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管理番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上記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つは必ず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様担当者○○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1" idx="2"/>
            <a:endCxn id="87" idx="0"/>
          </p:cNvCxnSpPr>
          <p:nvPr/>
        </p:nvCxnSpPr>
        <p:spPr>
          <a:xfrm>
            <a:off x="2374920" y="3284640"/>
            <a:ext cx="108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300720" y="357336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ﾃﾞｰﾀ受信・突合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5229360"/>
            <a:ext cx="1008000" cy="431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結果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3"/>
            <a:endCxn id="91" idx="0"/>
          </p:cNvCxnSpPr>
          <p:nvPr/>
        </p:nvCxnSpPr>
        <p:spPr>
          <a:xfrm>
            <a:off x="6012000" y="4797360"/>
            <a:ext cx="1152000" cy="43236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1906560" y="5229360"/>
            <a:ext cx="7207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戻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5662440"/>
            <a:ext cx="1008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可能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2360" y="56624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5" idx="1"/>
            <a:endCxn id="96" idx="3"/>
          </p:cNvCxnSpPr>
          <p:nvPr/>
        </p:nvCxnSpPr>
        <p:spPr>
          <a:xfrm flipH="1">
            <a:off x="900000" y="5806080"/>
            <a:ext cx="439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7093080" y="48560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3300"/>
                </a:solidFill>
                <a:uFillTx/>
                <a:latin typeface="Arial"/>
              </a:rPr>
              <a:t>現調実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563256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93080" y="609300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6453360"/>
            <a:ext cx="1081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決定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6453360"/>
            <a:ext cx="1081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決定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1"/>
            <a:endCxn id="102" idx="3"/>
          </p:cNvCxnSpPr>
          <p:nvPr/>
        </p:nvCxnSpPr>
        <p:spPr>
          <a:xfrm flipH="1">
            <a:off x="3924360" y="6561000"/>
            <a:ext cx="646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012000" y="6453360"/>
            <a:ext cx="936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ﾃﾞｰﾀ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96" idx="2"/>
            <a:endCxn id="100" idx="1"/>
          </p:cNvCxnSpPr>
          <p:nvPr/>
        </p:nvCxnSpPr>
        <p:spPr>
          <a:xfrm flipH="1" rot="16200000">
            <a:off x="3709080" y="2816640"/>
            <a:ext cx="250920" cy="651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0" idx="2"/>
            <a:endCxn id="104" idx="3"/>
          </p:cNvCxnSpPr>
          <p:nvPr/>
        </p:nvCxnSpPr>
        <p:spPr>
          <a:xfrm rot="5400000">
            <a:off x="7056000" y="6200640"/>
            <a:ext cx="252720" cy="468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1"/>
            <a:endCxn id="101" idx="3"/>
          </p:cNvCxnSpPr>
          <p:nvPr/>
        </p:nvCxnSpPr>
        <p:spPr>
          <a:xfrm flipH="1">
            <a:off x="5651640" y="6561000"/>
            <a:ext cx="360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6372360" y="520056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7" idx="3"/>
            <a:endCxn id="90" idx="1"/>
          </p:cNvCxnSpPr>
          <p:nvPr/>
        </p:nvCxnSpPr>
        <p:spPr>
          <a:xfrm>
            <a:off x="3348000" y="3681360"/>
            <a:ext cx="2953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780000" y="765000"/>
            <a:ext cx="2808000" cy="432000"/>
          </a:xfrm>
          <a:prstGeom prst="wedgeRectCallout">
            <a:avLst>
              <a:gd name="adj1" fmla="val -71875"/>
              <a:gd name="adj2" fmla="val 115074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X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0120-564-75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EL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0120-498-2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受付時間 ：　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00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～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00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Arial"/>
              </a:rPr>
              <a:t>　担当：渡辺様・加藤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4795920"/>
            <a:ext cx="1656000" cy="288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非即決（設備工事待ち）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現調実施後の工事日決定ｽｷｰ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4724280"/>
            <a:ext cx="75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4581360"/>
            <a:ext cx="129564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3300"/>
                </a:solidFill>
                <a:uFillTx/>
                <a:latin typeface="Arial"/>
              </a:rPr>
              <a:t>工事・現調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357720"/>
            <a:ext cx="790560" cy="57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＜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USEN</a:t>
            </a: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事務ｾﾝﾀ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取次ﾃﾞｰﾀ受領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08080"/>
                </a:solidFill>
                <a:latin typeface="Arial"/>
              </a:rPr>
              <a:t>システム反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90" idx="2"/>
            <a:endCxn id="57" idx="0"/>
          </p:cNvCxnSpPr>
          <p:nvPr/>
        </p:nvCxnSpPr>
        <p:spPr>
          <a:xfrm>
            <a:off x="6804720" y="3789360"/>
            <a:ext cx="360" cy="287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5" name=""/>
          <p:cNvCxnSpPr>
            <a:stCxn id="57" idx="1"/>
            <a:endCxn id="93" idx="0"/>
          </p:cNvCxnSpPr>
          <p:nvPr/>
        </p:nvCxnSpPr>
        <p:spPr>
          <a:xfrm flipV="1" rot="10800000">
            <a:off x="5363640" y="4184640"/>
            <a:ext cx="1081440" cy="39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82" idx="3"/>
            <a:endCxn id="57" idx="3"/>
          </p:cNvCxnSpPr>
          <p:nvPr/>
        </p:nvCxnSpPr>
        <p:spPr>
          <a:xfrm flipH="1">
            <a:off x="7164360" y="3139920"/>
            <a:ext cx="216360" cy="1045080"/>
          </a:xfrm>
          <a:prstGeom prst="bentConnector3">
            <a:avLst>
              <a:gd name="adj1" fmla="val -107166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7" name=""/>
          <p:cNvCxnSpPr>
            <a:stCxn id="91" idx="2"/>
            <a:endCxn id="95" idx="3"/>
          </p:cNvCxnSpPr>
          <p:nvPr/>
        </p:nvCxnSpPr>
        <p:spPr>
          <a:xfrm rot="5400000">
            <a:off x="6659280" y="5302080"/>
            <a:ext cx="145440" cy="86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5227560"/>
            <a:ext cx="7920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状況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94" idx="1"/>
            <a:endCxn id="118" idx="3"/>
          </p:cNvCxnSpPr>
          <p:nvPr/>
        </p:nvCxnSpPr>
        <p:spPr>
          <a:xfrm flipH="1" flipV="1">
            <a:off x="1042920" y="5336280"/>
            <a:ext cx="864000" cy="216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5" idx="2"/>
            <a:endCxn id="82" idx="0"/>
          </p:cNvCxnSpPr>
          <p:nvPr/>
        </p:nvCxnSpPr>
        <p:spPr>
          <a:xfrm flipH="1" rot="16200000">
            <a:off x="3510360" y="-10080"/>
            <a:ext cx="358920" cy="5653080"/>
          </a:xfrm>
          <a:prstGeom prst="bentConnector5">
            <a:avLst>
              <a:gd name="adj1" fmla="val 64457"/>
              <a:gd name="adj2" fmla="val 45217"/>
              <a:gd name="adj3" fmla="val 35341"/>
            </a:avLst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266920" y="5661000"/>
            <a:ext cx="936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調整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609300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結果連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91" idx="1"/>
            <a:endCxn id="94" idx="3"/>
          </p:cNvCxnSpPr>
          <p:nvPr/>
        </p:nvCxnSpPr>
        <p:spPr>
          <a:xfrm rot="10800000">
            <a:off x="2626920" y="5338080"/>
            <a:ext cx="4032720" cy="107640"/>
          </a:xfrm>
          <a:prstGeom prst="bentConnector3">
            <a:avLst>
              <a:gd name="adj1" fmla="val 5009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85080" y="901800"/>
            <a:ext cx="1079640" cy="655560"/>
          </a:xfrm>
          <a:prstGeom prst="wedgeRectCallout">
            <a:avLst>
              <a:gd name="adj1" fmla="val -209851"/>
              <a:gd name="adj2" fmla="val -46365"/>
            </a:avLst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指定時間内においてｺﾝｻﾙｼｰﾄを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様へ納品担当より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の上、ｺﾝｻﾙ依頼連絡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1700280"/>
            <a:ext cx="1079640" cy="720720"/>
          </a:xfrm>
          <a:prstGeom prst="wedgeRectCallout">
            <a:avLst>
              <a:gd name="adj1" fmla="val -206615"/>
              <a:gd name="adj2" fmla="val -69601"/>
            </a:avLst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ｺﾝｻﾙｼｰﾄの内容をもとに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コンサル担当様よりＵＳＥＮ営業担当者に必要事項をヒアリング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563920"/>
            <a:ext cx="1079640" cy="720720"/>
          </a:xfrm>
          <a:prstGeom prst="wedgeRectCallout">
            <a:avLst>
              <a:gd name="adj1" fmla="val -184412"/>
              <a:gd name="adj2" fmla="val -122467"/>
            </a:avLst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コンサル担当様から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担当への折り返しのお電話は、基本的に半日を目処に実施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5080" y="3429000"/>
            <a:ext cx="1079640" cy="1224000"/>
          </a:xfrm>
          <a:prstGeom prst="wedgeRectCallout">
            <a:avLst>
              <a:gd name="adj1" fmla="val -248824"/>
              <a:gd name="adj2" fmla="val 58819"/>
            </a:avLst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工事、現調実施日までに、必ず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にてビルキーマンにご了承を得ます。ご了承頂けない場合は、日程を再度調整する必要があることから、ｺﾝｻﾙ担当へご連絡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01080" y="4428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/10/27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48428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33cc"/>
                </a:solidFill>
                <a:uFillTx/>
                <a:latin typeface="Arial"/>
              </a:rPr>
              <a:t>ｺﾝｻﾙﾃｨﾝｸﾞ実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6:04:52Z</dcterms:created>
  <dc:creator>usen_user</dc:creator>
  <dc:description/>
  <dc:language>en-US</dc:language>
  <cp:lastModifiedBy> </cp:lastModifiedBy>
  <dcterms:modified xsi:type="dcterms:W3CDTF">2009-10-27T01:30:10Z</dcterms:modified>
  <cp:revision>24</cp:revision>
  <dc:subject/>
  <dc:title>スライド 1</dc:title>
</cp:coreProperties>
</file>