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FCC-D4C5-49C7-8B0C-4475CBC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677-1DE0-486C-AE15-7B49B9E0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436-4A53-453B-B952-94745743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4BA-1CEC-44CA-B1C6-846218BC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A6D-832F-4004-A4A2-C7EE574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067-58A7-410B-93B9-2AF63FDA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2F5-0BEF-46F6-AC6C-EDD766F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D29-08A1-4BDA-BA9C-1D759533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54E-B1BE-4AFA-8888-E1A28A3A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081-FE34-40BC-89C5-1F002D0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B5B-584B-44A3-A168-BE29542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D8F-B6F1-448C-983D-3B766D4B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F28-AF50-4593-8995-740DF2B5C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781360"/>
            <a:ext cx="2016360" cy="288720"/>
          </a:xfrm>
          <a:prstGeom prst="wedgeRectCallout">
            <a:avLst>
              <a:gd name="adj1" fmla="val 45356"/>
              <a:gd name="adj2" fmla="val 604393"/>
            </a:avLst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お申込取次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支店控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3440" y="2133720"/>
            <a:ext cx="1079640" cy="194292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076640"/>
            <a:ext cx="2590560" cy="259236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836640"/>
            <a:ext cx="2952720" cy="3672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333360"/>
            <a:ext cx="8928000" cy="431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＜四国版＞業務店ノーコンサルｽｷｰﾑにおける社内書類運用フロ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76500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644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0972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申込承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909720"/>
            <a:ext cx="79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活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3"/>
            <a:endCxn id="53" idx="1"/>
          </p:cNvCxnSpPr>
          <p:nvPr/>
        </p:nvCxnSpPr>
        <p:spPr>
          <a:xfrm>
            <a:off x="971640" y="1017360"/>
            <a:ext cx="28764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763640" y="1268280"/>
            <a:ext cx="936720" cy="216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コンサルシート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119844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ノーコンサ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受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348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5364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納品担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2" idx="2"/>
            <a:endCxn id="55" idx="1"/>
          </p:cNvCxnSpPr>
          <p:nvPr/>
        </p:nvCxnSpPr>
        <p:spPr>
          <a:xfrm flipH="1" rot="16200000">
            <a:off x="1062000" y="674280"/>
            <a:ext cx="251280" cy="11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8317080" y="483120"/>
            <a:ext cx="718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事務センタ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6" idx="2"/>
            <a:endCxn id="64" idx="3"/>
          </p:cNvCxnSpPr>
          <p:nvPr/>
        </p:nvCxnSpPr>
        <p:spPr>
          <a:xfrm rot="5400000">
            <a:off x="4913640" y="-945360"/>
            <a:ext cx="252000" cy="525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258920" y="2205000"/>
            <a:ext cx="144144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レッ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申込書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1557360"/>
            <a:ext cx="1368360" cy="577800"/>
          </a:xfrm>
          <a:prstGeom prst="wedgeRectCallout">
            <a:avLst>
              <a:gd name="adj1" fmla="val 46634"/>
              <a:gd name="adj2" fmla="val 829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西日本連絡欄記入項目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・「即応ワン」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・工事予定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581360"/>
            <a:ext cx="935280" cy="432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不備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4653000"/>
            <a:ext cx="503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営業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4797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不備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01080" y="4428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/10/27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14920" y="333360"/>
            <a:ext cx="180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549360"/>
            <a:ext cx="25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所属支店事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9440" y="1700280"/>
            <a:ext cx="8618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工事日確定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4" idx="2"/>
            <a:endCxn id="65" idx="0"/>
          </p:cNvCxnSpPr>
          <p:nvPr/>
        </p:nvCxnSpPr>
        <p:spPr>
          <a:xfrm flipH="1">
            <a:off x="1979640" y="1917720"/>
            <a:ext cx="1080" cy="28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302520" y="2205000"/>
            <a:ext cx="574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顧客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発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5" idx="3"/>
            <a:endCxn id="75" idx="1"/>
          </p:cNvCxnSpPr>
          <p:nvPr/>
        </p:nvCxnSpPr>
        <p:spPr>
          <a:xfrm>
            <a:off x="2700360" y="2384280"/>
            <a:ext cx="3602520" cy="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547640" y="3141720"/>
            <a:ext cx="8654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提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42210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65" idx="2"/>
            <a:endCxn id="77" idx="0"/>
          </p:cNvCxnSpPr>
          <p:nvPr/>
        </p:nvCxnSpPr>
        <p:spPr>
          <a:xfrm>
            <a:off x="1979640" y="2563920"/>
            <a:ext cx="1080" cy="57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380360" y="55166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29440" y="2924280"/>
            <a:ext cx="64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67" idx="2"/>
            <a:endCxn id="83" idx="1"/>
          </p:cNvCxnSpPr>
          <p:nvPr/>
        </p:nvCxnSpPr>
        <p:spPr>
          <a:xfrm flipH="1" rot="16200000">
            <a:off x="6570360" y="3266640"/>
            <a:ext cx="142920" cy="3636360"/>
          </a:xfrm>
          <a:prstGeom prst="bentConnector4">
            <a:avLst>
              <a:gd name="adj1" fmla="val 163131"/>
              <a:gd name="adj2" fmla="val 56524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5219640" y="54165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45529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zh-CN" sz="1000" spc="-1" strike="noStrike" u="sng">
                <a:solidFill>
                  <a:srgbClr val="ff3300"/>
                </a:solidFill>
                <a:uFillTx/>
                <a:latin typeface="Arial"/>
              </a:rPr>
              <a:t>郵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6308640"/>
            <a:ext cx="79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取次報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0360" y="6381720"/>
            <a:ext cx="5047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報告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8" idx="2"/>
            <a:endCxn id="67" idx="0"/>
          </p:cNvCxnSpPr>
          <p:nvPr/>
        </p:nvCxnSpPr>
        <p:spPr>
          <a:xfrm flipH="1">
            <a:off x="4823640" y="4437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67" idx="1"/>
            <a:endCxn id="68" idx="3"/>
          </p:cNvCxnSpPr>
          <p:nvPr/>
        </p:nvCxnSpPr>
        <p:spPr>
          <a:xfrm flipH="1">
            <a:off x="3995640" y="4797360"/>
            <a:ext cx="3607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380360" y="5950080"/>
            <a:ext cx="503280" cy="287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反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7" idx="0"/>
            <a:endCxn id="90" idx="3"/>
          </p:cNvCxnSpPr>
          <p:nvPr/>
        </p:nvCxnSpPr>
        <p:spPr>
          <a:xfrm flipH="1" flipV="1">
            <a:off x="7632000" y="6237360"/>
            <a:ext cx="1080" cy="144720"/>
          </a:xfrm>
          <a:prstGeom prst="straightConnector1">
            <a:avLst/>
          </a:prstGeom>
          <a:ln w="9360">
            <a:solidFill>
              <a:srgbClr val="c0c0c0"/>
            </a:solidFill>
            <a:prstDash val="dash"/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90" idx="1"/>
          </p:cNvCxnSpPr>
          <p:nvPr/>
        </p:nvCxnSpPr>
        <p:spPr>
          <a:xfrm flipH="1">
            <a:off x="7632000" y="5805360"/>
            <a:ext cx="1080" cy="145080"/>
          </a:xfrm>
          <a:prstGeom prst="straightConnector1">
            <a:avLst/>
          </a:prstGeom>
          <a:ln w="9360">
            <a:solidFill>
              <a:srgbClr val="c0c0c0"/>
            </a:solidFill>
            <a:prstDash val="dash"/>
            <a:miter/>
            <a:tailEnd len="med" type="triangle" w="med"/>
          </a:ln>
        </p:spPr>
      </p:cxnSp>
      <p:cxnSp>
        <p:nvCxnSpPr>
          <p:cNvPr id="93" name=""/>
          <p:cNvCxnSpPr>
            <a:stCxn id="68" idx="1"/>
            <a:endCxn id="94" idx="1"/>
          </p:cNvCxnSpPr>
          <p:nvPr/>
        </p:nvCxnSpPr>
        <p:spPr>
          <a:xfrm rot="10800000">
            <a:off x="1620360" y="4328640"/>
            <a:ext cx="1872000" cy="468720"/>
          </a:xfrm>
          <a:prstGeom prst="bentConnector3">
            <a:avLst>
              <a:gd name="adj1" fmla="val 11238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" name=""/>
          <p:cNvCxnSpPr>
            <a:stCxn id="77" idx="3"/>
            <a:endCxn id="78" idx="0"/>
          </p:cNvCxnSpPr>
          <p:nvPr/>
        </p:nvCxnSpPr>
        <p:spPr>
          <a:xfrm>
            <a:off x="2413080" y="3250440"/>
            <a:ext cx="2411640" cy="970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1620720" y="42210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不備解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3"/>
            <a:endCxn id="78" idx="1"/>
          </p:cNvCxnSpPr>
          <p:nvPr/>
        </p:nvCxnSpPr>
        <p:spPr>
          <a:xfrm>
            <a:off x="2268360" y="4329000"/>
            <a:ext cx="2232720" cy="3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>
            <a:stCxn id="86" idx="3"/>
            <a:endCxn id="87" idx="1"/>
          </p:cNvCxnSpPr>
          <p:nvPr/>
        </p:nvCxnSpPr>
        <p:spPr>
          <a:xfrm>
            <a:off x="5148360" y="6452280"/>
            <a:ext cx="2232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796000" y="54936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管轄支店事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536400"/>
            <a:ext cx="21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営業担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549360"/>
            <a:ext cx="7201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7" idx="3"/>
            <a:endCxn id="81" idx="1"/>
          </p:cNvCxnSpPr>
          <p:nvPr/>
        </p:nvCxnSpPr>
        <p:spPr>
          <a:xfrm flipV="1">
            <a:off x="5291280" y="3068640"/>
            <a:ext cx="938520" cy="1729080"/>
          </a:xfrm>
          <a:prstGeom prst="bentConnector3">
            <a:avLst>
              <a:gd name="adj1" fmla="val 50383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459640" y="5011560"/>
            <a:ext cx="50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9440" y="34290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保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1" idx="2"/>
            <a:endCxn id="102" idx="0"/>
          </p:cNvCxnSpPr>
          <p:nvPr/>
        </p:nvCxnSpPr>
        <p:spPr>
          <a:xfrm>
            <a:off x="6553080" y="32130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156360" y="4437000"/>
            <a:ext cx="1944720" cy="289080"/>
          </a:xfrm>
          <a:prstGeom prst="wedgeRectCallout">
            <a:avLst>
              <a:gd name="adj1" fmla="val -83143"/>
              <a:gd name="adj2" fmla="val 166481"/>
            </a:avLst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お申込取次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本社控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4913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2708280"/>
            <a:ext cx="865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所属支店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捺印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219560"/>
            <a:ext cx="576360" cy="289080"/>
          </a:xfrm>
          <a:prstGeom prst="foldedCorner">
            <a:avLst>
              <a:gd name="adj" fmla="val 36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営業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381720"/>
            <a:ext cx="576000" cy="289080"/>
          </a:xfrm>
          <a:prstGeom prst="foldedCorner">
            <a:avLst>
              <a:gd name="adj" fmla="val 363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所属支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787920"/>
            <a:ext cx="576000" cy="288720"/>
          </a:xfrm>
          <a:prstGeom prst="foldedCorner">
            <a:avLst>
              <a:gd name="adj" fmla="val 363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管轄支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836640"/>
            <a:ext cx="1512720" cy="431640"/>
          </a:xfrm>
          <a:prstGeom prst="wedgeRectCallout">
            <a:avLst>
              <a:gd name="adj1" fmla="val -104143"/>
              <a:gd name="adj2" fmla="val 277939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工事日決定後の取次なので「工事日手配済み」として手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877000"/>
            <a:ext cx="1008360" cy="287280"/>
          </a:xfrm>
          <a:prstGeom prst="wedgeRectCallout">
            <a:avLst>
              <a:gd name="adj1" fmla="val 82597"/>
              <a:gd name="adj2" fmla="val 164916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月度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所属支店より報告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3" idx="3"/>
            <a:endCxn id="80" idx="1"/>
          </p:cNvCxnSpPr>
          <p:nvPr/>
        </p:nvCxnSpPr>
        <p:spPr>
          <a:xfrm flipV="1">
            <a:off x="5148360" y="5661000"/>
            <a:ext cx="2232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3" idx="2"/>
            <a:endCxn id="86" idx="0"/>
          </p:cNvCxnSpPr>
          <p:nvPr/>
        </p:nvCxnSpPr>
        <p:spPr>
          <a:xfrm>
            <a:off x="4752000" y="5805360"/>
            <a:ext cx="36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356000" y="5518080"/>
            <a:ext cx="79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書類支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F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62085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zh-CN" sz="1000" spc="-1" strike="noStrike" u="sng">
                <a:solidFill>
                  <a:srgbClr val="ff3300"/>
                </a:solidFill>
                <a:uFillTx/>
                <a:latin typeface="Arial"/>
              </a:rPr>
              <a:t>ﾒｰ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55" idx="3"/>
            <a:endCxn id="56" idx="1"/>
          </p:cNvCxnSpPr>
          <p:nvPr/>
        </p:nvCxnSpPr>
        <p:spPr>
          <a:xfrm>
            <a:off x="2700360" y="1376280"/>
            <a:ext cx="4680360" cy="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8101080" y="693720"/>
            <a:ext cx="576360" cy="503280"/>
          </a:xfrm>
          <a:prstGeom prst="ellipse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四国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対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56" idx="0"/>
            <a:endCxn id="117" idx="2"/>
          </p:cNvCxnSpPr>
          <p:nvPr/>
        </p:nvCxnSpPr>
        <p:spPr>
          <a:xfrm flipV="1">
            <a:off x="7668360" y="945360"/>
            <a:ext cx="433080" cy="253440"/>
          </a:xfrm>
          <a:prstGeom prst="straightConnector1">
            <a:avLst/>
          </a:prstGeom>
          <a:ln w="9360">
            <a:solidFill>
              <a:srgbClr val="c0c0c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2340000" y="3645000"/>
            <a:ext cx="2016000" cy="288720"/>
          </a:xfrm>
          <a:prstGeom prst="wedgeRectCallout">
            <a:avLst>
              <a:gd name="adj1" fmla="val -62833"/>
              <a:gd name="adj2" fmla="val -179671"/>
            </a:avLst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お申込取次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支店控】</a:t>
            </a:r>
            <a:r>
              <a:rPr b="0" lang="ja-JP" sz="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本社控え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11253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7733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5157720"/>
            <a:ext cx="1944720" cy="289080"/>
          </a:xfrm>
          <a:prstGeom prst="wedgeRectCallout">
            <a:avLst>
              <a:gd name="adj1" fmla="val 110981"/>
              <a:gd name="adj2" fmla="val 80768"/>
            </a:avLst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お申込取次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コピー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133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zh-CN" sz="1000" spc="-1" strike="noStrike" u="sng">
                <a:solidFill>
                  <a:srgbClr val="ff3300"/>
                </a:solidFill>
                <a:uFillTx/>
                <a:latin typeface="Arial"/>
              </a:rPr>
              <a:t>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56" idx="3"/>
            <a:endCxn id="90" idx="4"/>
          </p:cNvCxnSpPr>
          <p:nvPr/>
        </p:nvCxnSpPr>
        <p:spPr>
          <a:xfrm flipH="1">
            <a:off x="7883640" y="1377720"/>
            <a:ext cx="73440" cy="4716360"/>
          </a:xfrm>
          <a:prstGeom prst="bentConnector3">
            <a:avLst>
              <a:gd name="adj1" fmla="val -316256"/>
            </a:avLst>
          </a:prstGeom>
          <a:ln w="9360">
            <a:solidFill>
              <a:srgbClr val="c0c0c0"/>
            </a:solidFill>
            <a:prstDash val="dash"/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022400" y="2803680"/>
            <a:ext cx="503280" cy="450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反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統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発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04:52Z</dcterms:created>
  <dc:creator>usen_user</dc:creator>
  <dc:description/>
  <dc:language>en-US</dc:language>
  <cp:lastModifiedBy> </cp:lastModifiedBy>
  <dcterms:modified xsi:type="dcterms:W3CDTF">2009-10-28T08:33:14Z</dcterms:modified>
  <cp:revision>28</cp:revision>
  <dc:subject/>
  <dc:title>スライド 1</dc:title>
</cp:coreProperties>
</file>