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C3E8-3A37-4CFB-8280-40CBA1E9D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4640-E6B3-41B9-8BD5-0D2384D4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C817-7C8D-4254-9AA1-643D4C3A5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6023-ACA5-4539-BE73-D1B68A110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B9EF-7037-406C-A3A8-A29510BF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00EE-BEAB-4848-8F34-1221DF0F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FBFC-48E5-4AAA-A1A3-AA3AE61B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0954-2681-4473-922C-EB329DCB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B269-DDA0-4EFE-8655-CE16E13B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7CDF-2133-4E7A-821B-19E5D2C1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9007-CF55-4FDE-A1D8-184AC59B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03CC-AE5D-448E-A0A6-1C0E7E38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2755-33F1-47B7-A4CF-C71E9CB79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332000" y="2349360"/>
            <a:ext cx="64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兵庫エリアにおけ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即応コンサルティングスキームのご提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（ファミリータイプ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975040" y="4067280"/>
            <a:ext cx="311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平成２３年●月●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ＮＴＴ西日本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―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兵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代理店営業部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0" y="3618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-17640" y="1440"/>
            <a:ext cx="502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■ </a:t>
            </a: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即決概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468360" y="1495440"/>
            <a:ext cx="172872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受付商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68360" y="2360520"/>
            <a:ext cx="172872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受付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2341440" y="1495440"/>
            <a:ext cx="63360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■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フレッツ光ネクスト・フレッツ光プレミアム・Ｂフレッツのファミリータイ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■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ひかり電話　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※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同番移行のお客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468360" y="620640"/>
            <a:ext cx="172872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受付ユー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2341440" y="620640"/>
            <a:ext cx="63360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■</a:t>
            </a:r>
            <a:r>
              <a:rPr b="1" lang="ja-JP" sz="1200" spc="-1" strike="noStrike">
                <a:solidFill>
                  <a:srgbClr val="ff0000"/>
                </a:solidFill>
                <a:latin typeface="Arial"/>
                <a:ea typeface="HG丸ｺﾞｼｯｸM-PRO"/>
              </a:rPr>
              <a:t>ファミリータイプ（即決可）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のお客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  <a:ea typeface="HG丸ｺﾞｼｯｸM-PRO"/>
              </a:rPr>
              <a:t>※</a:t>
            </a:r>
            <a:r>
              <a:rPr b="1" lang="ja-JP" sz="900" spc="-1" strike="noStrike">
                <a:solidFill>
                  <a:srgbClr val="ff0000"/>
                </a:solidFill>
                <a:latin typeface="Arial"/>
                <a:ea typeface="HG丸ｺﾞｼｯｸM-PRO"/>
              </a:rPr>
              <a:t>下記ＦＤ（０１２０－６６６－６１２）にて事前に提供判定願いま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  <a:ea typeface="HG丸ｺﾞｼｯｸM-PRO"/>
              </a:rPr>
              <a:t>※</a:t>
            </a:r>
            <a:r>
              <a:rPr b="1" lang="ja-JP" sz="900" spc="-1" strike="noStrike">
                <a:solidFill>
                  <a:srgbClr val="ff0000"/>
                </a:solidFill>
                <a:latin typeface="Arial"/>
                <a:ea typeface="HG丸ｺﾞｼｯｸM-PRO"/>
              </a:rPr>
              <a:t>即決不可のものは代理店様にお戻しいたしま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2341440" y="2360520"/>
            <a:ext cx="633600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■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９：００～１９：００までの受付　（土日祝含む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　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※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１９時までに受付をしたお客様についてはご要望により２０時までにコンサルティングを実施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477720" y="4437000"/>
            <a:ext cx="1729080" cy="80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問い合わせ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2351160" y="4437000"/>
            <a:ext cx="6335640" cy="80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■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ＦＤ（提供判定）　　　　　：</a:t>
            </a:r>
            <a:r>
              <a:rPr b="1" lang="ja-JP" sz="1200" spc="-1" strike="noStrike">
                <a:solidFill>
                  <a:srgbClr val="ff0000"/>
                </a:solidFill>
                <a:latin typeface="Arial"/>
                <a:ea typeface="HG丸ｺﾞｼｯｸM-PRO"/>
              </a:rPr>
              <a:t>０１２０－６６６－６１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■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ＦＡＸ（ＦＡＸ即決取次票）：</a:t>
            </a:r>
            <a:r>
              <a:rPr b="1" lang="ja-JP" sz="1200" spc="-1" strike="noStrike">
                <a:solidFill>
                  <a:srgbClr val="ff0000"/>
                </a:solidFill>
                <a:latin typeface="Arial"/>
                <a:ea typeface="HG丸ｺﾞｼｯｸM-PRO"/>
              </a:rPr>
              <a:t>０１２０－０７１－６３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477720" y="5430960"/>
            <a:ext cx="1729080" cy="1093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その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2351160" y="5430960"/>
            <a:ext cx="6335640" cy="10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■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新エントリ即決取次の際に、記事欄に必ず「</a:t>
            </a:r>
            <a:r>
              <a:rPr b="1" lang="ja-JP" sz="1200" spc="-1" strike="noStrike" u="sng">
                <a:solidFill>
                  <a:srgbClr val="ff0000"/>
                </a:solidFill>
                <a:uFillTx/>
                <a:latin typeface="Arial"/>
                <a:ea typeface="HG丸ｺﾞｼｯｸM-PRO"/>
              </a:rPr>
              <a:t>即応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」とご記入願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■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代理店コンサルの場合は「ＦＡＸ即応取次票」の備考欄に「</a:t>
            </a:r>
            <a:r>
              <a:rPr b="1" lang="ja-JP" sz="1100" spc="-1" strike="noStrike" u="sng">
                <a:solidFill>
                  <a:srgbClr val="ff0000"/>
                </a:solidFill>
                <a:uFillTx/>
                <a:latin typeface="Arial"/>
                <a:ea typeface="HG丸ｺﾞｼｯｸM-PRO"/>
              </a:rPr>
              <a:t>代理店コンサル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」と記入願いま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4"/>
          <p:cNvSpPr/>
          <p:nvPr/>
        </p:nvSpPr>
        <p:spPr>
          <a:xfrm>
            <a:off x="468360" y="3355920"/>
            <a:ext cx="172872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コンサル指定可能範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2341440" y="3355920"/>
            <a:ext cx="633600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Arial"/>
                <a:ea typeface="HG丸ｺﾞｼｯｸM-PRO"/>
              </a:rPr>
              <a:t>当日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Arial"/>
                <a:ea typeface="HG丸ｺﾞｼｯｸM-PRO"/>
              </a:rPr>
              <a:t>（最短：申込の１時間後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※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希望日に連絡つかない場合は、翌日持ち越しなし。翌日１０時代理店様へお戻しいた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8196480" y="47520"/>
            <a:ext cx="798120" cy="231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ファミリータイプ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95400" y="620640"/>
            <a:ext cx="896436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0" y="-9360"/>
            <a:ext cx="65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工事日即決スキーム業務フロー（兵庫コンサルセンター版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96840" y="625320"/>
            <a:ext cx="8964720" cy="604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6"/>
          <p:cNvSpPr/>
          <p:nvPr/>
        </p:nvSpPr>
        <p:spPr>
          <a:xfrm>
            <a:off x="1116000" y="620640"/>
            <a:ext cx="0" cy="604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349560" y="83664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お客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>
            <a:off x="3564000" y="620640"/>
            <a:ext cx="0" cy="604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2020680" y="6285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代理店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1"/>
          <p:cNvSpPr/>
          <p:nvPr/>
        </p:nvSpPr>
        <p:spPr>
          <a:xfrm>
            <a:off x="1116000" y="981000"/>
            <a:ext cx="795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5810760" y="6462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ＮＴＴ西日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5709240" y="100980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兵庫コンサルセン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5"/>
          <p:cNvSpPr/>
          <p:nvPr/>
        </p:nvSpPr>
        <p:spPr>
          <a:xfrm>
            <a:off x="2327400" y="981000"/>
            <a:ext cx="0" cy="568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1433160" y="10270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営業担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7"/>
          <p:cNvSpPr/>
          <p:nvPr/>
        </p:nvSpPr>
        <p:spPr>
          <a:xfrm>
            <a:off x="1309680" y="1531800"/>
            <a:ext cx="86508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商品勧奨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8"/>
          <p:cNvSpPr/>
          <p:nvPr/>
        </p:nvSpPr>
        <p:spPr>
          <a:xfrm>
            <a:off x="179280" y="2924280"/>
            <a:ext cx="865440" cy="433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申込意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9"/>
          <p:cNvSpPr/>
          <p:nvPr/>
        </p:nvSpPr>
        <p:spPr>
          <a:xfrm>
            <a:off x="1284120" y="2917800"/>
            <a:ext cx="865440" cy="433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お客様情報確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本人性確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0"/>
          <p:cNvSpPr/>
          <p:nvPr/>
        </p:nvSpPr>
        <p:spPr>
          <a:xfrm>
            <a:off x="2509920" y="2917800"/>
            <a:ext cx="865080" cy="433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取次票記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1"/>
          <p:cNvSpPr/>
          <p:nvPr/>
        </p:nvSpPr>
        <p:spPr>
          <a:xfrm>
            <a:off x="204840" y="4146480"/>
            <a:ext cx="792000" cy="236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工事日決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AutoShape 22"/>
          <p:cNvCxnSpPr>
            <a:stCxn id="77" idx="1"/>
            <a:endCxn id="75" idx="3"/>
          </p:cNvCxnSpPr>
          <p:nvPr/>
        </p:nvCxnSpPr>
        <p:spPr>
          <a:xfrm flipV="1" rot="10800000">
            <a:off x="996120" y="4261320"/>
            <a:ext cx="4464720" cy="396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Rectangle 23"/>
          <p:cNvSpPr/>
          <p:nvPr/>
        </p:nvSpPr>
        <p:spPr>
          <a:xfrm>
            <a:off x="1717560" y="4143240"/>
            <a:ext cx="3024360" cy="25884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ff3300"/>
                </a:solidFill>
                <a:latin typeface="HGP創英角ｺﾞｼｯｸUB"/>
                <a:ea typeface="HGP創英角ｺﾞｼｯｸUB"/>
              </a:rPr>
              <a:t>コンサルテ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AutoShape 24"/>
          <p:cNvCxnSpPr>
            <a:stCxn id="74" idx="3"/>
            <a:endCxn id="80" idx="1"/>
          </p:cNvCxnSpPr>
          <p:nvPr/>
        </p:nvCxnSpPr>
        <p:spPr>
          <a:xfrm flipV="1">
            <a:off x="3375000" y="3017520"/>
            <a:ext cx="2086560" cy="118080"/>
          </a:xfrm>
          <a:prstGeom prst="bentConnector3">
            <a:avLst>
              <a:gd name="adj1" fmla="val 4992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AutoShape 25"/>
          <p:cNvCxnSpPr>
            <a:stCxn id="73" idx="3"/>
            <a:endCxn id="74" idx="1"/>
          </p:cNvCxnSpPr>
          <p:nvPr/>
        </p:nvCxnSpPr>
        <p:spPr>
          <a:xfrm>
            <a:off x="2149200" y="3134880"/>
            <a:ext cx="36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82" name="Picture 26" descr="MCj03979610000[1]"/>
          <p:cNvPicPr/>
          <p:nvPr/>
        </p:nvPicPr>
        <p:blipFill>
          <a:blip r:embed="rId1"/>
          <a:stretch/>
        </p:blipFill>
        <p:spPr>
          <a:xfrm>
            <a:off x="2162160" y="3016080"/>
            <a:ext cx="246240" cy="247680"/>
          </a:xfrm>
          <a:prstGeom prst="rect">
            <a:avLst/>
          </a:prstGeom>
          <a:ln w="0">
            <a:noFill/>
          </a:ln>
        </p:spPr>
      </p:pic>
      <p:cxnSp>
        <p:nvCxnSpPr>
          <p:cNvPr id="83" name="AutoShape 27"/>
          <p:cNvCxnSpPr>
            <a:stCxn id="80" idx="2"/>
            <a:endCxn id="77" idx="0"/>
          </p:cNvCxnSpPr>
          <p:nvPr/>
        </p:nvCxnSpPr>
        <p:spPr>
          <a:xfrm>
            <a:off x="6289200" y="3135240"/>
            <a:ext cx="108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AutoShape 28"/>
          <p:cNvSpPr/>
          <p:nvPr/>
        </p:nvSpPr>
        <p:spPr>
          <a:xfrm>
            <a:off x="5460840" y="2898720"/>
            <a:ext cx="1657440" cy="23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受電・お客様情報確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9"/>
          <p:cNvSpPr/>
          <p:nvPr/>
        </p:nvSpPr>
        <p:spPr>
          <a:xfrm>
            <a:off x="5460840" y="3306600"/>
            <a:ext cx="1657440" cy="236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受付簿記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0"/>
          <p:cNvSpPr/>
          <p:nvPr/>
        </p:nvSpPr>
        <p:spPr>
          <a:xfrm>
            <a:off x="5451480" y="3728880"/>
            <a:ext cx="1657440" cy="23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コンサル資料準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1"/>
          <p:cNvSpPr/>
          <p:nvPr/>
        </p:nvSpPr>
        <p:spPr>
          <a:xfrm>
            <a:off x="5460840" y="4143240"/>
            <a:ext cx="1657440" cy="23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架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32"/>
          <p:cNvGrpSpPr/>
          <p:nvPr/>
        </p:nvGrpSpPr>
        <p:grpSpPr>
          <a:xfrm>
            <a:off x="2754360" y="5979960"/>
            <a:ext cx="431280" cy="358920"/>
            <a:chOff x="2754360" y="5979960"/>
            <a:chExt cx="431280" cy="358920"/>
          </a:xfrm>
        </p:grpSpPr>
        <p:sp>
          <p:nvSpPr>
            <p:cNvPr id="87" name="Freeform 33"/>
            <p:cNvSpPr/>
            <p:nvPr/>
          </p:nvSpPr>
          <p:spPr>
            <a:xfrm>
              <a:off x="3087720" y="6292440"/>
              <a:ext cx="64440" cy="32400"/>
            </a:xfrm>
            <a:custGeom>
              <a:avLst/>
              <a:gdLst/>
              <a:ahLst/>
              <a:rect l="l" t="t" r="r" b="b"/>
              <a:pathLst>
                <a:path w="2432" h="1301">
                  <a:moveTo>
                    <a:pt x="2410" y="1173"/>
                  </a:moveTo>
                  <a:lnTo>
                    <a:pt x="1270" y="23"/>
                  </a:lnTo>
                  <a:lnTo>
                    <a:pt x="1267" y="20"/>
                  </a:lnTo>
                  <a:lnTo>
                    <a:pt x="1264" y="18"/>
                  </a:lnTo>
                  <a:lnTo>
                    <a:pt x="1260" y="15"/>
                  </a:lnTo>
                  <a:lnTo>
                    <a:pt x="1257" y="13"/>
                  </a:lnTo>
                  <a:lnTo>
                    <a:pt x="1254" y="11"/>
                  </a:lnTo>
                  <a:lnTo>
                    <a:pt x="1251" y="8"/>
                  </a:lnTo>
                  <a:lnTo>
                    <a:pt x="1248" y="7"/>
                  </a:lnTo>
                  <a:lnTo>
                    <a:pt x="1244" y="5"/>
                  </a:lnTo>
                  <a:lnTo>
                    <a:pt x="1241" y="4"/>
                  </a:lnTo>
                  <a:lnTo>
                    <a:pt x="1237" y="3"/>
                  </a:lnTo>
                  <a:lnTo>
                    <a:pt x="1234" y="2"/>
                  </a:lnTo>
                  <a:lnTo>
                    <a:pt x="1230" y="1"/>
                  </a:lnTo>
                  <a:lnTo>
                    <a:pt x="1227" y="0"/>
                  </a:lnTo>
                  <a:lnTo>
                    <a:pt x="1223" y="0"/>
                  </a:lnTo>
                  <a:lnTo>
                    <a:pt x="1219" y="0"/>
                  </a:lnTo>
                  <a:lnTo>
                    <a:pt x="1216" y="0"/>
                  </a:lnTo>
                  <a:lnTo>
                    <a:pt x="75" y="0"/>
                  </a:lnTo>
                  <a:lnTo>
                    <a:pt x="67" y="0"/>
                  </a:lnTo>
                  <a:lnTo>
                    <a:pt x="60" y="1"/>
                  </a:lnTo>
                  <a:lnTo>
                    <a:pt x="52" y="3"/>
                  </a:lnTo>
                  <a:lnTo>
                    <a:pt x="46" y="5"/>
                  </a:lnTo>
                  <a:lnTo>
                    <a:pt x="39" y="9"/>
                  </a:lnTo>
                  <a:lnTo>
                    <a:pt x="33" y="13"/>
                  </a:lnTo>
                  <a:lnTo>
                    <a:pt x="27" y="18"/>
                  </a:lnTo>
                  <a:lnTo>
                    <a:pt x="22" y="23"/>
                  </a:lnTo>
                  <a:lnTo>
                    <a:pt x="17" y="28"/>
                  </a:lnTo>
                  <a:lnTo>
                    <a:pt x="13" y="34"/>
                  </a:lnTo>
                  <a:lnTo>
                    <a:pt x="8" y="40"/>
                  </a:lnTo>
                  <a:lnTo>
                    <a:pt x="5" y="46"/>
                  </a:lnTo>
                  <a:lnTo>
                    <a:pt x="3" y="53"/>
                  </a:lnTo>
                  <a:lnTo>
                    <a:pt x="1" y="61"/>
                  </a:lnTo>
                  <a:lnTo>
                    <a:pt x="0" y="69"/>
                  </a:lnTo>
                  <a:lnTo>
                    <a:pt x="0" y="77"/>
                  </a:lnTo>
                  <a:lnTo>
                    <a:pt x="0" y="84"/>
                  </a:lnTo>
                  <a:lnTo>
                    <a:pt x="1" y="91"/>
                  </a:lnTo>
                  <a:lnTo>
                    <a:pt x="3" y="99"/>
                  </a:lnTo>
                  <a:lnTo>
                    <a:pt x="5" y="105"/>
                  </a:lnTo>
                  <a:lnTo>
                    <a:pt x="8" y="112"/>
                  </a:lnTo>
                  <a:lnTo>
                    <a:pt x="13" y="119"/>
                  </a:lnTo>
                  <a:lnTo>
                    <a:pt x="17" y="125"/>
                  </a:lnTo>
                  <a:lnTo>
                    <a:pt x="22" y="130"/>
                  </a:lnTo>
                  <a:lnTo>
                    <a:pt x="27" y="135"/>
                  </a:lnTo>
                  <a:lnTo>
                    <a:pt x="33" y="139"/>
                  </a:lnTo>
                  <a:lnTo>
                    <a:pt x="39" y="143"/>
                  </a:lnTo>
                  <a:lnTo>
                    <a:pt x="46" y="146"/>
                  </a:lnTo>
                  <a:lnTo>
                    <a:pt x="52" y="148"/>
                  </a:lnTo>
                  <a:lnTo>
                    <a:pt x="60" y="150"/>
                  </a:lnTo>
                  <a:lnTo>
                    <a:pt x="67" y="151"/>
                  </a:lnTo>
                  <a:lnTo>
                    <a:pt x="75" y="152"/>
                  </a:lnTo>
                  <a:lnTo>
                    <a:pt x="1185" y="152"/>
                  </a:lnTo>
                  <a:lnTo>
                    <a:pt x="2303" y="1280"/>
                  </a:lnTo>
                  <a:lnTo>
                    <a:pt x="2308" y="1285"/>
                  </a:lnTo>
                  <a:lnTo>
                    <a:pt x="2314" y="1289"/>
                  </a:lnTo>
                  <a:lnTo>
                    <a:pt x="2321" y="1293"/>
                  </a:lnTo>
                  <a:lnTo>
                    <a:pt x="2327" y="1296"/>
                  </a:lnTo>
                  <a:lnTo>
                    <a:pt x="2334" y="1298"/>
                  </a:lnTo>
                  <a:lnTo>
                    <a:pt x="2342" y="1300"/>
                  </a:lnTo>
                  <a:lnTo>
                    <a:pt x="2349" y="1301"/>
                  </a:lnTo>
                  <a:lnTo>
                    <a:pt x="2357" y="1301"/>
                  </a:lnTo>
                  <a:lnTo>
                    <a:pt x="2364" y="1301"/>
                  </a:lnTo>
                  <a:lnTo>
                    <a:pt x="2371" y="1300"/>
                  </a:lnTo>
                  <a:lnTo>
                    <a:pt x="2378" y="1298"/>
                  </a:lnTo>
                  <a:lnTo>
                    <a:pt x="2385" y="1296"/>
                  </a:lnTo>
                  <a:lnTo>
                    <a:pt x="2391" y="1293"/>
                  </a:lnTo>
                  <a:lnTo>
                    <a:pt x="2398" y="1289"/>
                  </a:lnTo>
                  <a:lnTo>
                    <a:pt x="2404" y="1285"/>
                  </a:lnTo>
                  <a:lnTo>
                    <a:pt x="2410" y="1280"/>
                  </a:lnTo>
                  <a:lnTo>
                    <a:pt x="2415" y="1273"/>
                  </a:lnTo>
                  <a:lnTo>
                    <a:pt x="2419" y="1267"/>
                  </a:lnTo>
                  <a:lnTo>
                    <a:pt x="2423" y="1261"/>
                  </a:lnTo>
                  <a:lnTo>
                    <a:pt x="2427" y="1254"/>
                  </a:lnTo>
                  <a:lnTo>
                    <a:pt x="2429" y="1247"/>
                  </a:lnTo>
                  <a:lnTo>
                    <a:pt x="2431" y="1240"/>
                  </a:lnTo>
                  <a:lnTo>
                    <a:pt x="2432" y="1233"/>
                  </a:lnTo>
                  <a:lnTo>
                    <a:pt x="2432" y="1226"/>
                  </a:lnTo>
                  <a:lnTo>
                    <a:pt x="2432" y="1218"/>
                  </a:lnTo>
                  <a:lnTo>
                    <a:pt x="2431" y="1211"/>
                  </a:lnTo>
                  <a:lnTo>
                    <a:pt x="2429" y="1204"/>
                  </a:lnTo>
                  <a:lnTo>
                    <a:pt x="2427" y="1197"/>
                  </a:lnTo>
                  <a:lnTo>
                    <a:pt x="2423" y="1190"/>
                  </a:lnTo>
                  <a:lnTo>
                    <a:pt x="2419" y="1184"/>
                  </a:lnTo>
                  <a:lnTo>
                    <a:pt x="2415" y="1178"/>
                  </a:lnTo>
                  <a:lnTo>
                    <a:pt x="2410" y="1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34"/>
            <p:cNvSpPr/>
            <p:nvPr/>
          </p:nvSpPr>
          <p:spPr>
            <a:xfrm>
              <a:off x="3130920" y="6329520"/>
              <a:ext cx="52920" cy="7920"/>
            </a:xfrm>
            <a:prstGeom prst="rect">
              <a:avLst/>
            </a:prstGeom>
            <a:solidFill>
              <a:srgbClr val="e6e6df"/>
            </a:solidFill>
            <a:ln w="6480">
              <a:solidFill>
                <a:srgbClr val="8080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5"/>
            <p:cNvSpPr/>
            <p:nvPr/>
          </p:nvSpPr>
          <p:spPr>
            <a:xfrm>
              <a:off x="3130920" y="6305400"/>
              <a:ext cx="52920" cy="24120"/>
            </a:xfrm>
            <a:custGeom>
              <a:avLst/>
              <a:gdLst/>
              <a:ahLst/>
              <a:rect l="l" t="t" r="r" b="b"/>
              <a:pathLst>
                <a:path w="1997" h="1006">
                  <a:moveTo>
                    <a:pt x="1997" y="1006"/>
                  </a:moveTo>
                  <a:lnTo>
                    <a:pt x="1991" y="903"/>
                  </a:lnTo>
                  <a:lnTo>
                    <a:pt x="1976" y="803"/>
                  </a:lnTo>
                  <a:lnTo>
                    <a:pt x="1952" y="706"/>
                  </a:lnTo>
                  <a:lnTo>
                    <a:pt x="1918" y="614"/>
                  </a:lnTo>
                  <a:lnTo>
                    <a:pt x="1876" y="526"/>
                  </a:lnTo>
                  <a:lnTo>
                    <a:pt x="1826" y="443"/>
                  </a:lnTo>
                  <a:lnTo>
                    <a:pt x="1769" y="366"/>
                  </a:lnTo>
                  <a:lnTo>
                    <a:pt x="1704" y="295"/>
                  </a:lnTo>
                  <a:lnTo>
                    <a:pt x="1633" y="229"/>
                  </a:lnTo>
                  <a:lnTo>
                    <a:pt x="1556" y="171"/>
                  </a:lnTo>
                  <a:lnTo>
                    <a:pt x="1474" y="121"/>
                  </a:lnTo>
                  <a:lnTo>
                    <a:pt x="1386" y="78"/>
                  </a:lnTo>
                  <a:lnTo>
                    <a:pt x="1294" y="45"/>
                  </a:lnTo>
                  <a:lnTo>
                    <a:pt x="1199" y="20"/>
                  </a:lnTo>
                  <a:lnTo>
                    <a:pt x="1100" y="5"/>
                  </a:lnTo>
                  <a:lnTo>
                    <a:pt x="998" y="0"/>
                  </a:lnTo>
                  <a:lnTo>
                    <a:pt x="896" y="5"/>
                  </a:lnTo>
                  <a:lnTo>
                    <a:pt x="797" y="20"/>
                  </a:lnTo>
                  <a:lnTo>
                    <a:pt x="701" y="45"/>
                  </a:lnTo>
                  <a:lnTo>
                    <a:pt x="609" y="78"/>
                  </a:lnTo>
                  <a:lnTo>
                    <a:pt x="522" y="121"/>
                  </a:lnTo>
                  <a:lnTo>
                    <a:pt x="440" y="171"/>
                  </a:lnTo>
                  <a:lnTo>
                    <a:pt x="363" y="229"/>
                  </a:lnTo>
                  <a:lnTo>
                    <a:pt x="292" y="295"/>
                  </a:lnTo>
                  <a:lnTo>
                    <a:pt x="227" y="366"/>
                  </a:lnTo>
                  <a:lnTo>
                    <a:pt x="170" y="443"/>
                  </a:lnTo>
                  <a:lnTo>
                    <a:pt x="120" y="526"/>
                  </a:lnTo>
                  <a:lnTo>
                    <a:pt x="78" y="614"/>
                  </a:lnTo>
                  <a:lnTo>
                    <a:pt x="44" y="706"/>
                  </a:lnTo>
                  <a:lnTo>
                    <a:pt x="20" y="803"/>
                  </a:lnTo>
                  <a:lnTo>
                    <a:pt x="5" y="903"/>
                  </a:lnTo>
                  <a:lnTo>
                    <a:pt x="0" y="1006"/>
                  </a:lnTo>
                  <a:lnTo>
                    <a:pt x="1997" y="1006"/>
                  </a:lnTo>
                  <a:close/>
                </a:path>
              </a:pathLst>
            </a:custGeom>
            <a:solidFill>
              <a:srgbClr val="e6e6df"/>
            </a:solidFill>
            <a:ln w="6480">
              <a:solidFill>
                <a:srgbClr val="8080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6"/>
            <p:cNvSpPr/>
            <p:nvPr/>
          </p:nvSpPr>
          <p:spPr>
            <a:xfrm>
              <a:off x="2756520" y="6326280"/>
              <a:ext cx="362880" cy="11520"/>
            </a:xfrm>
            <a:prstGeom prst="rect">
              <a:avLst/>
            </a:prstGeom>
            <a:solidFill>
              <a:srgbClr val="e6e6df"/>
            </a:solidFill>
            <a:ln w="6480">
              <a:solidFill>
                <a:srgbClr val="8080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7"/>
            <p:cNvSpPr/>
            <p:nvPr/>
          </p:nvSpPr>
          <p:spPr>
            <a:xfrm>
              <a:off x="2862360" y="6253200"/>
              <a:ext cx="151200" cy="19440"/>
            </a:xfrm>
            <a:prstGeom prst="rect">
              <a:avLst/>
            </a:prstGeom>
            <a:solidFill>
              <a:srgbClr val="e6e6df"/>
            </a:solidFill>
            <a:ln w="6480">
              <a:solidFill>
                <a:srgbClr val="8080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8"/>
            <p:cNvSpPr/>
            <p:nvPr/>
          </p:nvSpPr>
          <p:spPr>
            <a:xfrm>
              <a:off x="2793240" y="6273000"/>
              <a:ext cx="288000" cy="1080"/>
            </a:xfrm>
            <a:custGeom>
              <a:avLst/>
              <a:gdLst/>
              <a:ahLst/>
              <a:rect l="l" t="t" r="r" b="b"/>
              <a:pathLst>
                <a:path w="10836" h="1">
                  <a:moveTo>
                    <a:pt x="0" y="0"/>
                  </a:moveTo>
                  <a:lnTo>
                    <a:pt x="108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7e2"/>
            </a:solidFill>
            <a:ln w="6480">
              <a:solidFill>
                <a:srgbClr val="7f7c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9"/>
            <p:cNvSpPr/>
            <p:nvPr/>
          </p:nvSpPr>
          <p:spPr>
            <a:xfrm>
              <a:off x="2756520" y="6273000"/>
              <a:ext cx="362880" cy="53280"/>
            </a:xfrm>
            <a:custGeom>
              <a:avLst/>
              <a:gdLst/>
              <a:ahLst/>
              <a:rect l="l" t="t" r="r" b="b"/>
              <a:pathLst>
                <a:path w="13683" h="2156">
                  <a:moveTo>
                    <a:pt x="13683" y="2156"/>
                  </a:moveTo>
                  <a:lnTo>
                    <a:pt x="12258" y="0"/>
                  </a:lnTo>
                  <a:lnTo>
                    <a:pt x="1422" y="0"/>
                  </a:lnTo>
                  <a:lnTo>
                    <a:pt x="0" y="2156"/>
                  </a:lnTo>
                  <a:lnTo>
                    <a:pt x="13683" y="2156"/>
                  </a:lnTo>
                  <a:close/>
                </a:path>
              </a:pathLst>
            </a:custGeom>
            <a:solidFill>
              <a:srgbClr val="e6e6df"/>
            </a:solidFill>
            <a:ln w="6480">
              <a:solidFill>
                <a:srgbClr val="8080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0"/>
            <p:cNvSpPr/>
            <p:nvPr/>
          </p:nvSpPr>
          <p:spPr>
            <a:xfrm>
              <a:off x="2912040" y="6305400"/>
              <a:ext cx="22320" cy="1008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41"/>
            <p:cNvSpPr/>
            <p:nvPr/>
          </p:nvSpPr>
          <p:spPr>
            <a:xfrm>
              <a:off x="2941560" y="6305400"/>
              <a:ext cx="23040" cy="1008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42"/>
            <p:cNvSpPr/>
            <p:nvPr/>
          </p:nvSpPr>
          <p:spPr>
            <a:xfrm>
              <a:off x="2972520" y="6305400"/>
              <a:ext cx="21960" cy="1008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43"/>
            <p:cNvSpPr/>
            <p:nvPr/>
          </p:nvSpPr>
          <p:spPr>
            <a:xfrm>
              <a:off x="3002040" y="6305400"/>
              <a:ext cx="23040" cy="1008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4"/>
            <p:cNvSpPr/>
            <p:nvPr/>
          </p:nvSpPr>
          <p:spPr>
            <a:xfrm>
              <a:off x="3032640" y="6305400"/>
              <a:ext cx="22320" cy="1008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45"/>
            <p:cNvSpPr/>
            <p:nvPr/>
          </p:nvSpPr>
          <p:spPr>
            <a:xfrm>
              <a:off x="3063240" y="6305400"/>
              <a:ext cx="22320" cy="1008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46"/>
            <p:cNvSpPr/>
            <p:nvPr/>
          </p:nvSpPr>
          <p:spPr>
            <a:xfrm>
              <a:off x="2790360" y="6305400"/>
              <a:ext cx="23040" cy="1008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47"/>
            <p:cNvSpPr/>
            <p:nvPr/>
          </p:nvSpPr>
          <p:spPr>
            <a:xfrm>
              <a:off x="2820960" y="6305400"/>
              <a:ext cx="22320" cy="1008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48"/>
            <p:cNvSpPr/>
            <p:nvPr/>
          </p:nvSpPr>
          <p:spPr>
            <a:xfrm>
              <a:off x="2851560" y="6305400"/>
              <a:ext cx="22320" cy="1008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49"/>
            <p:cNvSpPr/>
            <p:nvPr/>
          </p:nvSpPr>
          <p:spPr>
            <a:xfrm>
              <a:off x="2881080" y="6305400"/>
              <a:ext cx="22320" cy="1008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50"/>
            <p:cNvSpPr/>
            <p:nvPr/>
          </p:nvSpPr>
          <p:spPr>
            <a:xfrm>
              <a:off x="2926800" y="6283440"/>
              <a:ext cx="22320" cy="1152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51"/>
            <p:cNvSpPr/>
            <p:nvPr/>
          </p:nvSpPr>
          <p:spPr>
            <a:xfrm>
              <a:off x="2956680" y="6283440"/>
              <a:ext cx="23040" cy="1152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52"/>
            <p:cNvSpPr/>
            <p:nvPr/>
          </p:nvSpPr>
          <p:spPr>
            <a:xfrm>
              <a:off x="2986920" y="6283440"/>
              <a:ext cx="22320" cy="1152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53"/>
            <p:cNvSpPr/>
            <p:nvPr/>
          </p:nvSpPr>
          <p:spPr>
            <a:xfrm>
              <a:off x="3016800" y="6283440"/>
              <a:ext cx="23040" cy="1152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54"/>
            <p:cNvSpPr/>
            <p:nvPr/>
          </p:nvSpPr>
          <p:spPr>
            <a:xfrm>
              <a:off x="3047400" y="6283440"/>
              <a:ext cx="21960" cy="1152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55"/>
            <p:cNvSpPr/>
            <p:nvPr/>
          </p:nvSpPr>
          <p:spPr>
            <a:xfrm>
              <a:off x="2806200" y="6283440"/>
              <a:ext cx="22320" cy="1152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56"/>
            <p:cNvSpPr/>
            <p:nvPr/>
          </p:nvSpPr>
          <p:spPr>
            <a:xfrm>
              <a:off x="2835720" y="6283440"/>
              <a:ext cx="23040" cy="1152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57"/>
            <p:cNvSpPr/>
            <p:nvPr/>
          </p:nvSpPr>
          <p:spPr>
            <a:xfrm>
              <a:off x="2866680" y="6283440"/>
              <a:ext cx="21960" cy="1152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58"/>
            <p:cNvSpPr/>
            <p:nvPr/>
          </p:nvSpPr>
          <p:spPr>
            <a:xfrm>
              <a:off x="2896200" y="6283440"/>
              <a:ext cx="23040" cy="1152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59"/>
            <p:cNvSpPr/>
            <p:nvPr/>
          </p:nvSpPr>
          <p:spPr>
            <a:xfrm>
              <a:off x="3128760" y="6303240"/>
              <a:ext cx="56880" cy="35640"/>
            </a:xfrm>
            <a:custGeom>
              <a:avLst/>
              <a:gdLst/>
              <a:ahLst/>
              <a:rect l="l" t="t" r="r" b="b"/>
              <a:pathLst>
                <a:path w="2147" h="1445">
                  <a:moveTo>
                    <a:pt x="1832" y="317"/>
                  </a:moveTo>
                  <a:lnTo>
                    <a:pt x="1793" y="279"/>
                  </a:lnTo>
                  <a:lnTo>
                    <a:pt x="1753" y="244"/>
                  </a:lnTo>
                  <a:lnTo>
                    <a:pt x="1711" y="212"/>
                  </a:lnTo>
                  <a:lnTo>
                    <a:pt x="1669" y="181"/>
                  </a:lnTo>
                  <a:lnTo>
                    <a:pt x="1624" y="152"/>
                  </a:lnTo>
                  <a:lnTo>
                    <a:pt x="1579" y="126"/>
                  </a:lnTo>
                  <a:lnTo>
                    <a:pt x="1532" y="102"/>
                  </a:lnTo>
                  <a:lnTo>
                    <a:pt x="1485" y="81"/>
                  </a:lnTo>
                  <a:lnTo>
                    <a:pt x="1435" y="62"/>
                  </a:lnTo>
                  <a:lnTo>
                    <a:pt x="1385" y="45"/>
                  </a:lnTo>
                  <a:lnTo>
                    <a:pt x="1335" y="31"/>
                  </a:lnTo>
                  <a:lnTo>
                    <a:pt x="1284" y="20"/>
                  </a:lnTo>
                  <a:lnTo>
                    <a:pt x="1232" y="11"/>
                  </a:lnTo>
                  <a:lnTo>
                    <a:pt x="1179" y="5"/>
                  </a:lnTo>
                  <a:lnTo>
                    <a:pt x="1127" y="1"/>
                  </a:lnTo>
                  <a:lnTo>
                    <a:pt x="1073" y="0"/>
                  </a:lnTo>
                  <a:lnTo>
                    <a:pt x="963" y="5"/>
                  </a:lnTo>
                  <a:lnTo>
                    <a:pt x="856" y="21"/>
                  </a:lnTo>
                  <a:lnTo>
                    <a:pt x="753" y="47"/>
                  </a:lnTo>
                  <a:lnTo>
                    <a:pt x="655" y="84"/>
                  </a:lnTo>
                  <a:lnTo>
                    <a:pt x="561" y="130"/>
                  </a:lnTo>
                  <a:lnTo>
                    <a:pt x="473" y="184"/>
                  </a:lnTo>
                  <a:lnTo>
                    <a:pt x="390" y="247"/>
                  </a:lnTo>
                  <a:lnTo>
                    <a:pt x="314" y="317"/>
                  </a:lnTo>
                  <a:lnTo>
                    <a:pt x="245" y="394"/>
                  </a:lnTo>
                  <a:lnTo>
                    <a:pt x="183" y="477"/>
                  </a:lnTo>
                  <a:lnTo>
                    <a:pt x="129" y="566"/>
                  </a:lnTo>
                  <a:lnTo>
                    <a:pt x="84" y="661"/>
                  </a:lnTo>
                  <a:lnTo>
                    <a:pt x="47" y="760"/>
                  </a:lnTo>
                  <a:lnTo>
                    <a:pt x="21" y="864"/>
                  </a:lnTo>
                  <a:lnTo>
                    <a:pt x="5" y="971"/>
                  </a:lnTo>
                  <a:lnTo>
                    <a:pt x="0" y="1082"/>
                  </a:lnTo>
                  <a:lnTo>
                    <a:pt x="0" y="1369"/>
                  </a:lnTo>
                  <a:lnTo>
                    <a:pt x="0" y="1376"/>
                  </a:lnTo>
                  <a:lnTo>
                    <a:pt x="1" y="1384"/>
                  </a:lnTo>
                  <a:lnTo>
                    <a:pt x="3" y="1391"/>
                  </a:lnTo>
                  <a:lnTo>
                    <a:pt x="5" y="1398"/>
                  </a:lnTo>
                  <a:lnTo>
                    <a:pt x="8" y="1405"/>
                  </a:lnTo>
                  <a:lnTo>
                    <a:pt x="12" y="1411"/>
                  </a:lnTo>
                  <a:lnTo>
                    <a:pt x="16" y="1416"/>
                  </a:lnTo>
                  <a:lnTo>
                    <a:pt x="21" y="1423"/>
                  </a:lnTo>
                  <a:lnTo>
                    <a:pt x="26" y="1428"/>
                  </a:lnTo>
                  <a:lnTo>
                    <a:pt x="32" y="1432"/>
                  </a:lnTo>
                  <a:lnTo>
                    <a:pt x="38" y="1436"/>
                  </a:lnTo>
                  <a:lnTo>
                    <a:pt x="45" y="1439"/>
                  </a:lnTo>
                  <a:lnTo>
                    <a:pt x="51" y="1441"/>
                  </a:lnTo>
                  <a:lnTo>
                    <a:pt x="60" y="1443"/>
                  </a:lnTo>
                  <a:lnTo>
                    <a:pt x="67" y="1444"/>
                  </a:lnTo>
                  <a:lnTo>
                    <a:pt x="75" y="1445"/>
                  </a:lnTo>
                  <a:lnTo>
                    <a:pt x="2072" y="1445"/>
                  </a:lnTo>
                  <a:lnTo>
                    <a:pt x="2079" y="1444"/>
                  </a:lnTo>
                  <a:lnTo>
                    <a:pt x="2086" y="1443"/>
                  </a:lnTo>
                  <a:lnTo>
                    <a:pt x="2094" y="1441"/>
                  </a:lnTo>
                  <a:lnTo>
                    <a:pt x="2100" y="1439"/>
                  </a:lnTo>
                  <a:lnTo>
                    <a:pt x="2107" y="1436"/>
                  </a:lnTo>
                  <a:lnTo>
                    <a:pt x="2114" y="1432"/>
                  </a:lnTo>
                  <a:lnTo>
                    <a:pt x="2120" y="1428"/>
                  </a:lnTo>
                  <a:lnTo>
                    <a:pt x="2125" y="1423"/>
                  </a:lnTo>
                  <a:lnTo>
                    <a:pt x="2130" y="1416"/>
                  </a:lnTo>
                  <a:lnTo>
                    <a:pt x="2134" y="1411"/>
                  </a:lnTo>
                  <a:lnTo>
                    <a:pt x="2138" y="1405"/>
                  </a:lnTo>
                  <a:lnTo>
                    <a:pt x="2141" y="1398"/>
                  </a:lnTo>
                  <a:lnTo>
                    <a:pt x="2143" y="1391"/>
                  </a:lnTo>
                  <a:lnTo>
                    <a:pt x="2145" y="1384"/>
                  </a:lnTo>
                  <a:lnTo>
                    <a:pt x="2146" y="1376"/>
                  </a:lnTo>
                  <a:lnTo>
                    <a:pt x="2147" y="1369"/>
                  </a:lnTo>
                  <a:lnTo>
                    <a:pt x="2147" y="1082"/>
                  </a:lnTo>
                  <a:lnTo>
                    <a:pt x="2145" y="1027"/>
                  </a:lnTo>
                  <a:lnTo>
                    <a:pt x="2141" y="974"/>
                  </a:lnTo>
                  <a:lnTo>
                    <a:pt x="2135" y="921"/>
                  </a:lnTo>
                  <a:lnTo>
                    <a:pt x="2126" y="869"/>
                  </a:lnTo>
                  <a:lnTo>
                    <a:pt x="2115" y="817"/>
                  </a:lnTo>
                  <a:lnTo>
                    <a:pt x="2100" y="766"/>
                  </a:lnTo>
                  <a:lnTo>
                    <a:pt x="2084" y="716"/>
                  </a:lnTo>
                  <a:lnTo>
                    <a:pt x="2065" y="667"/>
                  </a:lnTo>
                  <a:lnTo>
                    <a:pt x="2044" y="619"/>
                  </a:lnTo>
                  <a:lnTo>
                    <a:pt x="2021" y="572"/>
                  </a:lnTo>
                  <a:lnTo>
                    <a:pt x="1995" y="527"/>
                  </a:lnTo>
                  <a:lnTo>
                    <a:pt x="1967" y="482"/>
                  </a:lnTo>
                  <a:lnTo>
                    <a:pt x="1937" y="438"/>
                  </a:lnTo>
                  <a:lnTo>
                    <a:pt x="1904" y="396"/>
                  </a:lnTo>
                  <a:lnTo>
                    <a:pt x="1869" y="355"/>
                  </a:lnTo>
                  <a:lnTo>
                    <a:pt x="1832" y="317"/>
                  </a:lnTo>
                  <a:close/>
                  <a:moveTo>
                    <a:pt x="422" y="424"/>
                  </a:moveTo>
                  <a:lnTo>
                    <a:pt x="454" y="391"/>
                  </a:lnTo>
                  <a:lnTo>
                    <a:pt x="489" y="361"/>
                  </a:lnTo>
                  <a:lnTo>
                    <a:pt x="525" y="333"/>
                  </a:lnTo>
                  <a:lnTo>
                    <a:pt x="561" y="306"/>
                  </a:lnTo>
                  <a:lnTo>
                    <a:pt x="600" y="282"/>
                  </a:lnTo>
                  <a:lnTo>
                    <a:pt x="639" y="259"/>
                  </a:lnTo>
                  <a:lnTo>
                    <a:pt x="679" y="239"/>
                  </a:lnTo>
                  <a:lnTo>
                    <a:pt x="720" y="222"/>
                  </a:lnTo>
                  <a:lnTo>
                    <a:pt x="761" y="205"/>
                  </a:lnTo>
                  <a:lnTo>
                    <a:pt x="804" y="191"/>
                  </a:lnTo>
                  <a:lnTo>
                    <a:pt x="847" y="179"/>
                  </a:lnTo>
                  <a:lnTo>
                    <a:pt x="891" y="169"/>
                  </a:lnTo>
                  <a:lnTo>
                    <a:pt x="935" y="161"/>
                  </a:lnTo>
                  <a:lnTo>
                    <a:pt x="981" y="155"/>
                  </a:lnTo>
                  <a:lnTo>
                    <a:pt x="1026" y="152"/>
                  </a:lnTo>
                  <a:lnTo>
                    <a:pt x="1073" y="151"/>
                  </a:lnTo>
                  <a:lnTo>
                    <a:pt x="1118" y="152"/>
                  </a:lnTo>
                  <a:lnTo>
                    <a:pt x="1164" y="155"/>
                  </a:lnTo>
                  <a:lnTo>
                    <a:pt x="1209" y="161"/>
                  </a:lnTo>
                  <a:lnTo>
                    <a:pt x="1254" y="169"/>
                  </a:lnTo>
                  <a:lnTo>
                    <a:pt x="1298" y="179"/>
                  </a:lnTo>
                  <a:lnTo>
                    <a:pt x="1341" y="191"/>
                  </a:lnTo>
                  <a:lnTo>
                    <a:pt x="1384" y="205"/>
                  </a:lnTo>
                  <a:lnTo>
                    <a:pt x="1426" y="222"/>
                  </a:lnTo>
                  <a:lnTo>
                    <a:pt x="1467" y="239"/>
                  </a:lnTo>
                  <a:lnTo>
                    <a:pt x="1507" y="259"/>
                  </a:lnTo>
                  <a:lnTo>
                    <a:pt x="1546" y="282"/>
                  </a:lnTo>
                  <a:lnTo>
                    <a:pt x="1584" y="306"/>
                  </a:lnTo>
                  <a:lnTo>
                    <a:pt x="1621" y="333"/>
                  </a:lnTo>
                  <a:lnTo>
                    <a:pt x="1656" y="361"/>
                  </a:lnTo>
                  <a:lnTo>
                    <a:pt x="1692" y="391"/>
                  </a:lnTo>
                  <a:lnTo>
                    <a:pt x="1725" y="424"/>
                  </a:lnTo>
                  <a:lnTo>
                    <a:pt x="1757" y="457"/>
                  </a:lnTo>
                  <a:lnTo>
                    <a:pt x="1786" y="492"/>
                  </a:lnTo>
                  <a:lnTo>
                    <a:pt x="1814" y="528"/>
                  </a:lnTo>
                  <a:lnTo>
                    <a:pt x="1841" y="565"/>
                  </a:lnTo>
                  <a:lnTo>
                    <a:pt x="1865" y="604"/>
                  </a:lnTo>
                  <a:lnTo>
                    <a:pt x="1887" y="644"/>
                  </a:lnTo>
                  <a:lnTo>
                    <a:pt x="1907" y="683"/>
                  </a:lnTo>
                  <a:lnTo>
                    <a:pt x="1925" y="725"/>
                  </a:lnTo>
                  <a:lnTo>
                    <a:pt x="1941" y="767"/>
                  </a:lnTo>
                  <a:lnTo>
                    <a:pt x="1955" y="810"/>
                  </a:lnTo>
                  <a:lnTo>
                    <a:pt x="1967" y="854"/>
                  </a:lnTo>
                  <a:lnTo>
                    <a:pt x="1977" y="899"/>
                  </a:lnTo>
                  <a:lnTo>
                    <a:pt x="1985" y="943"/>
                  </a:lnTo>
                  <a:lnTo>
                    <a:pt x="1990" y="989"/>
                  </a:lnTo>
                  <a:lnTo>
                    <a:pt x="1993" y="1035"/>
                  </a:lnTo>
                  <a:lnTo>
                    <a:pt x="1995" y="1082"/>
                  </a:lnTo>
                  <a:lnTo>
                    <a:pt x="1995" y="1293"/>
                  </a:lnTo>
                  <a:lnTo>
                    <a:pt x="151" y="1293"/>
                  </a:lnTo>
                  <a:lnTo>
                    <a:pt x="151" y="1082"/>
                  </a:lnTo>
                  <a:lnTo>
                    <a:pt x="152" y="1035"/>
                  </a:lnTo>
                  <a:lnTo>
                    <a:pt x="155" y="989"/>
                  </a:lnTo>
                  <a:lnTo>
                    <a:pt x="160" y="943"/>
                  </a:lnTo>
                  <a:lnTo>
                    <a:pt x="168" y="899"/>
                  </a:lnTo>
                  <a:lnTo>
                    <a:pt x="178" y="854"/>
                  </a:lnTo>
                  <a:lnTo>
                    <a:pt x="190" y="810"/>
                  </a:lnTo>
                  <a:lnTo>
                    <a:pt x="204" y="767"/>
                  </a:lnTo>
                  <a:lnTo>
                    <a:pt x="220" y="725"/>
                  </a:lnTo>
                  <a:lnTo>
                    <a:pt x="239" y="683"/>
                  </a:lnTo>
                  <a:lnTo>
                    <a:pt x="259" y="644"/>
                  </a:lnTo>
                  <a:lnTo>
                    <a:pt x="281" y="604"/>
                  </a:lnTo>
                  <a:lnTo>
                    <a:pt x="305" y="565"/>
                  </a:lnTo>
                  <a:lnTo>
                    <a:pt x="332" y="528"/>
                  </a:lnTo>
                  <a:lnTo>
                    <a:pt x="359" y="492"/>
                  </a:lnTo>
                  <a:lnTo>
                    <a:pt x="389" y="457"/>
                  </a:lnTo>
                  <a:lnTo>
                    <a:pt x="422" y="4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60"/>
            <p:cNvSpPr/>
            <p:nvPr/>
          </p:nvSpPr>
          <p:spPr>
            <a:xfrm>
              <a:off x="2787120" y="5981040"/>
              <a:ext cx="302400" cy="277560"/>
            </a:xfrm>
            <a:custGeom>
              <a:avLst/>
              <a:gdLst/>
              <a:ahLst/>
              <a:rect l="l" t="t" r="r" b="b"/>
              <a:pathLst>
                <a:path w="11405" h="11200">
                  <a:moveTo>
                    <a:pt x="11374" y="10591"/>
                  </a:moveTo>
                  <a:lnTo>
                    <a:pt x="11346" y="10597"/>
                  </a:lnTo>
                  <a:lnTo>
                    <a:pt x="11263" y="10616"/>
                  </a:lnTo>
                  <a:lnTo>
                    <a:pt x="11128" y="10647"/>
                  </a:lnTo>
                  <a:lnTo>
                    <a:pt x="10944" y="10685"/>
                  </a:lnTo>
                  <a:lnTo>
                    <a:pt x="10711" y="10731"/>
                  </a:lnTo>
                  <a:lnTo>
                    <a:pt x="10434" y="10783"/>
                  </a:lnTo>
                  <a:lnTo>
                    <a:pt x="10115" y="10838"/>
                  </a:lnTo>
                  <a:lnTo>
                    <a:pt x="9755" y="10895"/>
                  </a:lnTo>
                  <a:lnTo>
                    <a:pt x="9356" y="10952"/>
                  </a:lnTo>
                  <a:lnTo>
                    <a:pt x="8922" y="11007"/>
                  </a:lnTo>
                  <a:lnTo>
                    <a:pt x="8455" y="11059"/>
                  </a:lnTo>
                  <a:lnTo>
                    <a:pt x="7958" y="11104"/>
                  </a:lnTo>
                  <a:lnTo>
                    <a:pt x="7431" y="11143"/>
                  </a:lnTo>
                  <a:lnTo>
                    <a:pt x="6878" y="11174"/>
                  </a:lnTo>
                  <a:lnTo>
                    <a:pt x="6300" y="11193"/>
                  </a:lnTo>
                  <a:lnTo>
                    <a:pt x="5702" y="11200"/>
                  </a:lnTo>
                  <a:lnTo>
                    <a:pt x="5087" y="11193"/>
                  </a:lnTo>
                  <a:lnTo>
                    <a:pt x="4498" y="11174"/>
                  </a:lnTo>
                  <a:lnTo>
                    <a:pt x="3937" y="11143"/>
                  </a:lnTo>
                  <a:lnTo>
                    <a:pt x="3405" y="11104"/>
                  </a:lnTo>
                  <a:lnTo>
                    <a:pt x="2904" y="11059"/>
                  </a:lnTo>
                  <a:lnTo>
                    <a:pt x="2438" y="11007"/>
                  </a:lnTo>
                  <a:lnTo>
                    <a:pt x="2006" y="10952"/>
                  </a:lnTo>
                  <a:lnTo>
                    <a:pt x="1613" y="10895"/>
                  </a:lnTo>
                  <a:lnTo>
                    <a:pt x="1258" y="10838"/>
                  </a:lnTo>
                  <a:lnTo>
                    <a:pt x="943" y="10783"/>
                  </a:lnTo>
                  <a:lnTo>
                    <a:pt x="673" y="10731"/>
                  </a:lnTo>
                  <a:lnTo>
                    <a:pt x="447" y="10685"/>
                  </a:lnTo>
                  <a:lnTo>
                    <a:pt x="268" y="10647"/>
                  </a:lnTo>
                  <a:lnTo>
                    <a:pt x="138" y="10616"/>
                  </a:lnTo>
                  <a:lnTo>
                    <a:pt x="58" y="10597"/>
                  </a:lnTo>
                  <a:lnTo>
                    <a:pt x="32" y="10591"/>
                  </a:lnTo>
                  <a:lnTo>
                    <a:pt x="0" y="10579"/>
                  </a:lnTo>
                  <a:lnTo>
                    <a:pt x="0" y="0"/>
                  </a:lnTo>
                  <a:lnTo>
                    <a:pt x="11405" y="0"/>
                  </a:lnTo>
                  <a:lnTo>
                    <a:pt x="11405" y="10579"/>
                  </a:lnTo>
                  <a:lnTo>
                    <a:pt x="11374" y="10591"/>
                  </a:lnTo>
                  <a:close/>
                </a:path>
              </a:pathLst>
            </a:custGeom>
            <a:solidFill>
              <a:srgbClr val="e6e6df"/>
            </a:solidFill>
            <a:ln w="6480">
              <a:solidFill>
                <a:srgbClr val="8080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61"/>
            <p:cNvSpPr/>
            <p:nvPr/>
          </p:nvSpPr>
          <p:spPr>
            <a:xfrm>
              <a:off x="2825280" y="6018120"/>
              <a:ext cx="224280" cy="177120"/>
            </a:xfrm>
            <a:prstGeom prst="rect">
              <a:avLst/>
            </a:prstGeom>
            <a:solidFill>
              <a:srgbClr val="98c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62"/>
            <p:cNvSpPr/>
            <p:nvPr/>
          </p:nvSpPr>
          <p:spPr>
            <a:xfrm>
              <a:off x="2851560" y="6213960"/>
              <a:ext cx="11520" cy="10440"/>
            </a:xfrm>
            <a:custGeom>
              <a:avLst/>
              <a:gdLst/>
              <a:ahLst/>
              <a:rect l="l" t="t" r="r" b="b"/>
              <a:pathLst>
                <a:path w="428" h="431">
                  <a:moveTo>
                    <a:pt x="214" y="431"/>
                  </a:moveTo>
                  <a:lnTo>
                    <a:pt x="235" y="429"/>
                  </a:lnTo>
                  <a:lnTo>
                    <a:pt x="256" y="426"/>
                  </a:lnTo>
                  <a:lnTo>
                    <a:pt x="277" y="421"/>
                  </a:lnTo>
                  <a:lnTo>
                    <a:pt x="297" y="414"/>
                  </a:lnTo>
                  <a:lnTo>
                    <a:pt x="316" y="404"/>
                  </a:lnTo>
                  <a:lnTo>
                    <a:pt x="333" y="394"/>
                  </a:lnTo>
                  <a:lnTo>
                    <a:pt x="349" y="381"/>
                  </a:lnTo>
                  <a:lnTo>
                    <a:pt x="364" y="368"/>
                  </a:lnTo>
                  <a:lnTo>
                    <a:pt x="378" y="353"/>
                  </a:lnTo>
                  <a:lnTo>
                    <a:pt x="391" y="336"/>
                  </a:lnTo>
                  <a:lnTo>
                    <a:pt x="402" y="318"/>
                  </a:lnTo>
                  <a:lnTo>
                    <a:pt x="411" y="300"/>
                  </a:lnTo>
                  <a:lnTo>
                    <a:pt x="418" y="279"/>
                  </a:lnTo>
                  <a:lnTo>
                    <a:pt x="423" y="259"/>
                  </a:lnTo>
                  <a:lnTo>
                    <a:pt x="426" y="237"/>
                  </a:lnTo>
                  <a:lnTo>
                    <a:pt x="428" y="216"/>
                  </a:lnTo>
                  <a:lnTo>
                    <a:pt x="426" y="193"/>
                  </a:lnTo>
                  <a:lnTo>
                    <a:pt x="423" y="172"/>
                  </a:lnTo>
                  <a:lnTo>
                    <a:pt x="418" y="152"/>
                  </a:lnTo>
                  <a:lnTo>
                    <a:pt x="411" y="131"/>
                  </a:lnTo>
                  <a:lnTo>
                    <a:pt x="402" y="113"/>
                  </a:lnTo>
                  <a:lnTo>
                    <a:pt x="391" y="95"/>
                  </a:lnTo>
                  <a:lnTo>
                    <a:pt x="378" y="78"/>
                  </a:lnTo>
                  <a:lnTo>
                    <a:pt x="364" y="63"/>
                  </a:lnTo>
                  <a:lnTo>
                    <a:pt x="349" y="49"/>
                  </a:lnTo>
                  <a:lnTo>
                    <a:pt x="333" y="37"/>
                  </a:lnTo>
                  <a:lnTo>
                    <a:pt x="316" y="25"/>
                  </a:lnTo>
                  <a:lnTo>
                    <a:pt x="297" y="16"/>
                  </a:lnTo>
                  <a:lnTo>
                    <a:pt x="277" y="9"/>
                  </a:lnTo>
                  <a:lnTo>
                    <a:pt x="256" y="4"/>
                  </a:lnTo>
                  <a:lnTo>
                    <a:pt x="235" y="1"/>
                  </a:lnTo>
                  <a:lnTo>
                    <a:pt x="214" y="0"/>
                  </a:lnTo>
                  <a:lnTo>
                    <a:pt x="191" y="1"/>
                  </a:lnTo>
                  <a:lnTo>
                    <a:pt x="170" y="4"/>
                  </a:lnTo>
                  <a:lnTo>
                    <a:pt x="150" y="9"/>
                  </a:lnTo>
                  <a:lnTo>
                    <a:pt x="130" y="16"/>
                  </a:lnTo>
                  <a:lnTo>
                    <a:pt x="111" y="25"/>
                  </a:lnTo>
                  <a:lnTo>
                    <a:pt x="93" y="37"/>
                  </a:lnTo>
                  <a:lnTo>
                    <a:pt x="77" y="49"/>
                  </a:lnTo>
                  <a:lnTo>
                    <a:pt x="62" y="63"/>
                  </a:lnTo>
                  <a:lnTo>
                    <a:pt x="49" y="78"/>
                  </a:lnTo>
                  <a:lnTo>
                    <a:pt x="36" y="95"/>
                  </a:lnTo>
                  <a:lnTo>
                    <a:pt x="25" y="113"/>
                  </a:lnTo>
                  <a:lnTo>
                    <a:pt x="16" y="131"/>
                  </a:lnTo>
                  <a:lnTo>
                    <a:pt x="9" y="152"/>
                  </a:lnTo>
                  <a:lnTo>
                    <a:pt x="4" y="172"/>
                  </a:lnTo>
                  <a:lnTo>
                    <a:pt x="1" y="193"/>
                  </a:lnTo>
                  <a:lnTo>
                    <a:pt x="0" y="216"/>
                  </a:lnTo>
                  <a:lnTo>
                    <a:pt x="1" y="237"/>
                  </a:lnTo>
                  <a:lnTo>
                    <a:pt x="4" y="259"/>
                  </a:lnTo>
                  <a:lnTo>
                    <a:pt x="9" y="279"/>
                  </a:lnTo>
                  <a:lnTo>
                    <a:pt x="16" y="300"/>
                  </a:lnTo>
                  <a:lnTo>
                    <a:pt x="25" y="318"/>
                  </a:lnTo>
                  <a:lnTo>
                    <a:pt x="36" y="336"/>
                  </a:lnTo>
                  <a:lnTo>
                    <a:pt x="49" y="353"/>
                  </a:lnTo>
                  <a:lnTo>
                    <a:pt x="62" y="368"/>
                  </a:lnTo>
                  <a:lnTo>
                    <a:pt x="77" y="381"/>
                  </a:lnTo>
                  <a:lnTo>
                    <a:pt x="93" y="394"/>
                  </a:lnTo>
                  <a:lnTo>
                    <a:pt x="111" y="404"/>
                  </a:lnTo>
                  <a:lnTo>
                    <a:pt x="130" y="414"/>
                  </a:lnTo>
                  <a:lnTo>
                    <a:pt x="150" y="421"/>
                  </a:lnTo>
                  <a:lnTo>
                    <a:pt x="170" y="426"/>
                  </a:lnTo>
                  <a:lnTo>
                    <a:pt x="191" y="429"/>
                  </a:lnTo>
                  <a:lnTo>
                    <a:pt x="214" y="431"/>
                  </a:lnTo>
                  <a:close/>
                </a:path>
              </a:pathLst>
            </a:cu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63"/>
            <p:cNvSpPr/>
            <p:nvPr/>
          </p:nvSpPr>
          <p:spPr>
            <a:xfrm>
              <a:off x="3013560" y="6210360"/>
              <a:ext cx="14400" cy="2772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64"/>
            <p:cNvSpPr/>
            <p:nvPr/>
          </p:nvSpPr>
          <p:spPr>
            <a:xfrm>
              <a:off x="2877120" y="6217200"/>
              <a:ext cx="45360" cy="684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65"/>
            <p:cNvSpPr/>
            <p:nvPr/>
          </p:nvSpPr>
          <p:spPr>
            <a:xfrm>
              <a:off x="2754360" y="5979960"/>
              <a:ext cx="367200" cy="358920"/>
            </a:xfrm>
            <a:custGeom>
              <a:avLst/>
              <a:gdLst/>
              <a:ahLst/>
              <a:rect l="l" t="t" r="r" b="b"/>
              <a:pathLst>
                <a:path w="13839" h="14526">
                  <a:moveTo>
                    <a:pt x="13826" y="13977"/>
                  </a:moveTo>
                  <a:lnTo>
                    <a:pt x="12401" y="11821"/>
                  </a:lnTo>
                  <a:lnTo>
                    <a:pt x="12398" y="11816"/>
                  </a:lnTo>
                  <a:lnTo>
                    <a:pt x="12395" y="11812"/>
                  </a:lnTo>
                  <a:lnTo>
                    <a:pt x="12392" y="11809"/>
                  </a:lnTo>
                  <a:lnTo>
                    <a:pt x="12388" y="11805"/>
                  </a:lnTo>
                  <a:lnTo>
                    <a:pt x="12385" y="11803"/>
                  </a:lnTo>
                  <a:lnTo>
                    <a:pt x="12381" y="11800"/>
                  </a:lnTo>
                  <a:lnTo>
                    <a:pt x="12377" y="11797"/>
                  </a:lnTo>
                  <a:lnTo>
                    <a:pt x="12373" y="11795"/>
                  </a:lnTo>
                  <a:lnTo>
                    <a:pt x="12369" y="11793"/>
                  </a:lnTo>
                  <a:lnTo>
                    <a:pt x="12364" y="11791"/>
                  </a:lnTo>
                  <a:lnTo>
                    <a:pt x="12360" y="11790"/>
                  </a:lnTo>
                  <a:lnTo>
                    <a:pt x="12356" y="11789"/>
                  </a:lnTo>
                  <a:lnTo>
                    <a:pt x="12351" y="11788"/>
                  </a:lnTo>
                  <a:lnTo>
                    <a:pt x="12347" y="11787"/>
                  </a:lnTo>
                  <a:lnTo>
                    <a:pt x="12342" y="11787"/>
                  </a:lnTo>
                  <a:lnTo>
                    <a:pt x="12338" y="11787"/>
                  </a:lnTo>
                  <a:lnTo>
                    <a:pt x="9846" y="11787"/>
                  </a:lnTo>
                  <a:lnTo>
                    <a:pt x="9846" y="11194"/>
                  </a:lnTo>
                  <a:lnTo>
                    <a:pt x="10151" y="11159"/>
                  </a:lnTo>
                  <a:lnTo>
                    <a:pt x="10441" y="11122"/>
                  </a:lnTo>
                  <a:lnTo>
                    <a:pt x="10717" y="11085"/>
                  </a:lnTo>
                  <a:lnTo>
                    <a:pt x="10977" y="11047"/>
                  </a:lnTo>
                  <a:lnTo>
                    <a:pt x="11221" y="11009"/>
                  </a:lnTo>
                  <a:lnTo>
                    <a:pt x="11447" y="10971"/>
                  </a:lnTo>
                  <a:lnTo>
                    <a:pt x="11656" y="10936"/>
                  </a:lnTo>
                  <a:lnTo>
                    <a:pt x="11847" y="10901"/>
                  </a:lnTo>
                  <a:lnTo>
                    <a:pt x="12017" y="10867"/>
                  </a:lnTo>
                  <a:lnTo>
                    <a:pt x="12168" y="10838"/>
                  </a:lnTo>
                  <a:lnTo>
                    <a:pt x="12298" y="10810"/>
                  </a:lnTo>
                  <a:lnTo>
                    <a:pt x="12406" y="10787"/>
                  </a:lnTo>
                  <a:lnTo>
                    <a:pt x="12492" y="10769"/>
                  </a:lnTo>
                  <a:lnTo>
                    <a:pt x="12554" y="10753"/>
                  </a:lnTo>
                  <a:lnTo>
                    <a:pt x="12594" y="10744"/>
                  </a:lnTo>
                  <a:lnTo>
                    <a:pt x="12609" y="10741"/>
                  </a:lnTo>
                  <a:lnTo>
                    <a:pt x="12610" y="10740"/>
                  </a:lnTo>
                  <a:lnTo>
                    <a:pt x="12612" y="10739"/>
                  </a:lnTo>
                  <a:lnTo>
                    <a:pt x="12614" y="10739"/>
                  </a:lnTo>
                  <a:lnTo>
                    <a:pt x="12617" y="10738"/>
                  </a:lnTo>
                  <a:lnTo>
                    <a:pt x="12620" y="10737"/>
                  </a:lnTo>
                  <a:lnTo>
                    <a:pt x="12623" y="10736"/>
                  </a:lnTo>
                  <a:lnTo>
                    <a:pt x="12626" y="10735"/>
                  </a:lnTo>
                  <a:lnTo>
                    <a:pt x="12629" y="10734"/>
                  </a:lnTo>
                  <a:lnTo>
                    <a:pt x="12632" y="10733"/>
                  </a:lnTo>
                  <a:lnTo>
                    <a:pt x="12635" y="10732"/>
                  </a:lnTo>
                  <a:lnTo>
                    <a:pt x="12638" y="10731"/>
                  </a:lnTo>
                  <a:lnTo>
                    <a:pt x="12641" y="10730"/>
                  </a:lnTo>
                  <a:lnTo>
                    <a:pt x="12643" y="10729"/>
                  </a:lnTo>
                  <a:lnTo>
                    <a:pt x="12644" y="10729"/>
                  </a:lnTo>
                  <a:lnTo>
                    <a:pt x="12645" y="10729"/>
                  </a:lnTo>
                  <a:lnTo>
                    <a:pt x="12646" y="10729"/>
                  </a:lnTo>
                  <a:lnTo>
                    <a:pt x="12652" y="10726"/>
                  </a:lnTo>
                  <a:lnTo>
                    <a:pt x="12657" y="10724"/>
                  </a:lnTo>
                  <a:lnTo>
                    <a:pt x="12662" y="10721"/>
                  </a:lnTo>
                  <a:lnTo>
                    <a:pt x="12667" y="10718"/>
                  </a:lnTo>
                  <a:lnTo>
                    <a:pt x="12672" y="10714"/>
                  </a:lnTo>
                  <a:lnTo>
                    <a:pt x="12676" y="10709"/>
                  </a:lnTo>
                  <a:lnTo>
                    <a:pt x="12680" y="10705"/>
                  </a:lnTo>
                  <a:lnTo>
                    <a:pt x="12683" y="10700"/>
                  </a:lnTo>
                  <a:lnTo>
                    <a:pt x="12686" y="10695"/>
                  </a:lnTo>
                  <a:lnTo>
                    <a:pt x="12689" y="10690"/>
                  </a:lnTo>
                  <a:lnTo>
                    <a:pt x="12692" y="10685"/>
                  </a:lnTo>
                  <a:lnTo>
                    <a:pt x="12694" y="10680"/>
                  </a:lnTo>
                  <a:lnTo>
                    <a:pt x="12695" y="10674"/>
                  </a:lnTo>
                  <a:lnTo>
                    <a:pt x="12697" y="10668"/>
                  </a:lnTo>
                  <a:lnTo>
                    <a:pt x="12697" y="10662"/>
                  </a:lnTo>
                  <a:lnTo>
                    <a:pt x="12698" y="10656"/>
                  </a:lnTo>
                  <a:lnTo>
                    <a:pt x="12698" y="77"/>
                  </a:lnTo>
                  <a:lnTo>
                    <a:pt x="12697" y="68"/>
                  </a:lnTo>
                  <a:lnTo>
                    <a:pt x="12696" y="61"/>
                  </a:lnTo>
                  <a:lnTo>
                    <a:pt x="12694" y="53"/>
                  </a:lnTo>
                  <a:lnTo>
                    <a:pt x="12692" y="46"/>
                  </a:lnTo>
                  <a:lnTo>
                    <a:pt x="12689" y="40"/>
                  </a:lnTo>
                  <a:lnTo>
                    <a:pt x="12685" y="34"/>
                  </a:lnTo>
                  <a:lnTo>
                    <a:pt x="12681" y="28"/>
                  </a:lnTo>
                  <a:lnTo>
                    <a:pt x="12676" y="22"/>
                  </a:lnTo>
                  <a:lnTo>
                    <a:pt x="12670" y="17"/>
                  </a:lnTo>
                  <a:lnTo>
                    <a:pt x="12665" y="12"/>
                  </a:lnTo>
                  <a:lnTo>
                    <a:pt x="12659" y="9"/>
                  </a:lnTo>
                  <a:lnTo>
                    <a:pt x="12652" y="5"/>
                  </a:lnTo>
                  <a:lnTo>
                    <a:pt x="12644" y="3"/>
                  </a:lnTo>
                  <a:lnTo>
                    <a:pt x="12637" y="1"/>
                  </a:lnTo>
                  <a:lnTo>
                    <a:pt x="12629" y="0"/>
                  </a:lnTo>
                  <a:lnTo>
                    <a:pt x="12622" y="0"/>
                  </a:lnTo>
                  <a:lnTo>
                    <a:pt x="1217" y="0"/>
                  </a:lnTo>
                  <a:lnTo>
                    <a:pt x="1209" y="0"/>
                  </a:lnTo>
                  <a:lnTo>
                    <a:pt x="1200" y="1"/>
                  </a:lnTo>
                  <a:lnTo>
                    <a:pt x="1193" y="3"/>
                  </a:lnTo>
                  <a:lnTo>
                    <a:pt x="1186" y="5"/>
                  </a:lnTo>
                  <a:lnTo>
                    <a:pt x="1179" y="9"/>
                  </a:lnTo>
                  <a:lnTo>
                    <a:pt x="1173" y="12"/>
                  </a:lnTo>
                  <a:lnTo>
                    <a:pt x="1168" y="17"/>
                  </a:lnTo>
                  <a:lnTo>
                    <a:pt x="1162" y="22"/>
                  </a:lnTo>
                  <a:lnTo>
                    <a:pt x="1157" y="28"/>
                  </a:lnTo>
                  <a:lnTo>
                    <a:pt x="1153" y="34"/>
                  </a:lnTo>
                  <a:lnTo>
                    <a:pt x="1149" y="40"/>
                  </a:lnTo>
                  <a:lnTo>
                    <a:pt x="1146" y="46"/>
                  </a:lnTo>
                  <a:lnTo>
                    <a:pt x="1144" y="53"/>
                  </a:lnTo>
                  <a:lnTo>
                    <a:pt x="1142" y="61"/>
                  </a:lnTo>
                  <a:lnTo>
                    <a:pt x="1141" y="68"/>
                  </a:lnTo>
                  <a:lnTo>
                    <a:pt x="1141" y="77"/>
                  </a:lnTo>
                  <a:lnTo>
                    <a:pt x="1141" y="10656"/>
                  </a:lnTo>
                  <a:lnTo>
                    <a:pt x="1141" y="10662"/>
                  </a:lnTo>
                  <a:lnTo>
                    <a:pt x="1141" y="10668"/>
                  </a:lnTo>
                  <a:lnTo>
                    <a:pt x="1143" y="10674"/>
                  </a:lnTo>
                  <a:lnTo>
                    <a:pt x="1144" y="10680"/>
                  </a:lnTo>
                  <a:lnTo>
                    <a:pt x="1146" y="10685"/>
                  </a:lnTo>
                  <a:lnTo>
                    <a:pt x="1148" y="10690"/>
                  </a:lnTo>
                  <a:lnTo>
                    <a:pt x="1151" y="10695"/>
                  </a:lnTo>
                  <a:lnTo>
                    <a:pt x="1154" y="10700"/>
                  </a:lnTo>
                  <a:lnTo>
                    <a:pt x="1158" y="10705"/>
                  </a:lnTo>
                  <a:lnTo>
                    <a:pt x="1162" y="10709"/>
                  </a:lnTo>
                  <a:lnTo>
                    <a:pt x="1166" y="10714"/>
                  </a:lnTo>
                  <a:lnTo>
                    <a:pt x="1170" y="10718"/>
                  </a:lnTo>
                  <a:lnTo>
                    <a:pt x="1175" y="10721"/>
                  </a:lnTo>
                  <a:lnTo>
                    <a:pt x="1180" y="10724"/>
                  </a:lnTo>
                  <a:lnTo>
                    <a:pt x="1186" y="10726"/>
                  </a:lnTo>
                  <a:lnTo>
                    <a:pt x="1192" y="10729"/>
                  </a:lnTo>
                  <a:lnTo>
                    <a:pt x="1225" y="10739"/>
                  </a:lnTo>
                  <a:lnTo>
                    <a:pt x="1239" y="10742"/>
                  </a:lnTo>
                  <a:lnTo>
                    <a:pt x="1278" y="10752"/>
                  </a:lnTo>
                  <a:lnTo>
                    <a:pt x="1341" y="10767"/>
                  </a:lnTo>
                  <a:lnTo>
                    <a:pt x="1426" y="10787"/>
                  </a:lnTo>
                  <a:lnTo>
                    <a:pt x="1533" y="10810"/>
                  </a:lnTo>
                  <a:lnTo>
                    <a:pt x="1662" y="10838"/>
                  </a:lnTo>
                  <a:lnTo>
                    <a:pt x="1811" y="10868"/>
                  </a:lnTo>
                  <a:lnTo>
                    <a:pt x="1980" y="10902"/>
                  </a:lnTo>
                  <a:lnTo>
                    <a:pt x="2170" y="10938"/>
                  </a:lnTo>
                  <a:lnTo>
                    <a:pt x="2379" y="10975"/>
                  </a:lnTo>
                  <a:lnTo>
                    <a:pt x="2605" y="11012"/>
                  </a:lnTo>
                  <a:lnTo>
                    <a:pt x="2849" y="11051"/>
                  </a:lnTo>
                  <a:lnTo>
                    <a:pt x="3111" y="11089"/>
                  </a:lnTo>
                  <a:lnTo>
                    <a:pt x="3389" y="11126"/>
                  </a:lnTo>
                  <a:lnTo>
                    <a:pt x="3683" y="11163"/>
                  </a:lnTo>
                  <a:lnTo>
                    <a:pt x="3993" y="11199"/>
                  </a:lnTo>
                  <a:lnTo>
                    <a:pt x="3993" y="11787"/>
                  </a:lnTo>
                  <a:lnTo>
                    <a:pt x="1502" y="11787"/>
                  </a:lnTo>
                  <a:lnTo>
                    <a:pt x="1497" y="11787"/>
                  </a:lnTo>
                  <a:lnTo>
                    <a:pt x="1492" y="11787"/>
                  </a:lnTo>
                  <a:lnTo>
                    <a:pt x="1488" y="11788"/>
                  </a:lnTo>
                  <a:lnTo>
                    <a:pt x="1483" y="11789"/>
                  </a:lnTo>
                  <a:lnTo>
                    <a:pt x="1479" y="11790"/>
                  </a:lnTo>
                  <a:lnTo>
                    <a:pt x="1474" y="11791"/>
                  </a:lnTo>
                  <a:lnTo>
                    <a:pt x="1469" y="11793"/>
                  </a:lnTo>
                  <a:lnTo>
                    <a:pt x="1465" y="11795"/>
                  </a:lnTo>
                  <a:lnTo>
                    <a:pt x="1461" y="11797"/>
                  </a:lnTo>
                  <a:lnTo>
                    <a:pt x="1457" y="11800"/>
                  </a:lnTo>
                  <a:lnTo>
                    <a:pt x="1454" y="11803"/>
                  </a:lnTo>
                  <a:lnTo>
                    <a:pt x="1450" y="11805"/>
                  </a:lnTo>
                  <a:lnTo>
                    <a:pt x="1447" y="11809"/>
                  </a:lnTo>
                  <a:lnTo>
                    <a:pt x="1444" y="11812"/>
                  </a:lnTo>
                  <a:lnTo>
                    <a:pt x="1441" y="11816"/>
                  </a:lnTo>
                  <a:lnTo>
                    <a:pt x="1439" y="11821"/>
                  </a:lnTo>
                  <a:lnTo>
                    <a:pt x="25" y="13964"/>
                  </a:lnTo>
                  <a:lnTo>
                    <a:pt x="22" y="13966"/>
                  </a:lnTo>
                  <a:lnTo>
                    <a:pt x="19" y="13969"/>
                  </a:lnTo>
                  <a:lnTo>
                    <a:pt x="17" y="13971"/>
                  </a:lnTo>
                  <a:lnTo>
                    <a:pt x="14" y="13974"/>
                  </a:lnTo>
                  <a:lnTo>
                    <a:pt x="12" y="13978"/>
                  </a:lnTo>
                  <a:lnTo>
                    <a:pt x="10" y="13981"/>
                  </a:lnTo>
                  <a:lnTo>
                    <a:pt x="8" y="13985"/>
                  </a:lnTo>
                  <a:lnTo>
                    <a:pt x="6" y="13988"/>
                  </a:lnTo>
                  <a:lnTo>
                    <a:pt x="5" y="13991"/>
                  </a:lnTo>
                  <a:lnTo>
                    <a:pt x="3" y="13995"/>
                  </a:lnTo>
                  <a:lnTo>
                    <a:pt x="2" y="13999"/>
                  </a:lnTo>
                  <a:lnTo>
                    <a:pt x="1" y="14002"/>
                  </a:lnTo>
                  <a:lnTo>
                    <a:pt x="1" y="14006"/>
                  </a:lnTo>
                  <a:lnTo>
                    <a:pt x="0" y="14010"/>
                  </a:lnTo>
                  <a:lnTo>
                    <a:pt x="0" y="14014"/>
                  </a:lnTo>
                  <a:lnTo>
                    <a:pt x="0" y="14018"/>
                  </a:lnTo>
                  <a:lnTo>
                    <a:pt x="0" y="14450"/>
                  </a:lnTo>
                  <a:lnTo>
                    <a:pt x="0" y="14457"/>
                  </a:lnTo>
                  <a:lnTo>
                    <a:pt x="1" y="14465"/>
                  </a:lnTo>
                  <a:lnTo>
                    <a:pt x="3" y="14472"/>
                  </a:lnTo>
                  <a:lnTo>
                    <a:pt x="5" y="14479"/>
                  </a:lnTo>
                  <a:lnTo>
                    <a:pt x="8" y="14486"/>
                  </a:lnTo>
                  <a:lnTo>
                    <a:pt x="12" y="14492"/>
                  </a:lnTo>
                  <a:lnTo>
                    <a:pt x="16" y="14497"/>
                  </a:lnTo>
                  <a:lnTo>
                    <a:pt x="21" y="14504"/>
                  </a:lnTo>
                  <a:lnTo>
                    <a:pt x="26" y="14509"/>
                  </a:lnTo>
                  <a:lnTo>
                    <a:pt x="32" y="14513"/>
                  </a:lnTo>
                  <a:lnTo>
                    <a:pt x="38" y="14517"/>
                  </a:lnTo>
                  <a:lnTo>
                    <a:pt x="46" y="14520"/>
                  </a:lnTo>
                  <a:lnTo>
                    <a:pt x="52" y="14522"/>
                  </a:lnTo>
                  <a:lnTo>
                    <a:pt x="60" y="14524"/>
                  </a:lnTo>
                  <a:lnTo>
                    <a:pt x="67" y="14525"/>
                  </a:lnTo>
                  <a:lnTo>
                    <a:pt x="75" y="14526"/>
                  </a:lnTo>
                  <a:lnTo>
                    <a:pt x="13763" y="14526"/>
                  </a:lnTo>
                  <a:lnTo>
                    <a:pt x="13770" y="14525"/>
                  </a:lnTo>
                  <a:lnTo>
                    <a:pt x="13777" y="14524"/>
                  </a:lnTo>
                  <a:lnTo>
                    <a:pt x="13785" y="14522"/>
                  </a:lnTo>
                  <a:lnTo>
                    <a:pt x="13792" y="14520"/>
                  </a:lnTo>
                  <a:lnTo>
                    <a:pt x="13798" y="14517"/>
                  </a:lnTo>
                  <a:lnTo>
                    <a:pt x="13804" y="14513"/>
                  </a:lnTo>
                  <a:lnTo>
                    <a:pt x="13811" y="14509"/>
                  </a:lnTo>
                  <a:lnTo>
                    <a:pt x="13816" y="14504"/>
                  </a:lnTo>
                  <a:lnTo>
                    <a:pt x="13821" y="14497"/>
                  </a:lnTo>
                  <a:lnTo>
                    <a:pt x="13826" y="14492"/>
                  </a:lnTo>
                  <a:lnTo>
                    <a:pt x="13829" y="14486"/>
                  </a:lnTo>
                  <a:lnTo>
                    <a:pt x="13833" y="14479"/>
                  </a:lnTo>
                  <a:lnTo>
                    <a:pt x="13835" y="14472"/>
                  </a:lnTo>
                  <a:lnTo>
                    <a:pt x="13837" y="14465"/>
                  </a:lnTo>
                  <a:lnTo>
                    <a:pt x="13838" y="14457"/>
                  </a:lnTo>
                  <a:lnTo>
                    <a:pt x="13839" y="14450"/>
                  </a:lnTo>
                  <a:lnTo>
                    <a:pt x="13839" y="14018"/>
                  </a:lnTo>
                  <a:lnTo>
                    <a:pt x="13838" y="14015"/>
                  </a:lnTo>
                  <a:lnTo>
                    <a:pt x="13838" y="14012"/>
                  </a:lnTo>
                  <a:lnTo>
                    <a:pt x="13838" y="14010"/>
                  </a:lnTo>
                  <a:lnTo>
                    <a:pt x="13838" y="14007"/>
                  </a:lnTo>
                  <a:lnTo>
                    <a:pt x="13837" y="14004"/>
                  </a:lnTo>
                  <a:lnTo>
                    <a:pt x="13836" y="14002"/>
                  </a:lnTo>
                  <a:lnTo>
                    <a:pt x="13836" y="13999"/>
                  </a:lnTo>
                  <a:lnTo>
                    <a:pt x="13835" y="13996"/>
                  </a:lnTo>
                  <a:lnTo>
                    <a:pt x="13834" y="13994"/>
                  </a:lnTo>
                  <a:lnTo>
                    <a:pt x="13833" y="13991"/>
                  </a:lnTo>
                  <a:lnTo>
                    <a:pt x="13832" y="13989"/>
                  </a:lnTo>
                  <a:lnTo>
                    <a:pt x="13831" y="13986"/>
                  </a:lnTo>
                  <a:lnTo>
                    <a:pt x="13830" y="13984"/>
                  </a:lnTo>
                  <a:lnTo>
                    <a:pt x="13828" y="13981"/>
                  </a:lnTo>
                  <a:lnTo>
                    <a:pt x="13827" y="13979"/>
                  </a:lnTo>
                  <a:lnTo>
                    <a:pt x="13826" y="13977"/>
                  </a:lnTo>
                  <a:close/>
                  <a:moveTo>
                    <a:pt x="1542" y="11939"/>
                  </a:moveTo>
                  <a:lnTo>
                    <a:pt x="4069" y="11939"/>
                  </a:lnTo>
                  <a:lnTo>
                    <a:pt x="4076" y="11938"/>
                  </a:lnTo>
                  <a:lnTo>
                    <a:pt x="4083" y="11937"/>
                  </a:lnTo>
                  <a:lnTo>
                    <a:pt x="4091" y="11935"/>
                  </a:lnTo>
                  <a:lnTo>
                    <a:pt x="4097" y="11933"/>
                  </a:lnTo>
                  <a:lnTo>
                    <a:pt x="4104" y="11929"/>
                  </a:lnTo>
                  <a:lnTo>
                    <a:pt x="4110" y="11926"/>
                  </a:lnTo>
                  <a:lnTo>
                    <a:pt x="4116" y="11920"/>
                  </a:lnTo>
                  <a:lnTo>
                    <a:pt x="4121" y="11915"/>
                  </a:lnTo>
                  <a:lnTo>
                    <a:pt x="4126" y="11910"/>
                  </a:lnTo>
                  <a:lnTo>
                    <a:pt x="4130" y="11904"/>
                  </a:lnTo>
                  <a:lnTo>
                    <a:pt x="4134" y="11898"/>
                  </a:lnTo>
                  <a:lnTo>
                    <a:pt x="4137" y="11892"/>
                  </a:lnTo>
                  <a:lnTo>
                    <a:pt x="4139" y="11885"/>
                  </a:lnTo>
                  <a:lnTo>
                    <a:pt x="4141" y="11877"/>
                  </a:lnTo>
                  <a:lnTo>
                    <a:pt x="4142" y="11870"/>
                  </a:lnTo>
                  <a:lnTo>
                    <a:pt x="4143" y="11862"/>
                  </a:lnTo>
                  <a:lnTo>
                    <a:pt x="4143" y="11130"/>
                  </a:lnTo>
                  <a:lnTo>
                    <a:pt x="4142" y="11122"/>
                  </a:lnTo>
                  <a:lnTo>
                    <a:pt x="4141" y="11116"/>
                  </a:lnTo>
                  <a:lnTo>
                    <a:pt x="4140" y="11109"/>
                  </a:lnTo>
                  <a:lnTo>
                    <a:pt x="4137" y="11102"/>
                  </a:lnTo>
                  <a:lnTo>
                    <a:pt x="4135" y="11096"/>
                  </a:lnTo>
                  <a:lnTo>
                    <a:pt x="4131" y="11090"/>
                  </a:lnTo>
                  <a:lnTo>
                    <a:pt x="4128" y="11085"/>
                  </a:lnTo>
                  <a:lnTo>
                    <a:pt x="4123" y="11079"/>
                  </a:lnTo>
                  <a:lnTo>
                    <a:pt x="4119" y="11074"/>
                  </a:lnTo>
                  <a:lnTo>
                    <a:pt x="4113" y="11070"/>
                  </a:lnTo>
                  <a:lnTo>
                    <a:pt x="4108" y="11066"/>
                  </a:lnTo>
                  <a:lnTo>
                    <a:pt x="4102" y="11062"/>
                  </a:lnTo>
                  <a:lnTo>
                    <a:pt x="4096" y="11060"/>
                  </a:lnTo>
                  <a:lnTo>
                    <a:pt x="4089" y="11057"/>
                  </a:lnTo>
                  <a:lnTo>
                    <a:pt x="4083" y="11056"/>
                  </a:lnTo>
                  <a:lnTo>
                    <a:pt x="4076" y="11055"/>
                  </a:lnTo>
                  <a:lnTo>
                    <a:pt x="3786" y="11022"/>
                  </a:lnTo>
                  <a:lnTo>
                    <a:pt x="3510" y="10990"/>
                  </a:lnTo>
                  <a:lnTo>
                    <a:pt x="3248" y="10955"/>
                  </a:lnTo>
                  <a:lnTo>
                    <a:pt x="3000" y="10920"/>
                  </a:lnTo>
                  <a:lnTo>
                    <a:pt x="2766" y="10885"/>
                  </a:lnTo>
                  <a:lnTo>
                    <a:pt x="2547" y="10849"/>
                  </a:lnTo>
                  <a:lnTo>
                    <a:pt x="2343" y="10814"/>
                  </a:lnTo>
                  <a:lnTo>
                    <a:pt x="2156" y="10782"/>
                  </a:lnTo>
                  <a:lnTo>
                    <a:pt x="1985" y="10749"/>
                  </a:lnTo>
                  <a:lnTo>
                    <a:pt x="1832" y="10719"/>
                  </a:lnTo>
                  <a:lnTo>
                    <a:pt x="1695" y="10691"/>
                  </a:lnTo>
                  <a:lnTo>
                    <a:pt x="1577" y="10666"/>
                  </a:lnTo>
                  <a:lnTo>
                    <a:pt x="1477" y="10643"/>
                  </a:lnTo>
                  <a:lnTo>
                    <a:pt x="1396" y="10625"/>
                  </a:lnTo>
                  <a:lnTo>
                    <a:pt x="1334" y="10610"/>
                  </a:lnTo>
                  <a:lnTo>
                    <a:pt x="1293" y="10600"/>
                  </a:lnTo>
                  <a:lnTo>
                    <a:pt x="1293" y="152"/>
                  </a:lnTo>
                  <a:lnTo>
                    <a:pt x="12547" y="152"/>
                  </a:lnTo>
                  <a:lnTo>
                    <a:pt x="12547" y="10600"/>
                  </a:lnTo>
                  <a:lnTo>
                    <a:pt x="12508" y="10610"/>
                  </a:lnTo>
                  <a:lnTo>
                    <a:pt x="12447" y="10623"/>
                  </a:lnTo>
                  <a:lnTo>
                    <a:pt x="12367" y="10641"/>
                  </a:lnTo>
                  <a:lnTo>
                    <a:pt x="12267" y="10663"/>
                  </a:lnTo>
                  <a:lnTo>
                    <a:pt x="12149" y="10687"/>
                  </a:lnTo>
                  <a:lnTo>
                    <a:pt x="12011" y="10715"/>
                  </a:lnTo>
                  <a:lnTo>
                    <a:pt x="11857" y="10744"/>
                  </a:lnTo>
                  <a:lnTo>
                    <a:pt x="11685" y="10777"/>
                  </a:lnTo>
                  <a:lnTo>
                    <a:pt x="11496" y="10809"/>
                  </a:lnTo>
                  <a:lnTo>
                    <a:pt x="11291" y="10844"/>
                  </a:lnTo>
                  <a:lnTo>
                    <a:pt x="11071" y="10880"/>
                  </a:lnTo>
                  <a:lnTo>
                    <a:pt x="10836" y="10914"/>
                  </a:lnTo>
                  <a:lnTo>
                    <a:pt x="10587" y="10950"/>
                  </a:lnTo>
                  <a:lnTo>
                    <a:pt x="10326" y="10985"/>
                  </a:lnTo>
                  <a:lnTo>
                    <a:pt x="10050" y="11017"/>
                  </a:lnTo>
                  <a:lnTo>
                    <a:pt x="9763" y="11050"/>
                  </a:lnTo>
                  <a:lnTo>
                    <a:pt x="9755" y="11051"/>
                  </a:lnTo>
                  <a:lnTo>
                    <a:pt x="9749" y="11052"/>
                  </a:lnTo>
                  <a:lnTo>
                    <a:pt x="9742" y="11055"/>
                  </a:lnTo>
                  <a:lnTo>
                    <a:pt x="9736" y="11057"/>
                  </a:lnTo>
                  <a:lnTo>
                    <a:pt x="9730" y="11061"/>
                  </a:lnTo>
                  <a:lnTo>
                    <a:pt x="9725" y="11065"/>
                  </a:lnTo>
                  <a:lnTo>
                    <a:pt x="9719" y="11069"/>
                  </a:lnTo>
                  <a:lnTo>
                    <a:pt x="9715" y="11074"/>
                  </a:lnTo>
                  <a:lnTo>
                    <a:pt x="9710" y="11079"/>
                  </a:lnTo>
                  <a:lnTo>
                    <a:pt x="9707" y="11085"/>
                  </a:lnTo>
                  <a:lnTo>
                    <a:pt x="9703" y="11091"/>
                  </a:lnTo>
                  <a:lnTo>
                    <a:pt x="9701" y="11097"/>
                  </a:lnTo>
                  <a:lnTo>
                    <a:pt x="9698" y="11104"/>
                  </a:lnTo>
                  <a:lnTo>
                    <a:pt x="9696" y="11111"/>
                  </a:lnTo>
                  <a:lnTo>
                    <a:pt x="9695" y="11117"/>
                  </a:lnTo>
                  <a:lnTo>
                    <a:pt x="9695" y="11125"/>
                  </a:lnTo>
                  <a:lnTo>
                    <a:pt x="9695" y="11862"/>
                  </a:lnTo>
                  <a:lnTo>
                    <a:pt x="9695" y="11870"/>
                  </a:lnTo>
                  <a:lnTo>
                    <a:pt x="9696" y="11877"/>
                  </a:lnTo>
                  <a:lnTo>
                    <a:pt x="9699" y="11885"/>
                  </a:lnTo>
                  <a:lnTo>
                    <a:pt x="9701" y="11892"/>
                  </a:lnTo>
                  <a:lnTo>
                    <a:pt x="9705" y="11898"/>
                  </a:lnTo>
                  <a:lnTo>
                    <a:pt x="9708" y="11904"/>
                  </a:lnTo>
                  <a:lnTo>
                    <a:pt x="9713" y="11910"/>
                  </a:lnTo>
                  <a:lnTo>
                    <a:pt x="9718" y="11915"/>
                  </a:lnTo>
                  <a:lnTo>
                    <a:pt x="9723" y="11920"/>
                  </a:lnTo>
                  <a:lnTo>
                    <a:pt x="9729" y="11926"/>
                  </a:lnTo>
                  <a:lnTo>
                    <a:pt x="9735" y="11929"/>
                  </a:lnTo>
                  <a:lnTo>
                    <a:pt x="9741" y="11933"/>
                  </a:lnTo>
                  <a:lnTo>
                    <a:pt x="9748" y="11935"/>
                  </a:lnTo>
                  <a:lnTo>
                    <a:pt x="9756" y="11937"/>
                  </a:lnTo>
                  <a:lnTo>
                    <a:pt x="9763" y="11938"/>
                  </a:lnTo>
                  <a:lnTo>
                    <a:pt x="9771" y="11939"/>
                  </a:lnTo>
                  <a:lnTo>
                    <a:pt x="12298" y="11939"/>
                  </a:lnTo>
                  <a:lnTo>
                    <a:pt x="13688" y="14042"/>
                  </a:lnTo>
                  <a:lnTo>
                    <a:pt x="13688" y="14374"/>
                  </a:lnTo>
                  <a:lnTo>
                    <a:pt x="152" y="14374"/>
                  </a:lnTo>
                  <a:lnTo>
                    <a:pt x="152" y="14049"/>
                  </a:lnTo>
                  <a:lnTo>
                    <a:pt x="1542" y="11939"/>
                  </a:lnTo>
                  <a:close/>
                  <a:moveTo>
                    <a:pt x="75" y="14096"/>
                  </a:moveTo>
                  <a:lnTo>
                    <a:pt x="77" y="14095"/>
                  </a:lnTo>
                  <a:lnTo>
                    <a:pt x="79" y="14095"/>
                  </a:lnTo>
                  <a:lnTo>
                    <a:pt x="81" y="14095"/>
                  </a:lnTo>
                  <a:lnTo>
                    <a:pt x="83" y="14095"/>
                  </a:lnTo>
                  <a:lnTo>
                    <a:pt x="85" y="14094"/>
                  </a:lnTo>
                  <a:lnTo>
                    <a:pt x="87" y="14094"/>
                  </a:lnTo>
                  <a:lnTo>
                    <a:pt x="89" y="14094"/>
                  </a:lnTo>
                  <a:lnTo>
                    <a:pt x="91" y="14093"/>
                  </a:lnTo>
                  <a:lnTo>
                    <a:pt x="92" y="14092"/>
                  </a:lnTo>
                  <a:lnTo>
                    <a:pt x="94" y="14092"/>
                  </a:lnTo>
                  <a:lnTo>
                    <a:pt x="96" y="14091"/>
                  </a:lnTo>
                  <a:lnTo>
                    <a:pt x="98" y="14090"/>
                  </a:lnTo>
                  <a:lnTo>
                    <a:pt x="100" y="14090"/>
                  </a:lnTo>
                  <a:lnTo>
                    <a:pt x="102" y="14089"/>
                  </a:lnTo>
                  <a:lnTo>
                    <a:pt x="104" y="14088"/>
                  </a:lnTo>
                  <a:lnTo>
                    <a:pt x="107" y="14088"/>
                  </a:lnTo>
                  <a:lnTo>
                    <a:pt x="105" y="14088"/>
                  </a:lnTo>
                  <a:lnTo>
                    <a:pt x="103" y="14089"/>
                  </a:lnTo>
                  <a:lnTo>
                    <a:pt x="101" y="14090"/>
                  </a:lnTo>
                  <a:lnTo>
                    <a:pt x="99" y="14091"/>
                  </a:lnTo>
                  <a:lnTo>
                    <a:pt x="97" y="14092"/>
                  </a:lnTo>
                  <a:lnTo>
                    <a:pt x="95" y="14092"/>
                  </a:lnTo>
                  <a:lnTo>
                    <a:pt x="93" y="14093"/>
                  </a:lnTo>
                  <a:lnTo>
                    <a:pt x="91" y="14093"/>
                  </a:lnTo>
                  <a:lnTo>
                    <a:pt x="89" y="14094"/>
                  </a:lnTo>
                  <a:lnTo>
                    <a:pt x="87" y="14094"/>
                  </a:lnTo>
                  <a:lnTo>
                    <a:pt x="85" y="14095"/>
                  </a:lnTo>
                  <a:lnTo>
                    <a:pt x="83" y="14095"/>
                  </a:lnTo>
                  <a:lnTo>
                    <a:pt x="81" y="14095"/>
                  </a:lnTo>
                  <a:lnTo>
                    <a:pt x="79" y="14095"/>
                  </a:lnTo>
                  <a:lnTo>
                    <a:pt x="77" y="14095"/>
                  </a:lnTo>
                  <a:lnTo>
                    <a:pt x="75" y="14096"/>
                  </a:lnTo>
                  <a:close/>
                  <a:moveTo>
                    <a:pt x="46" y="13951"/>
                  </a:moveTo>
                  <a:lnTo>
                    <a:pt x="45" y="13951"/>
                  </a:lnTo>
                  <a:lnTo>
                    <a:pt x="45" y="13952"/>
                  </a:lnTo>
                  <a:lnTo>
                    <a:pt x="44" y="13952"/>
                  </a:lnTo>
                  <a:lnTo>
                    <a:pt x="44" y="13953"/>
                  </a:lnTo>
                  <a:lnTo>
                    <a:pt x="44" y="13952"/>
                  </a:lnTo>
                  <a:lnTo>
                    <a:pt x="45" y="13952"/>
                  </a:lnTo>
                  <a:lnTo>
                    <a:pt x="45" y="13951"/>
                  </a:lnTo>
                  <a:lnTo>
                    <a:pt x="46" y="139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 Box 66"/>
          <p:cNvSpPr/>
          <p:nvPr/>
        </p:nvSpPr>
        <p:spPr>
          <a:xfrm>
            <a:off x="2579400" y="6310440"/>
            <a:ext cx="72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新エントリシステ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2" descr="MCj02233500000[1]"/>
          <p:cNvPicPr/>
          <p:nvPr/>
        </p:nvPicPr>
        <p:blipFill>
          <a:blip r:embed="rId2"/>
          <a:stretch/>
        </p:blipFill>
        <p:spPr>
          <a:xfrm>
            <a:off x="4202280" y="2846520"/>
            <a:ext cx="433080" cy="3474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3"/>
          <p:cNvSpPr/>
          <p:nvPr/>
        </p:nvSpPr>
        <p:spPr>
          <a:xfrm>
            <a:off x="4226400" y="2662200"/>
            <a:ext cx="38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ＦＡＸ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6"/>
          <p:cNvSpPr/>
          <p:nvPr/>
        </p:nvSpPr>
        <p:spPr>
          <a:xfrm>
            <a:off x="7189920" y="2846520"/>
            <a:ext cx="360360" cy="1584360"/>
          </a:xfrm>
          <a:custGeom>
            <a:avLst/>
            <a:gdLst>
              <a:gd name="textAreaLeft" fmla="*/ 0 w 360360"/>
              <a:gd name="textAreaRight" fmla="*/ 129960 w 360360"/>
              <a:gd name="textAreaTop" fmla="*/ 37080 h 1584360"/>
              <a:gd name="textAreaBottom" fmla="*/ 154728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12"/>
                  <a:pt x="10800" y="1623"/>
                </a:cubicBezTo>
                <a:lnTo>
                  <a:pt x="10800" y="9177"/>
                </a:lnTo>
                <a:cubicBezTo>
                  <a:pt x="10800" y="9989"/>
                  <a:pt x="16200" y="10800"/>
                  <a:pt x="21600" y="10800"/>
                </a:cubicBezTo>
                <a:cubicBezTo>
                  <a:pt x="16200" y="10800"/>
                  <a:pt x="10800" y="11612"/>
                  <a:pt x="10800" y="12423"/>
                </a:cubicBezTo>
                <a:lnTo>
                  <a:pt x="10800" y="19977"/>
                </a:lnTo>
                <a:cubicBezTo>
                  <a:pt x="10800" y="2078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7"/>
          <p:cNvSpPr/>
          <p:nvPr/>
        </p:nvSpPr>
        <p:spPr>
          <a:xfrm>
            <a:off x="7755120" y="3532320"/>
            <a:ext cx="874080" cy="2005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コンサル希望時間に必ず連絡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AutoShape 78"/>
          <p:cNvCxnSpPr>
            <a:endCxn id="72" idx="0"/>
          </p:cNvCxnSpPr>
          <p:nvPr/>
        </p:nvCxnSpPr>
        <p:spPr>
          <a:xfrm rot="5400000">
            <a:off x="312120" y="1928520"/>
            <a:ext cx="1296360" cy="696240"/>
          </a:xfrm>
          <a:prstGeom prst="bentConnector3">
            <a:avLst>
              <a:gd name="adj1" fmla="val -8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Line 79"/>
          <p:cNvSpPr/>
          <p:nvPr/>
        </p:nvSpPr>
        <p:spPr>
          <a:xfrm>
            <a:off x="1030320" y="31417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1"/>
          <p:cNvSpPr/>
          <p:nvPr/>
        </p:nvSpPr>
        <p:spPr>
          <a:xfrm>
            <a:off x="2729880" y="102384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事務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82"/>
          <p:cNvSpPr/>
          <p:nvPr/>
        </p:nvSpPr>
        <p:spPr>
          <a:xfrm>
            <a:off x="2268360" y="5156280"/>
            <a:ext cx="2592720" cy="649080"/>
          </a:xfrm>
          <a:prstGeom prst="downArrow">
            <a:avLst>
              <a:gd name="adj1" fmla="val 53009"/>
              <a:gd name="adj2" fmla="val 7610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正規取次処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5"/>
          <p:cNvSpPr/>
          <p:nvPr/>
        </p:nvSpPr>
        <p:spPr>
          <a:xfrm>
            <a:off x="7486560" y="372600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＜最短１時間後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7"/>
          <p:cNvSpPr/>
          <p:nvPr/>
        </p:nvSpPr>
        <p:spPr>
          <a:xfrm>
            <a:off x="5460840" y="4502160"/>
            <a:ext cx="1657440" cy="23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申込取次票（コンサル結果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8" descr="MCj02233500000[1]"/>
          <p:cNvPicPr/>
          <p:nvPr/>
        </p:nvPicPr>
        <p:blipFill>
          <a:blip r:embed="rId3"/>
          <a:stretch/>
        </p:blipFill>
        <p:spPr>
          <a:xfrm>
            <a:off x="4164120" y="4502160"/>
            <a:ext cx="433440" cy="3477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89"/>
          <p:cNvSpPr/>
          <p:nvPr/>
        </p:nvSpPr>
        <p:spPr>
          <a:xfrm>
            <a:off x="4191480" y="4397400"/>
            <a:ext cx="38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ＦＡＸ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90"/>
          <p:cNvSpPr/>
          <p:nvPr/>
        </p:nvSpPr>
        <p:spPr>
          <a:xfrm>
            <a:off x="2581200" y="4502160"/>
            <a:ext cx="790560" cy="23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受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AutoShape 91"/>
          <p:cNvCxnSpPr>
            <a:stCxn id="130" idx="1"/>
            <a:endCxn id="133" idx="3"/>
          </p:cNvCxnSpPr>
          <p:nvPr/>
        </p:nvCxnSpPr>
        <p:spPr>
          <a:xfrm flipH="1">
            <a:off x="3371040" y="4620960"/>
            <a:ext cx="2089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Line 92"/>
          <p:cNvSpPr/>
          <p:nvPr/>
        </p:nvSpPr>
        <p:spPr>
          <a:xfrm>
            <a:off x="3203640" y="616428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4"/>
          <p:cNvSpPr/>
          <p:nvPr/>
        </p:nvSpPr>
        <p:spPr>
          <a:xfrm>
            <a:off x="4113720" y="4718160"/>
            <a:ext cx="5464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コンサル結果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95"/>
          <p:cNvSpPr/>
          <p:nvPr/>
        </p:nvSpPr>
        <p:spPr>
          <a:xfrm>
            <a:off x="5435640" y="6040440"/>
            <a:ext cx="1657440" cy="23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即応オーダ括り付け／ＳＯ処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97"/>
          <p:cNvSpPr/>
          <p:nvPr/>
        </p:nvSpPr>
        <p:spPr>
          <a:xfrm>
            <a:off x="1258920" y="2565360"/>
            <a:ext cx="936720" cy="216000"/>
          </a:xfrm>
          <a:prstGeom prst="wedgeRectCallout">
            <a:avLst>
              <a:gd name="adj1" fmla="val 4069"/>
              <a:gd name="adj2" fmla="val 115439"/>
            </a:avLst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連絡先なるべく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２つヒアリング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98"/>
          <p:cNvSpPr/>
          <p:nvPr/>
        </p:nvSpPr>
        <p:spPr>
          <a:xfrm>
            <a:off x="1908000" y="3500280"/>
            <a:ext cx="936720" cy="216000"/>
          </a:xfrm>
          <a:prstGeom prst="wedgeRectCallout">
            <a:avLst>
              <a:gd name="adj1" fmla="val -11018"/>
              <a:gd name="adj2" fmla="val -157351"/>
            </a:avLst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事前に提供判定実施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０１２０－６６６－６１２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9"/>
          <p:cNvSpPr/>
          <p:nvPr/>
        </p:nvSpPr>
        <p:spPr>
          <a:xfrm>
            <a:off x="8196480" y="47520"/>
            <a:ext cx="798120" cy="231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ファミリータイプ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95400" y="620640"/>
            <a:ext cx="896436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0" y="-9360"/>
            <a:ext cx="560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工事日即決スキーム業務フロー（代理店コンサル版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96840" y="625320"/>
            <a:ext cx="8964720" cy="604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1116000" y="620640"/>
            <a:ext cx="0" cy="604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349560" y="83664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お客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3564000" y="620640"/>
            <a:ext cx="0" cy="604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2020680" y="6285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代理店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1116000" y="981000"/>
            <a:ext cx="795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5810760" y="6462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ＮＴＴ西日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5709240" y="100980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兵庫コンサルセン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3"/>
          <p:cNvSpPr/>
          <p:nvPr/>
        </p:nvSpPr>
        <p:spPr>
          <a:xfrm>
            <a:off x="2327400" y="981000"/>
            <a:ext cx="0" cy="568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1433160" y="10270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営業担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5"/>
          <p:cNvSpPr/>
          <p:nvPr/>
        </p:nvSpPr>
        <p:spPr>
          <a:xfrm>
            <a:off x="1309680" y="1531800"/>
            <a:ext cx="86508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商品勧奨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6"/>
          <p:cNvSpPr/>
          <p:nvPr/>
        </p:nvSpPr>
        <p:spPr>
          <a:xfrm>
            <a:off x="179280" y="2924280"/>
            <a:ext cx="865440" cy="433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申込意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7"/>
          <p:cNvSpPr/>
          <p:nvPr/>
        </p:nvSpPr>
        <p:spPr>
          <a:xfrm>
            <a:off x="1284120" y="2917800"/>
            <a:ext cx="865440" cy="433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お客様情報確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本人性確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8"/>
          <p:cNvSpPr/>
          <p:nvPr/>
        </p:nvSpPr>
        <p:spPr>
          <a:xfrm>
            <a:off x="2509920" y="2917800"/>
            <a:ext cx="865080" cy="433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取次票記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9"/>
          <p:cNvSpPr/>
          <p:nvPr/>
        </p:nvSpPr>
        <p:spPr>
          <a:xfrm>
            <a:off x="204840" y="3573360"/>
            <a:ext cx="792000" cy="236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工事日決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AutoShape 20"/>
          <p:cNvCxnSpPr>
            <a:stCxn id="160" idx="1"/>
            <a:endCxn id="158" idx="3"/>
          </p:cNvCxnSpPr>
          <p:nvPr/>
        </p:nvCxnSpPr>
        <p:spPr>
          <a:xfrm flipH="1" flipV="1">
            <a:off x="996480" y="3691800"/>
            <a:ext cx="446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Rectangle 21"/>
          <p:cNvSpPr/>
          <p:nvPr/>
        </p:nvSpPr>
        <p:spPr>
          <a:xfrm>
            <a:off x="1258920" y="3576600"/>
            <a:ext cx="1008000" cy="25884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ff3300"/>
                </a:solidFill>
                <a:latin typeface="HGP創英角ｺﾞｼｯｸUB"/>
                <a:ea typeface="HGP創英角ｺﾞｼｯｸUB"/>
              </a:rPr>
              <a:t>コンサルテ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AutoShape 22"/>
          <p:cNvCxnSpPr>
            <a:stCxn id="157" idx="3"/>
            <a:endCxn id="163" idx="1"/>
          </p:cNvCxnSpPr>
          <p:nvPr/>
        </p:nvCxnSpPr>
        <p:spPr>
          <a:xfrm flipV="1">
            <a:off x="3375000" y="2447280"/>
            <a:ext cx="2086560" cy="687960"/>
          </a:xfrm>
          <a:prstGeom prst="bentConnector3">
            <a:avLst>
              <a:gd name="adj1" fmla="val 4992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AutoShape 23"/>
          <p:cNvCxnSpPr>
            <a:stCxn id="156" idx="3"/>
            <a:endCxn id="157" idx="1"/>
          </p:cNvCxnSpPr>
          <p:nvPr/>
        </p:nvCxnSpPr>
        <p:spPr>
          <a:xfrm>
            <a:off x="2149200" y="3134880"/>
            <a:ext cx="36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65" name="Picture 24" descr="MCj03979610000[1]"/>
          <p:cNvPicPr/>
          <p:nvPr/>
        </p:nvPicPr>
        <p:blipFill>
          <a:blip r:embed="rId1"/>
          <a:stretch/>
        </p:blipFill>
        <p:spPr>
          <a:xfrm>
            <a:off x="2162160" y="3016080"/>
            <a:ext cx="246240" cy="247680"/>
          </a:xfrm>
          <a:prstGeom prst="rect">
            <a:avLst/>
          </a:prstGeom>
          <a:ln w="0">
            <a:noFill/>
          </a:ln>
        </p:spPr>
      </p:pic>
      <p:cxnSp>
        <p:nvCxnSpPr>
          <p:cNvPr id="166" name="AutoShape 25"/>
          <p:cNvCxnSpPr>
            <a:stCxn id="163" idx="2"/>
            <a:endCxn id="160" idx="0"/>
          </p:cNvCxnSpPr>
          <p:nvPr/>
        </p:nvCxnSpPr>
        <p:spPr>
          <a:xfrm>
            <a:off x="6289200" y="2565360"/>
            <a:ext cx="108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AutoShape 26"/>
          <p:cNvSpPr/>
          <p:nvPr/>
        </p:nvSpPr>
        <p:spPr>
          <a:xfrm>
            <a:off x="5460840" y="2328840"/>
            <a:ext cx="1657440" cy="23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受電・お客様情報確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7"/>
          <p:cNvSpPr/>
          <p:nvPr/>
        </p:nvSpPr>
        <p:spPr>
          <a:xfrm>
            <a:off x="5460840" y="2736720"/>
            <a:ext cx="1657440" cy="23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受付簿記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8"/>
          <p:cNvSpPr/>
          <p:nvPr/>
        </p:nvSpPr>
        <p:spPr>
          <a:xfrm>
            <a:off x="5451480" y="3159000"/>
            <a:ext cx="1657440" cy="23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コンサル資料準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9"/>
          <p:cNvSpPr/>
          <p:nvPr/>
        </p:nvSpPr>
        <p:spPr>
          <a:xfrm>
            <a:off x="5460840" y="3573360"/>
            <a:ext cx="1657440" cy="23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コンサル対応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30"/>
          <p:cNvGrpSpPr/>
          <p:nvPr/>
        </p:nvGrpSpPr>
        <p:grpSpPr>
          <a:xfrm>
            <a:off x="2754360" y="6053040"/>
            <a:ext cx="431280" cy="358920"/>
            <a:chOff x="2754360" y="6053040"/>
            <a:chExt cx="431280" cy="358920"/>
          </a:xfrm>
        </p:grpSpPr>
        <p:sp>
          <p:nvSpPr>
            <p:cNvPr id="170" name="Freeform 31"/>
            <p:cNvSpPr/>
            <p:nvPr/>
          </p:nvSpPr>
          <p:spPr>
            <a:xfrm>
              <a:off x="3087720" y="6365520"/>
              <a:ext cx="64440" cy="32400"/>
            </a:xfrm>
            <a:custGeom>
              <a:avLst/>
              <a:gdLst/>
              <a:ahLst/>
              <a:rect l="l" t="t" r="r" b="b"/>
              <a:pathLst>
                <a:path w="2432" h="1301">
                  <a:moveTo>
                    <a:pt x="2410" y="1173"/>
                  </a:moveTo>
                  <a:lnTo>
                    <a:pt x="1270" y="23"/>
                  </a:lnTo>
                  <a:lnTo>
                    <a:pt x="1267" y="20"/>
                  </a:lnTo>
                  <a:lnTo>
                    <a:pt x="1264" y="18"/>
                  </a:lnTo>
                  <a:lnTo>
                    <a:pt x="1260" y="15"/>
                  </a:lnTo>
                  <a:lnTo>
                    <a:pt x="1257" y="13"/>
                  </a:lnTo>
                  <a:lnTo>
                    <a:pt x="1254" y="11"/>
                  </a:lnTo>
                  <a:lnTo>
                    <a:pt x="1251" y="8"/>
                  </a:lnTo>
                  <a:lnTo>
                    <a:pt x="1248" y="7"/>
                  </a:lnTo>
                  <a:lnTo>
                    <a:pt x="1244" y="5"/>
                  </a:lnTo>
                  <a:lnTo>
                    <a:pt x="1241" y="4"/>
                  </a:lnTo>
                  <a:lnTo>
                    <a:pt x="1237" y="3"/>
                  </a:lnTo>
                  <a:lnTo>
                    <a:pt x="1234" y="2"/>
                  </a:lnTo>
                  <a:lnTo>
                    <a:pt x="1230" y="1"/>
                  </a:lnTo>
                  <a:lnTo>
                    <a:pt x="1227" y="0"/>
                  </a:lnTo>
                  <a:lnTo>
                    <a:pt x="1223" y="0"/>
                  </a:lnTo>
                  <a:lnTo>
                    <a:pt x="1219" y="0"/>
                  </a:lnTo>
                  <a:lnTo>
                    <a:pt x="1216" y="0"/>
                  </a:lnTo>
                  <a:lnTo>
                    <a:pt x="75" y="0"/>
                  </a:lnTo>
                  <a:lnTo>
                    <a:pt x="67" y="0"/>
                  </a:lnTo>
                  <a:lnTo>
                    <a:pt x="60" y="1"/>
                  </a:lnTo>
                  <a:lnTo>
                    <a:pt x="52" y="3"/>
                  </a:lnTo>
                  <a:lnTo>
                    <a:pt x="46" y="5"/>
                  </a:lnTo>
                  <a:lnTo>
                    <a:pt x="39" y="9"/>
                  </a:lnTo>
                  <a:lnTo>
                    <a:pt x="33" y="13"/>
                  </a:lnTo>
                  <a:lnTo>
                    <a:pt x="27" y="18"/>
                  </a:lnTo>
                  <a:lnTo>
                    <a:pt x="22" y="23"/>
                  </a:lnTo>
                  <a:lnTo>
                    <a:pt x="17" y="28"/>
                  </a:lnTo>
                  <a:lnTo>
                    <a:pt x="13" y="34"/>
                  </a:lnTo>
                  <a:lnTo>
                    <a:pt x="8" y="40"/>
                  </a:lnTo>
                  <a:lnTo>
                    <a:pt x="5" y="46"/>
                  </a:lnTo>
                  <a:lnTo>
                    <a:pt x="3" y="53"/>
                  </a:lnTo>
                  <a:lnTo>
                    <a:pt x="1" y="61"/>
                  </a:lnTo>
                  <a:lnTo>
                    <a:pt x="0" y="69"/>
                  </a:lnTo>
                  <a:lnTo>
                    <a:pt x="0" y="77"/>
                  </a:lnTo>
                  <a:lnTo>
                    <a:pt x="0" y="84"/>
                  </a:lnTo>
                  <a:lnTo>
                    <a:pt x="1" y="91"/>
                  </a:lnTo>
                  <a:lnTo>
                    <a:pt x="3" y="99"/>
                  </a:lnTo>
                  <a:lnTo>
                    <a:pt x="5" y="105"/>
                  </a:lnTo>
                  <a:lnTo>
                    <a:pt x="8" y="112"/>
                  </a:lnTo>
                  <a:lnTo>
                    <a:pt x="13" y="119"/>
                  </a:lnTo>
                  <a:lnTo>
                    <a:pt x="17" y="125"/>
                  </a:lnTo>
                  <a:lnTo>
                    <a:pt x="22" y="130"/>
                  </a:lnTo>
                  <a:lnTo>
                    <a:pt x="27" y="135"/>
                  </a:lnTo>
                  <a:lnTo>
                    <a:pt x="33" y="139"/>
                  </a:lnTo>
                  <a:lnTo>
                    <a:pt x="39" y="143"/>
                  </a:lnTo>
                  <a:lnTo>
                    <a:pt x="46" y="146"/>
                  </a:lnTo>
                  <a:lnTo>
                    <a:pt x="52" y="148"/>
                  </a:lnTo>
                  <a:lnTo>
                    <a:pt x="60" y="150"/>
                  </a:lnTo>
                  <a:lnTo>
                    <a:pt x="67" y="151"/>
                  </a:lnTo>
                  <a:lnTo>
                    <a:pt x="75" y="152"/>
                  </a:lnTo>
                  <a:lnTo>
                    <a:pt x="1185" y="152"/>
                  </a:lnTo>
                  <a:lnTo>
                    <a:pt x="2303" y="1280"/>
                  </a:lnTo>
                  <a:lnTo>
                    <a:pt x="2308" y="1285"/>
                  </a:lnTo>
                  <a:lnTo>
                    <a:pt x="2314" y="1289"/>
                  </a:lnTo>
                  <a:lnTo>
                    <a:pt x="2321" y="1293"/>
                  </a:lnTo>
                  <a:lnTo>
                    <a:pt x="2327" y="1296"/>
                  </a:lnTo>
                  <a:lnTo>
                    <a:pt x="2334" y="1298"/>
                  </a:lnTo>
                  <a:lnTo>
                    <a:pt x="2342" y="1300"/>
                  </a:lnTo>
                  <a:lnTo>
                    <a:pt x="2349" y="1301"/>
                  </a:lnTo>
                  <a:lnTo>
                    <a:pt x="2357" y="1301"/>
                  </a:lnTo>
                  <a:lnTo>
                    <a:pt x="2364" y="1301"/>
                  </a:lnTo>
                  <a:lnTo>
                    <a:pt x="2371" y="1300"/>
                  </a:lnTo>
                  <a:lnTo>
                    <a:pt x="2378" y="1298"/>
                  </a:lnTo>
                  <a:lnTo>
                    <a:pt x="2385" y="1296"/>
                  </a:lnTo>
                  <a:lnTo>
                    <a:pt x="2391" y="1293"/>
                  </a:lnTo>
                  <a:lnTo>
                    <a:pt x="2398" y="1289"/>
                  </a:lnTo>
                  <a:lnTo>
                    <a:pt x="2404" y="1285"/>
                  </a:lnTo>
                  <a:lnTo>
                    <a:pt x="2410" y="1280"/>
                  </a:lnTo>
                  <a:lnTo>
                    <a:pt x="2415" y="1273"/>
                  </a:lnTo>
                  <a:lnTo>
                    <a:pt x="2419" y="1267"/>
                  </a:lnTo>
                  <a:lnTo>
                    <a:pt x="2423" y="1261"/>
                  </a:lnTo>
                  <a:lnTo>
                    <a:pt x="2427" y="1254"/>
                  </a:lnTo>
                  <a:lnTo>
                    <a:pt x="2429" y="1247"/>
                  </a:lnTo>
                  <a:lnTo>
                    <a:pt x="2431" y="1240"/>
                  </a:lnTo>
                  <a:lnTo>
                    <a:pt x="2432" y="1233"/>
                  </a:lnTo>
                  <a:lnTo>
                    <a:pt x="2432" y="1226"/>
                  </a:lnTo>
                  <a:lnTo>
                    <a:pt x="2432" y="1218"/>
                  </a:lnTo>
                  <a:lnTo>
                    <a:pt x="2431" y="1211"/>
                  </a:lnTo>
                  <a:lnTo>
                    <a:pt x="2429" y="1204"/>
                  </a:lnTo>
                  <a:lnTo>
                    <a:pt x="2427" y="1197"/>
                  </a:lnTo>
                  <a:lnTo>
                    <a:pt x="2423" y="1190"/>
                  </a:lnTo>
                  <a:lnTo>
                    <a:pt x="2419" y="1184"/>
                  </a:lnTo>
                  <a:lnTo>
                    <a:pt x="2415" y="1178"/>
                  </a:lnTo>
                  <a:lnTo>
                    <a:pt x="2410" y="1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32"/>
            <p:cNvSpPr/>
            <p:nvPr/>
          </p:nvSpPr>
          <p:spPr>
            <a:xfrm>
              <a:off x="3130920" y="6402600"/>
              <a:ext cx="52920" cy="7920"/>
            </a:xfrm>
            <a:prstGeom prst="rect">
              <a:avLst/>
            </a:prstGeom>
            <a:solidFill>
              <a:srgbClr val="e6e6df"/>
            </a:solidFill>
            <a:ln w="6480">
              <a:solidFill>
                <a:srgbClr val="8080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33"/>
            <p:cNvSpPr/>
            <p:nvPr/>
          </p:nvSpPr>
          <p:spPr>
            <a:xfrm>
              <a:off x="3130920" y="6378480"/>
              <a:ext cx="52920" cy="24120"/>
            </a:xfrm>
            <a:custGeom>
              <a:avLst/>
              <a:gdLst/>
              <a:ahLst/>
              <a:rect l="l" t="t" r="r" b="b"/>
              <a:pathLst>
                <a:path w="1997" h="1006">
                  <a:moveTo>
                    <a:pt x="1997" y="1006"/>
                  </a:moveTo>
                  <a:lnTo>
                    <a:pt x="1991" y="903"/>
                  </a:lnTo>
                  <a:lnTo>
                    <a:pt x="1976" y="803"/>
                  </a:lnTo>
                  <a:lnTo>
                    <a:pt x="1952" y="706"/>
                  </a:lnTo>
                  <a:lnTo>
                    <a:pt x="1918" y="614"/>
                  </a:lnTo>
                  <a:lnTo>
                    <a:pt x="1876" y="526"/>
                  </a:lnTo>
                  <a:lnTo>
                    <a:pt x="1826" y="443"/>
                  </a:lnTo>
                  <a:lnTo>
                    <a:pt x="1769" y="366"/>
                  </a:lnTo>
                  <a:lnTo>
                    <a:pt x="1704" y="295"/>
                  </a:lnTo>
                  <a:lnTo>
                    <a:pt x="1633" y="229"/>
                  </a:lnTo>
                  <a:lnTo>
                    <a:pt x="1556" y="171"/>
                  </a:lnTo>
                  <a:lnTo>
                    <a:pt x="1474" y="121"/>
                  </a:lnTo>
                  <a:lnTo>
                    <a:pt x="1386" y="78"/>
                  </a:lnTo>
                  <a:lnTo>
                    <a:pt x="1294" y="45"/>
                  </a:lnTo>
                  <a:lnTo>
                    <a:pt x="1199" y="20"/>
                  </a:lnTo>
                  <a:lnTo>
                    <a:pt x="1100" y="5"/>
                  </a:lnTo>
                  <a:lnTo>
                    <a:pt x="998" y="0"/>
                  </a:lnTo>
                  <a:lnTo>
                    <a:pt x="896" y="5"/>
                  </a:lnTo>
                  <a:lnTo>
                    <a:pt x="797" y="20"/>
                  </a:lnTo>
                  <a:lnTo>
                    <a:pt x="701" y="45"/>
                  </a:lnTo>
                  <a:lnTo>
                    <a:pt x="609" y="78"/>
                  </a:lnTo>
                  <a:lnTo>
                    <a:pt x="522" y="121"/>
                  </a:lnTo>
                  <a:lnTo>
                    <a:pt x="440" y="171"/>
                  </a:lnTo>
                  <a:lnTo>
                    <a:pt x="363" y="229"/>
                  </a:lnTo>
                  <a:lnTo>
                    <a:pt x="292" y="295"/>
                  </a:lnTo>
                  <a:lnTo>
                    <a:pt x="227" y="366"/>
                  </a:lnTo>
                  <a:lnTo>
                    <a:pt x="170" y="443"/>
                  </a:lnTo>
                  <a:lnTo>
                    <a:pt x="120" y="526"/>
                  </a:lnTo>
                  <a:lnTo>
                    <a:pt x="78" y="614"/>
                  </a:lnTo>
                  <a:lnTo>
                    <a:pt x="44" y="706"/>
                  </a:lnTo>
                  <a:lnTo>
                    <a:pt x="20" y="803"/>
                  </a:lnTo>
                  <a:lnTo>
                    <a:pt x="5" y="903"/>
                  </a:lnTo>
                  <a:lnTo>
                    <a:pt x="0" y="1006"/>
                  </a:lnTo>
                  <a:lnTo>
                    <a:pt x="1997" y="1006"/>
                  </a:lnTo>
                  <a:close/>
                </a:path>
              </a:pathLst>
            </a:custGeom>
            <a:solidFill>
              <a:srgbClr val="e6e6df"/>
            </a:solidFill>
            <a:ln w="6480">
              <a:solidFill>
                <a:srgbClr val="8080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34"/>
            <p:cNvSpPr/>
            <p:nvPr/>
          </p:nvSpPr>
          <p:spPr>
            <a:xfrm>
              <a:off x="2756520" y="6399360"/>
              <a:ext cx="362880" cy="11520"/>
            </a:xfrm>
            <a:prstGeom prst="rect">
              <a:avLst/>
            </a:prstGeom>
            <a:solidFill>
              <a:srgbClr val="e6e6df"/>
            </a:solidFill>
            <a:ln w="6480">
              <a:solidFill>
                <a:srgbClr val="8080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35"/>
            <p:cNvSpPr/>
            <p:nvPr/>
          </p:nvSpPr>
          <p:spPr>
            <a:xfrm>
              <a:off x="2862360" y="6326280"/>
              <a:ext cx="151200" cy="19440"/>
            </a:xfrm>
            <a:prstGeom prst="rect">
              <a:avLst/>
            </a:prstGeom>
            <a:solidFill>
              <a:srgbClr val="e6e6df"/>
            </a:solidFill>
            <a:ln w="6480">
              <a:solidFill>
                <a:srgbClr val="8080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36"/>
            <p:cNvSpPr/>
            <p:nvPr/>
          </p:nvSpPr>
          <p:spPr>
            <a:xfrm>
              <a:off x="2793240" y="6346080"/>
              <a:ext cx="288000" cy="1080"/>
            </a:xfrm>
            <a:custGeom>
              <a:avLst/>
              <a:gdLst/>
              <a:ahLst/>
              <a:rect l="l" t="t" r="r" b="b"/>
              <a:pathLst>
                <a:path w="10836" h="1">
                  <a:moveTo>
                    <a:pt x="0" y="0"/>
                  </a:moveTo>
                  <a:lnTo>
                    <a:pt x="108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7e2"/>
            </a:solidFill>
            <a:ln w="6480">
              <a:solidFill>
                <a:srgbClr val="7f7c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37"/>
            <p:cNvSpPr/>
            <p:nvPr/>
          </p:nvSpPr>
          <p:spPr>
            <a:xfrm>
              <a:off x="2756520" y="6346080"/>
              <a:ext cx="362880" cy="53280"/>
            </a:xfrm>
            <a:custGeom>
              <a:avLst/>
              <a:gdLst/>
              <a:ahLst/>
              <a:rect l="l" t="t" r="r" b="b"/>
              <a:pathLst>
                <a:path w="13683" h="2156">
                  <a:moveTo>
                    <a:pt x="13683" y="2156"/>
                  </a:moveTo>
                  <a:lnTo>
                    <a:pt x="12258" y="0"/>
                  </a:lnTo>
                  <a:lnTo>
                    <a:pt x="1422" y="0"/>
                  </a:lnTo>
                  <a:lnTo>
                    <a:pt x="0" y="2156"/>
                  </a:lnTo>
                  <a:lnTo>
                    <a:pt x="13683" y="2156"/>
                  </a:lnTo>
                  <a:close/>
                </a:path>
              </a:pathLst>
            </a:custGeom>
            <a:solidFill>
              <a:srgbClr val="e6e6df"/>
            </a:solidFill>
            <a:ln w="6480">
              <a:solidFill>
                <a:srgbClr val="8080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38"/>
            <p:cNvSpPr/>
            <p:nvPr/>
          </p:nvSpPr>
          <p:spPr>
            <a:xfrm>
              <a:off x="2912040" y="6378480"/>
              <a:ext cx="22320" cy="1008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39"/>
            <p:cNvSpPr/>
            <p:nvPr/>
          </p:nvSpPr>
          <p:spPr>
            <a:xfrm>
              <a:off x="2941560" y="6378480"/>
              <a:ext cx="23040" cy="1008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40"/>
            <p:cNvSpPr/>
            <p:nvPr/>
          </p:nvSpPr>
          <p:spPr>
            <a:xfrm>
              <a:off x="2972520" y="6378480"/>
              <a:ext cx="21960" cy="1008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41"/>
            <p:cNvSpPr/>
            <p:nvPr/>
          </p:nvSpPr>
          <p:spPr>
            <a:xfrm>
              <a:off x="3002040" y="6378480"/>
              <a:ext cx="23040" cy="1008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42"/>
            <p:cNvSpPr/>
            <p:nvPr/>
          </p:nvSpPr>
          <p:spPr>
            <a:xfrm>
              <a:off x="3032640" y="6378480"/>
              <a:ext cx="22320" cy="1008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43"/>
            <p:cNvSpPr/>
            <p:nvPr/>
          </p:nvSpPr>
          <p:spPr>
            <a:xfrm>
              <a:off x="3063240" y="6378480"/>
              <a:ext cx="22320" cy="1008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44"/>
            <p:cNvSpPr/>
            <p:nvPr/>
          </p:nvSpPr>
          <p:spPr>
            <a:xfrm>
              <a:off x="2790360" y="6378480"/>
              <a:ext cx="23040" cy="1008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45"/>
            <p:cNvSpPr/>
            <p:nvPr/>
          </p:nvSpPr>
          <p:spPr>
            <a:xfrm>
              <a:off x="2820960" y="6378480"/>
              <a:ext cx="22320" cy="1008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46"/>
            <p:cNvSpPr/>
            <p:nvPr/>
          </p:nvSpPr>
          <p:spPr>
            <a:xfrm>
              <a:off x="2851560" y="6378480"/>
              <a:ext cx="22320" cy="1008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47"/>
            <p:cNvSpPr/>
            <p:nvPr/>
          </p:nvSpPr>
          <p:spPr>
            <a:xfrm>
              <a:off x="2881080" y="6378480"/>
              <a:ext cx="22320" cy="1008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48"/>
            <p:cNvSpPr/>
            <p:nvPr/>
          </p:nvSpPr>
          <p:spPr>
            <a:xfrm>
              <a:off x="2926800" y="6356520"/>
              <a:ext cx="22320" cy="1152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49"/>
            <p:cNvSpPr/>
            <p:nvPr/>
          </p:nvSpPr>
          <p:spPr>
            <a:xfrm>
              <a:off x="2956680" y="6356520"/>
              <a:ext cx="23040" cy="1152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50"/>
            <p:cNvSpPr/>
            <p:nvPr/>
          </p:nvSpPr>
          <p:spPr>
            <a:xfrm>
              <a:off x="2986920" y="6356520"/>
              <a:ext cx="22320" cy="1152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51"/>
            <p:cNvSpPr/>
            <p:nvPr/>
          </p:nvSpPr>
          <p:spPr>
            <a:xfrm>
              <a:off x="3016800" y="6356520"/>
              <a:ext cx="23040" cy="1152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52"/>
            <p:cNvSpPr/>
            <p:nvPr/>
          </p:nvSpPr>
          <p:spPr>
            <a:xfrm>
              <a:off x="3047400" y="6356520"/>
              <a:ext cx="21960" cy="1152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53"/>
            <p:cNvSpPr/>
            <p:nvPr/>
          </p:nvSpPr>
          <p:spPr>
            <a:xfrm>
              <a:off x="2806200" y="6356520"/>
              <a:ext cx="22320" cy="1152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54"/>
            <p:cNvSpPr/>
            <p:nvPr/>
          </p:nvSpPr>
          <p:spPr>
            <a:xfrm>
              <a:off x="2835720" y="6356520"/>
              <a:ext cx="23040" cy="1152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55"/>
            <p:cNvSpPr/>
            <p:nvPr/>
          </p:nvSpPr>
          <p:spPr>
            <a:xfrm>
              <a:off x="2866680" y="6356520"/>
              <a:ext cx="21960" cy="1152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56"/>
            <p:cNvSpPr/>
            <p:nvPr/>
          </p:nvSpPr>
          <p:spPr>
            <a:xfrm>
              <a:off x="2896200" y="6356520"/>
              <a:ext cx="23040" cy="1152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57"/>
            <p:cNvSpPr/>
            <p:nvPr/>
          </p:nvSpPr>
          <p:spPr>
            <a:xfrm>
              <a:off x="3128760" y="6376320"/>
              <a:ext cx="56880" cy="35640"/>
            </a:xfrm>
            <a:custGeom>
              <a:avLst/>
              <a:gdLst/>
              <a:ahLst/>
              <a:rect l="l" t="t" r="r" b="b"/>
              <a:pathLst>
                <a:path w="2147" h="1445">
                  <a:moveTo>
                    <a:pt x="1832" y="317"/>
                  </a:moveTo>
                  <a:lnTo>
                    <a:pt x="1793" y="279"/>
                  </a:lnTo>
                  <a:lnTo>
                    <a:pt x="1753" y="244"/>
                  </a:lnTo>
                  <a:lnTo>
                    <a:pt x="1711" y="212"/>
                  </a:lnTo>
                  <a:lnTo>
                    <a:pt x="1669" y="181"/>
                  </a:lnTo>
                  <a:lnTo>
                    <a:pt x="1624" y="152"/>
                  </a:lnTo>
                  <a:lnTo>
                    <a:pt x="1579" y="126"/>
                  </a:lnTo>
                  <a:lnTo>
                    <a:pt x="1532" y="102"/>
                  </a:lnTo>
                  <a:lnTo>
                    <a:pt x="1485" y="81"/>
                  </a:lnTo>
                  <a:lnTo>
                    <a:pt x="1435" y="62"/>
                  </a:lnTo>
                  <a:lnTo>
                    <a:pt x="1385" y="45"/>
                  </a:lnTo>
                  <a:lnTo>
                    <a:pt x="1335" y="31"/>
                  </a:lnTo>
                  <a:lnTo>
                    <a:pt x="1284" y="20"/>
                  </a:lnTo>
                  <a:lnTo>
                    <a:pt x="1232" y="11"/>
                  </a:lnTo>
                  <a:lnTo>
                    <a:pt x="1179" y="5"/>
                  </a:lnTo>
                  <a:lnTo>
                    <a:pt x="1127" y="1"/>
                  </a:lnTo>
                  <a:lnTo>
                    <a:pt x="1073" y="0"/>
                  </a:lnTo>
                  <a:lnTo>
                    <a:pt x="963" y="5"/>
                  </a:lnTo>
                  <a:lnTo>
                    <a:pt x="856" y="21"/>
                  </a:lnTo>
                  <a:lnTo>
                    <a:pt x="753" y="47"/>
                  </a:lnTo>
                  <a:lnTo>
                    <a:pt x="655" y="84"/>
                  </a:lnTo>
                  <a:lnTo>
                    <a:pt x="561" y="130"/>
                  </a:lnTo>
                  <a:lnTo>
                    <a:pt x="473" y="184"/>
                  </a:lnTo>
                  <a:lnTo>
                    <a:pt x="390" y="247"/>
                  </a:lnTo>
                  <a:lnTo>
                    <a:pt x="314" y="317"/>
                  </a:lnTo>
                  <a:lnTo>
                    <a:pt x="245" y="394"/>
                  </a:lnTo>
                  <a:lnTo>
                    <a:pt x="183" y="477"/>
                  </a:lnTo>
                  <a:lnTo>
                    <a:pt x="129" y="566"/>
                  </a:lnTo>
                  <a:lnTo>
                    <a:pt x="84" y="661"/>
                  </a:lnTo>
                  <a:lnTo>
                    <a:pt x="47" y="760"/>
                  </a:lnTo>
                  <a:lnTo>
                    <a:pt x="21" y="864"/>
                  </a:lnTo>
                  <a:lnTo>
                    <a:pt x="5" y="971"/>
                  </a:lnTo>
                  <a:lnTo>
                    <a:pt x="0" y="1082"/>
                  </a:lnTo>
                  <a:lnTo>
                    <a:pt x="0" y="1369"/>
                  </a:lnTo>
                  <a:lnTo>
                    <a:pt x="0" y="1376"/>
                  </a:lnTo>
                  <a:lnTo>
                    <a:pt x="1" y="1384"/>
                  </a:lnTo>
                  <a:lnTo>
                    <a:pt x="3" y="1391"/>
                  </a:lnTo>
                  <a:lnTo>
                    <a:pt x="5" y="1398"/>
                  </a:lnTo>
                  <a:lnTo>
                    <a:pt x="8" y="1405"/>
                  </a:lnTo>
                  <a:lnTo>
                    <a:pt x="12" y="1411"/>
                  </a:lnTo>
                  <a:lnTo>
                    <a:pt x="16" y="1416"/>
                  </a:lnTo>
                  <a:lnTo>
                    <a:pt x="21" y="1423"/>
                  </a:lnTo>
                  <a:lnTo>
                    <a:pt x="26" y="1428"/>
                  </a:lnTo>
                  <a:lnTo>
                    <a:pt x="32" y="1432"/>
                  </a:lnTo>
                  <a:lnTo>
                    <a:pt x="38" y="1436"/>
                  </a:lnTo>
                  <a:lnTo>
                    <a:pt x="45" y="1439"/>
                  </a:lnTo>
                  <a:lnTo>
                    <a:pt x="51" y="1441"/>
                  </a:lnTo>
                  <a:lnTo>
                    <a:pt x="60" y="1443"/>
                  </a:lnTo>
                  <a:lnTo>
                    <a:pt x="67" y="1444"/>
                  </a:lnTo>
                  <a:lnTo>
                    <a:pt x="75" y="1445"/>
                  </a:lnTo>
                  <a:lnTo>
                    <a:pt x="2072" y="1445"/>
                  </a:lnTo>
                  <a:lnTo>
                    <a:pt x="2079" y="1444"/>
                  </a:lnTo>
                  <a:lnTo>
                    <a:pt x="2086" y="1443"/>
                  </a:lnTo>
                  <a:lnTo>
                    <a:pt x="2094" y="1441"/>
                  </a:lnTo>
                  <a:lnTo>
                    <a:pt x="2100" y="1439"/>
                  </a:lnTo>
                  <a:lnTo>
                    <a:pt x="2107" y="1436"/>
                  </a:lnTo>
                  <a:lnTo>
                    <a:pt x="2114" y="1432"/>
                  </a:lnTo>
                  <a:lnTo>
                    <a:pt x="2120" y="1428"/>
                  </a:lnTo>
                  <a:lnTo>
                    <a:pt x="2125" y="1423"/>
                  </a:lnTo>
                  <a:lnTo>
                    <a:pt x="2130" y="1416"/>
                  </a:lnTo>
                  <a:lnTo>
                    <a:pt x="2134" y="1411"/>
                  </a:lnTo>
                  <a:lnTo>
                    <a:pt x="2138" y="1405"/>
                  </a:lnTo>
                  <a:lnTo>
                    <a:pt x="2141" y="1398"/>
                  </a:lnTo>
                  <a:lnTo>
                    <a:pt x="2143" y="1391"/>
                  </a:lnTo>
                  <a:lnTo>
                    <a:pt x="2145" y="1384"/>
                  </a:lnTo>
                  <a:lnTo>
                    <a:pt x="2146" y="1376"/>
                  </a:lnTo>
                  <a:lnTo>
                    <a:pt x="2147" y="1369"/>
                  </a:lnTo>
                  <a:lnTo>
                    <a:pt x="2147" y="1082"/>
                  </a:lnTo>
                  <a:lnTo>
                    <a:pt x="2145" y="1027"/>
                  </a:lnTo>
                  <a:lnTo>
                    <a:pt x="2141" y="974"/>
                  </a:lnTo>
                  <a:lnTo>
                    <a:pt x="2135" y="921"/>
                  </a:lnTo>
                  <a:lnTo>
                    <a:pt x="2126" y="869"/>
                  </a:lnTo>
                  <a:lnTo>
                    <a:pt x="2115" y="817"/>
                  </a:lnTo>
                  <a:lnTo>
                    <a:pt x="2100" y="766"/>
                  </a:lnTo>
                  <a:lnTo>
                    <a:pt x="2084" y="716"/>
                  </a:lnTo>
                  <a:lnTo>
                    <a:pt x="2065" y="667"/>
                  </a:lnTo>
                  <a:lnTo>
                    <a:pt x="2044" y="619"/>
                  </a:lnTo>
                  <a:lnTo>
                    <a:pt x="2021" y="572"/>
                  </a:lnTo>
                  <a:lnTo>
                    <a:pt x="1995" y="527"/>
                  </a:lnTo>
                  <a:lnTo>
                    <a:pt x="1967" y="482"/>
                  </a:lnTo>
                  <a:lnTo>
                    <a:pt x="1937" y="438"/>
                  </a:lnTo>
                  <a:lnTo>
                    <a:pt x="1904" y="396"/>
                  </a:lnTo>
                  <a:lnTo>
                    <a:pt x="1869" y="355"/>
                  </a:lnTo>
                  <a:lnTo>
                    <a:pt x="1832" y="317"/>
                  </a:lnTo>
                  <a:close/>
                  <a:moveTo>
                    <a:pt x="422" y="424"/>
                  </a:moveTo>
                  <a:lnTo>
                    <a:pt x="454" y="391"/>
                  </a:lnTo>
                  <a:lnTo>
                    <a:pt x="489" y="361"/>
                  </a:lnTo>
                  <a:lnTo>
                    <a:pt x="525" y="333"/>
                  </a:lnTo>
                  <a:lnTo>
                    <a:pt x="561" y="306"/>
                  </a:lnTo>
                  <a:lnTo>
                    <a:pt x="600" y="282"/>
                  </a:lnTo>
                  <a:lnTo>
                    <a:pt x="639" y="259"/>
                  </a:lnTo>
                  <a:lnTo>
                    <a:pt x="679" y="239"/>
                  </a:lnTo>
                  <a:lnTo>
                    <a:pt x="720" y="222"/>
                  </a:lnTo>
                  <a:lnTo>
                    <a:pt x="761" y="205"/>
                  </a:lnTo>
                  <a:lnTo>
                    <a:pt x="804" y="191"/>
                  </a:lnTo>
                  <a:lnTo>
                    <a:pt x="847" y="179"/>
                  </a:lnTo>
                  <a:lnTo>
                    <a:pt x="891" y="169"/>
                  </a:lnTo>
                  <a:lnTo>
                    <a:pt x="935" y="161"/>
                  </a:lnTo>
                  <a:lnTo>
                    <a:pt x="981" y="155"/>
                  </a:lnTo>
                  <a:lnTo>
                    <a:pt x="1026" y="152"/>
                  </a:lnTo>
                  <a:lnTo>
                    <a:pt x="1073" y="151"/>
                  </a:lnTo>
                  <a:lnTo>
                    <a:pt x="1118" y="152"/>
                  </a:lnTo>
                  <a:lnTo>
                    <a:pt x="1164" y="155"/>
                  </a:lnTo>
                  <a:lnTo>
                    <a:pt x="1209" y="161"/>
                  </a:lnTo>
                  <a:lnTo>
                    <a:pt x="1254" y="169"/>
                  </a:lnTo>
                  <a:lnTo>
                    <a:pt x="1298" y="179"/>
                  </a:lnTo>
                  <a:lnTo>
                    <a:pt x="1341" y="191"/>
                  </a:lnTo>
                  <a:lnTo>
                    <a:pt x="1384" y="205"/>
                  </a:lnTo>
                  <a:lnTo>
                    <a:pt x="1426" y="222"/>
                  </a:lnTo>
                  <a:lnTo>
                    <a:pt x="1467" y="239"/>
                  </a:lnTo>
                  <a:lnTo>
                    <a:pt x="1507" y="259"/>
                  </a:lnTo>
                  <a:lnTo>
                    <a:pt x="1546" y="282"/>
                  </a:lnTo>
                  <a:lnTo>
                    <a:pt x="1584" y="306"/>
                  </a:lnTo>
                  <a:lnTo>
                    <a:pt x="1621" y="333"/>
                  </a:lnTo>
                  <a:lnTo>
                    <a:pt x="1656" y="361"/>
                  </a:lnTo>
                  <a:lnTo>
                    <a:pt x="1692" y="391"/>
                  </a:lnTo>
                  <a:lnTo>
                    <a:pt x="1725" y="424"/>
                  </a:lnTo>
                  <a:lnTo>
                    <a:pt x="1757" y="457"/>
                  </a:lnTo>
                  <a:lnTo>
                    <a:pt x="1786" y="492"/>
                  </a:lnTo>
                  <a:lnTo>
                    <a:pt x="1814" y="528"/>
                  </a:lnTo>
                  <a:lnTo>
                    <a:pt x="1841" y="565"/>
                  </a:lnTo>
                  <a:lnTo>
                    <a:pt x="1865" y="604"/>
                  </a:lnTo>
                  <a:lnTo>
                    <a:pt x="1887" y="644"/>
                  </a:lnTo>
                  <a:lnTo>
                    <a:pt x="1907" y="683"/>
                  </a:lnTo>
                  <a:lnTo>
                    <a:pt x="1925" y="725"/>
                  </a:lnTo>
                  <a:lnTo>
                    <a:pt x="1941" y="767"/>
                  </a:lnTo>
                  <a:lnTo>
                    <a:pt x="1955" y="810"/>
                  </a:lnTo>
                  <a:lnTo>
                    <a:pt x="1967" y="854"/>
                  </a:lnTo>
                  <a:lnTo>
                    <a:pt x="1977" y="899"/>
                  </a:lnTo>
                  <a:lnTo>
                    <a:pt x="1985" y="943"/>
                  </a:lnTo>
                  <a:lnTo>
                    <a:pt x="1990" y="989"/>
                  </a:lnTo>
                  <a:lnTo>
                    <a:pt x="1993" y="1035"/>
                  </a:lnTo>
                  <a:lnTo>
                    <a:pt x="1995" y="1082"/>
                  </a:lnTo>
                  <a:lnTo>
                    <a:pt x="1995" y="1293"/>
                  </a:lnTo>
                  <a:lnTo>
                    <a:pt x="151" y="1293"/>
                  </a:lnTo>
                  <a:lnTo>
                    <a:pt x="151" y="1082"/>
                  </a:lnTo>
                  <a:lnTo>
                    <a:pt x="152" y="1035"/>
                  </a:lnTo>
                  <a:lnTo>
                    <a:pt x="155" y="989"/>
                  </a:lnTo>
                  <a:lnTo>
                    <a:pt x="160" y="943"/>
                  </a:lnTo>
                  <a:lnTo>
                    <a:pt x="168" y="899"/>
                  </a:lnTo>
                  <a:lnTo>
                    <a:pt x="178" y="854"/>
                  </a:lnTo>
                  <a:lnTo>
                    <a:pt x="190" y="810"/>
                  </a:lnTo>
                  <a:lnTo>
                    <a:pt x="204" y="767"/>
                  </a:lnTo>
                  <a:lnTo>
                    <a:pt x="220" y="725"/>
                  </a:lnTo>
                  <a:lnTo>
                    <a:pt x="239" y="683"/>
                  </a:lnTo>
                  <a:lnTo>
                    <a:pt x="259" y="644"/>
                  </a:lnTo>
                  <a:lnTo>
                    <a:pt x="281" y="604"/>
                  </a:lnTo>
                  <a:lnTo>
                    <a:pt x="305" y="565"/>
                  </a:lnTo>
                  <a:lnTo>
                    <a:pt x="332" y="528"/>
                  </a:lnTo>
                  <a:lnTo>
                    <a:pt x="359" y="492"/>
                  </a:lnTo>
                  <a:lnTo>
                    <a:pt x="389" y="457"/>
                  </a:lnTo>
                  <a:lnTo>
                    <a:pt x="422" y="4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58"/>
            <p:cNvSpPr/>
            <p:nvPr/>
          </p:nvSpPr>
          <p:spPr>
            <a:xfrm>
              <a:off x="2787120" y="6054120"/>
              <a:ext cx="302400" cy="277560"/>
            </a:xfrm>
            <a:custGeom>
              <a:avLst/>
              <a:gdLst/>
              <a:ahLst/>
              <a:rect l="l" t="t" r="r" b="b"/>
              <a:pathLst>
                <a:path w="11405" h="11200">
                  <a:moveTo>
                    <a:pt x="11374" y="10591"/>
                  </a:moveTo>
                  <a:lnTo>
                    <a:pt x="11346" y="10597"/>
                  </a:lnTo>
                  <a:lnTo>
                    <a:pt x="11263" y="10616"/>
                  </a:lnTo>
                  <a:lnTo>
                    <a:pt x="11128" y="10647"/>
                  </a:lnTo>
                  <a:lnTo>
                    <a:pt x="10944" y="10685"/>
                  </a:lnTo>
                  <a:lnTo>
                    <a:pt x="10711" y="10731"/>
                  </a:lnTo>
                  <a:lnTo>
                    <a:pt x="10434" y="10783"/>
                  </a:lnTo>
                  <a:lnTo>
                    <a:pt x="10115" y="10838"/>
                  </a:lnTo>
                  <a:lnTo>
                    <a:pt x="9755" y="10895"/>
                  </a:lnTo>
                  <a:lnTo>
                    <a:pt x="9356" y="10952"/>
                  </a:lnTo>
                  <a:lnTo>
                    <a:pt x="8922" y="11007"/>
                  </a:lnTo>
                  <a:lnTo>
                    <a:pt x="8455" y="11059"/>
                  </a:lnTo>
                  <a:lnTo>
                    <a:pt x="7958" y="11104"/>
                  </a:lnTo>
                  <a:lnTo>
                    <a:pt x="7431" y="11143"/>
                  </a:lnTo>
                  <a:lnTo>
                    <a:pt x="6878" y="11174"/>
                  </a:lnTo>
                  <a:lnTo>
                    <a:pt x="6300" y="11193"/>
                  </a:lnTo>
                  <a:lnTo>
                    <a:pt x="5702" y="11200"/>
                  </a:lnTo>
                  <a:lnTo>
                    <a:pt x="5087" y="11193"/>
                  </a:lnTo>
                  <a:lnTo>
                    <a:pt x="4498" y="11174"/>
                  </a:lnTo>
                  <a:lnTo>
                    <a:pt x="3937" y="11143"/>
                  </a:lnTo>
                  <a:lnTo>
                    <a:pt x="3405" y="11104"/>
                  </a:lnTo>
                  <a:lnTo>
                    <a:pt x="2904" y="11059"/>
                  </a:lnTo>
                  <a:lnTo>
                    <a:pt x="2438" y="11007"/>
                  </a:lnTo>
                  <a:lnTo>
                    <a:pt x="2006" y="10952"/>
                  </a:lnTo>
                  <a:lnTo>
                    <a:pt x="1613" y="10895"/>
                  </a:lnTo>
                  <a:lnTo>
                    <a:pt x="1258" y="10838"/>
                  </a:lnTo>
                  <a:lnTo>
                    <a:pt x="943" y="10783"/>
                  </a:lnTo>
                  <a:lnTo>
                    <a:pt x="673" y="10731"/>
                  </a:lnTo>
                  <a:lnTo>
                    <a:pt x="447" y="10685"/>
                  </a:lnTo>
                  <a:lnTo>
                    <a:pt x="268" y="10647"/>
                  </a:lnTo>
                  <a:lnTo>
                    <a:pt x="138" y="10616"/>
                  </a:lnTo>
                  <a:lnTo>
                    <a:pt x="58" y="10597"/>
                  </a:lnTo>
                  <a:lnTo>
                    <a:pt x="32" y="10591"/>
                  </a:lnTo>
                  <a:lnTo>
                    <a:pt x="0" y="10579"/>
                  </a:lnTo>
                  <a:lnTo>
                    <a:pt x="0" y="0"/>
                  </a:lnTo>
                  <a:lnTo>
                    <a:pt x="11405" y="0"/>
                  </a:lnTo>
                  <a:lnTo>
                    <a:pt x="11405" y="10579"/>
                  </a:lnTo>
                  <a:lnTo>
                    <a:pt x="11374" y="10591"/>
                  </a:lnTo>
                  <a:close/>
                </a:path>
              </a:pathLst>
            </a:custGeom>
            <a:solidFill>
              <a:srgbClr val="e6e6df"/>
            </a:solidFill>
            <a:ln w="6480">
              <a:solidFill>
                <a:srgbClr val="8080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59"/>
            <p:cNvSpPr/>
            <p:nvPr/>
          </p:nvSpPr>
          <p:spPr>
            <a:xfrm>
              <a:off x="2825280" y="6091200"/>
              <a:ext cx="224280" cy="177120"/>
            </a:xfrm>
            <a:prstGeom prst="rect">
              <a:avLst/>
            </a:prstGeom>
            <a:solidFill>
              <a:srgbClr val="98c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60"/>
            <p:cNvSpPr/>
            <p:nvPr/>
          </p:nvSpPr>
          <p:spPr>
            <a:xfrm>
              <a:off x="2851560" y="6287040"/>
              <a:ext cx="11520" cy="10440"/>
            </a:xfrm>
            <a:custGeom>
              <a:avLst/>
              <a:gdLst/>
              <a:ahLst/>
              <a:rect l="l" t="t" r="r" b="b"/>
              <a:pathLst>
                <a:path w="428" h="431">
                  <a:moveTo>
                    <a:pt x="214" y="431"/>
                  </a:moveTo>
                  <a:lnTo>
                    <a:pt x="235" y="429"/>
                  </a:lnTo>
                  <a:lnTo>
                    <a:pt x="256" y="426"/>
                  </a:lnTo>
                  <a:lnTo>
                    <a:pt x="277" y="421"/>
                  </a:lnTo>
                  <a:lnTo>
                    <a:pt x="297" y="414"/>
                  </a:lnTo>
                  <a:lnTo>
                    <a:pt x="316" y="404"/>
                  </a:lnTo>
                  <a:lnTo>
                    <a:pt x="333" y="394"/>
                  </a:lnTo>
                  <a:lnTo>
                    <a:pt x="349" y="381"/>
                  </a:lnTo>
                  <a:lnTo>
                    <a:pt x="364" y="368"/>
                  </a:lnTo>
                  <a:lnTo>
                    <a:pt x="378" y="353"/>
                  </a:lnTo>
                  <a:lnTo>
                    <a:pt x="391" y="336"/>
                  </a:lnTo>
                  <a:lnTo>
                    <a:pt x="402" y="318"/>
                  </a:lnTo>
                  <a:lnTo>
                    <a:pt x="411" y="300"/>
                  </a:lnTo>
                  <a:lnTo>
                    <a:pt x="418" y="279"/>
                  </a:lnTo>
                  <a:lnTo>
                    <a:pt x="423" y="259"/>
                  </a:lnTo>
                  <a:lnTo>
                    <a:pt x="426" y="237"/>
                  </a:lnTo>
                  <a:lnTo>
                    <a:pt x="428" y="216"/>
                  </a:lnTo>
                  <a:lnTo>
                    <a:pt x="426" y="193"/>
                  </a:lnTo>
                  <a:lnTo>
                    <a:pt x="423" y="172"/>
                  </a:lnTo>
                  <a:lnTo>
                    <a:pt x="418" y="152"/>
                  </a:lnTo>
                  <a:lnTo>
                    <a:pt x="411" y="131"/>
                  </a:lnTo>
                  <a:lnTo>
                    <a:pt x="402" y="113"/>
                  </a:lnTo>
                  <a:lnTo>
                    <a:pt x="391" y="95"/>
                  </a:lnTo>
                  <a:lnTo>
                    <a:pt x="378" y="78"/>
                  </a:lnTo>
                  <a:lnTo>
                    <a:pt x="364" y="63"/>
                  </a:lnTo>
                  <a:lnTo>
                    <a:pt x="349" y="49"/>
                  </a:lnTo>
                  <a:lnTo>
                    <a:pt x="333" y="37"/>
                  </a:lnTo>
                  <a:lnTo>
                    <a:pt x="316" y="25"/>
                  </a:lnTo>
                  <a:lnTo>
                    <a:pt x="297" y="16"/>
                  </a:lnTo>
                  <a:lnTo>
                    <a:pt x="277" y="9"/>
                  </a:lnTo>
                  <a:lnTo>
                    <a:pt x="256" y="4"/>
                  </a:lnTo>
                  <a:lnTo>
                    <a:pt x="235" y="1"/>
                  </a:lnTo>
                  <a:lnTo>
                    <a:pt x="214" y="0"/>
                  </a:lnTo>
                  <a:lnTo>
                    <a:pt x="191" y="1"/>
                  </a:lnTo>
                  <a:lnTo>
                    <a:pt x="170" y="4"/>
                  </a:lnTo>
                  <a:lnTo>
                    <a:pt x="150" y="9"/>
                  </a:lnTo>
                  <a:lnTo>
                    <a:pt x="130" y="16"/>
                  </a:lnTo>
                  <a:lnTo>
                    <a:pt x="111" y="25"/>
                  </a:lnTo>
                  <a:lnTo>
                    <a:pt x="93" y="37"/>
                  </a:lnTo>
                  <a:lnTo>
                    <a:pt x="77" y="49"/>
                  </a:lnTo>
                  <a:lnTo>
                    <a:pt x="62" y="63"/>
                  </a:lnTo>
                  <a:lnTo>
                    <a:pt x="49" y="78"/>
                  </a:lnTo>
                  <a:lnTo>
                    <a:pt x="36" y="95"/>
                  </a:lnTo>
                  <a:lnTo>
                    <a:pt x="25" y="113"/>
                  </a:lnTo>
                  <a:lnTo>
                    <a:pt x="16" y="131"/>
                  </a:lnTo>
                  <a:lnTo>
                    <a:pt x="9" y="152"/>
                  </a:lnTo>
                  <a:lnTo>
                    <a:pt x="4" y="172"/>
                  </a:lnTo>
                  <a:lnTo>
                    <a:pt x="1" y="193"/>
                  </a:lnTo>
                  <a:lnTo>
                    <a:pt x="0" y="216"/>
                  </a:lnTo>
                  <a:lnTo>
                    <a:pt x="1" y="237"/>
                  </a:lnTo>
                  <a:lnTo>
                    <a:pt x="4" y="259"/>
                  </a:lnTo>
                  <a:lnTo>
                    <a:pt x="9" y="279"/>
                  </a:lnTo>
                  <a:lnTo>
                    <a:pt x="16" y="300"/>
                  </a:lnTo>
                  <a:lnTo>
                    <a:pt x="25" y="318"/>
                  </a:lnTo>
                  <a:lnTo>
                    <a:pt x="36" y="336"/>
                  </a:lnTo>
                  <a:lnTo>
                    <a:pt x="49" y="353"/>
                  </a:lnTo>
                  <a:lnTo>
                    <a:pt x="62" y="368"/>
                  </a:lnTo>
                  <a:lnTo>
                    <a:pt x="77" y="381"/>
                  </a:lnTo>
                  <a:lnTo>
                    <a:pt x="93" y="394"/>
                  </a:lnTo>
                  <a:lnTo>
                    <a:pt x="111" y="404"/>
                  </a:lnTo>
                  <a:lnTo>
                    <a:pt x="130" y="414"/>
                  </a:lnTo>
                  <a:lnTo>
                    <a:pt x="150" y="421"/>
                  </a:lnTo>
                  <a:lnTo>
                    <a:pt x="170" y="426"/>
                  </a:lnTo>
                  <a:lnTo>
                    <a:pt x="191" y="429"/>
                  </a:lnTo>
                  <a:lnTo>
                    <a:pt x="214" y="431"/>
                  </a:lnTo>
                  <a:close/>
                </a:path>
              </a:pathLst>
            </a:cu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61"/>
            <p:cNvSpPr/>
            <p:nvPr/>
          </p:nvSpPr>
          <p:spPr>
            <a:xfrm>
              <a:off x="3013560" y="6283440"/>
              <a:ext cx="14400" cy="2772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62"/>
            <p:cNvSpPr/>
            <p:nvPr/>
          </p:nvSpPr>
          <p:spPr>
            <a:xfrm>
              <a:off x="2877120" y="6290280"/>
              <a:ext cx="45360" cy="684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63"/>
            <p:cNvSpPr/>
            <p:nvPr/>
          </p:nvSpPr>
          <p:spPr>
            <a:xfrm>
              <a:off x="2754360" y="6053040"/>
              <a:ext cx="367200" cy="358920"/>
            </a:xfrm>
            <a:custGeom>
              <a:avLst/>
              <a:gdLst/>
              <a:ahLst/>
              <a:rect l="l" t="t" r="r" b="b"/>
              <a:pathLst>
                <a:path w="13839" h="14526">
                  <a:moveTo>
                    <a:pt x="13826" y="13977"/>
                  </a:moveTo>
                  <a:lnTo>
                    <a:pt x="12401" y="11821"/>
                  </a:lnTo>
                  <a:lnTo>
                    <a:pt x="12398" y="11816"/>
                  </a:lnTo>
                  <a:lnTo>
                    <a:pt x="12395" y="11812"/>
                  </a:lnTo>
                  <a:lnTo>
                    <a:pt x="12392" y="11809"/>
                  </a:lnTo>
                  <a:lnTo>
                    <a:pt x="12388" y="11805"/>
                  </a:lnTo>
                  <a:lnTo>
                    <a:pt x="12385" y="11803"/>
                  </a:lnTo>
                  <a:lnTo>
                    <a:pt x="12381" y="11800"/>
                  </a:lnTo>
                  <a:lnTo>
                    <a:pt x="12377" y="11797"/>
                  </a:lnTo>
                  <a:lnTo>
                    <a:pt x="12373" y="11795"/>
                  </a:lnTo>
                  <a:lnTo>
                    <a:pt x="12369" y="11793"/>
                  </a:lnTo>
                  <a:lnTo>
                    <a:pt x="12364" y="11791"/>
                  </a:lnTo>
                  <a:lnTo>
                    <a:pt x="12360" y="11790"/>
                  </a:lnTo>
                  <a:lnTo>
                    <a:pt x="12356" y="11789"/>
                  </a:lnTo>
                  <a:lnTo>
                    <a:pt x="12351" y="11788"/>
                  </a:lnTo>
                  <a:lnTo>
                    <a:pt x="12347" y="11787"/>
                  </a:lnTo>
                  <a:lnTo>
                    <a:pt x="12342" y="11787"/>
                  </a:lnTo>
                  <a:lnTo>
                    <a:pt x="12338" y="11787"/>
                  </a:lnTo>
                  <a:lnTo>
                    <a:pt x="9846" y="11787"/>
                  </a:lnTo>
                  <a:lnTo>
                    <a:pt x="9846" y="11194"/>
                  </a:lnTo>
                  <a:lnTo>
                    <a:pt x="10151" y="11159"/>
                  </a:lnTo>
                  <a:lnTo>
                    <a:pt x="10441" y="11122"/>
                  </a:lnTo>
                  <a:lnTo>
                    <a:pt x="10717" y="11085"/>
                  </a:lnTo>
                  <a:lnTo>
                    <a:pt x="10977" y="11047"/>
                  </a:lnTo>
                  <a:lnTo>
                    <a:pt x="11221" y="11009"/>
                  </a:lnTo>
                  <a:lnTo>
                    <a:pt x="11447" y="10971"/>
                  </a:lnTo>
                  <a:lnTo>
                    <a:pt x="11656" y="10936"/>
                  </a:lnTo>
                  <a:lnTo>
                    <a:pt x="11847" y="10901"/>
                  </a:lnTo>
                  <a:lnTo>
                    <a:pt x="12017" y="10867"/>
                  </a:lnTo>
                  <a:lnTo>
                    <a:pt x="12168" y="10838"/>
                  </a:lnTo>
                  <a:lnTo>
                    <a:pt x="12298" y="10810"/>
                  </a:lnTo>
                  <a:lnTo>
                    <a:pt x="12406" y="10787"/>
                  </a:lnTo>
                  <a:lnTo>
                    <a:pt x="12492" y="10769"/>
                  </a:lnTo>
                  <a:lnTo>
                    <a:pt x="12554" y="10753"/>
                  </a:lnTo>
                  <a:lnTo>
                    <a:pt x="12594" y="10744"/>
                  </a:lnTo>
                  <a:lnTo>
                    <a:pt x="12609" y="10741"/>
                  </a:lnTo>
                  <a:lnTo>
                    <a:pt x="12610" y="10740"/>
                  </a:lnTo>
                  <a:lnTo>
                    <a:pt x="12612" y="10739"/>
                  </a:lnTo>
                  <a:lnTo>
                    <a:pt x="12614" y="10739"/>
                  </a:lnTo>
                  <a:lnTo>
                    <a:pt x="12617" y="10738"/>
                  </a:lnTo>
                  <a:lnTo>
                    <a:pt x="12620" y="10737"/>
                  </a:lnTo>
                  <a:lnTo>
                    <a:pt x="12623" y="10736"/>
                  </a:lnTo>
                  <a:lnTo>
                    <a:pt x="12626" y="10735"/>
                  </a:lnTo>
                  <a:lnTo>
                    <a:pt x="12629" y="10734"/>
                  </a:lnTo>
                  <a:lnTo>
                    <a:pt x="12632" y="10733"/>
                  </a:lnTo>
                  <a:lnTo>
                    <a:pt x="12635" y="10732"/>
                  </a:lnTo>
                  <a:lnTo>
                    <a:pt x="12638" y="10731"/>
                  </a:lnTo>
                  <a:lnTo>
                    <a:pt x="12641" y="10730"/>
                  </a:lnTo>
                  <a:lnTo>
                    <a:pt x="12643" y="10729"/>
                  </a:lnTo>
                  <a:lnTo>
                    <a:pt x="12644" y="10729"/>
                  </a:lnTo>
                  <a:lnTo>
                    <a:pt x="12645" y="10729"/>
                  </a:lnTo>
                  <a:lnTo>
                    <a:pt x="12646" y="10729"/>
                  </a:lnTo>
                  <a:lnTo>
                    <a:pt x="12652" y="10726"/>
                  </a:lnTo>
                  <a:lnTo>
                    <a:pt x="12657" y="10724"/>
                  </a:lnTo>
                  <a:lnTo>
                    <a:pt x="12662" y="10721"/>
                  </a:lnTo>
                  <a:lnTo>
                    <a:pt x="12667" y="10718"/>
                  </a:lnTo>
                  <a:lnTo>
                    <a:pt x="12672" y="10714"/>
                  </a:lnTo>
                  <a:lnTo>
                    <a:pt x="12676" y="10709"/>
                  </a:lnTo>
                  <a:lnTo>
                    <a:pt x="12680" y="10705"/>
                  </a:lnTo>
                  <a:lnTo>
                    <a:pt x="12683" y="10700"/>
                  </a:lnTo>
                  <a:lnTo>
                    <a:pt x="12686" y="10695"/>
                  </a:lnTo>
                  <a:lnTo>
                    <a:pt x="12689" y="10690"/>
                  </a:lnTo>
                  <a:lnTo>
                    <a:pt x="12692" y="10685"/>
                  </a:lnTo>
                  <a:lnTo>
                    <a:pt x="12694" y="10680"/>
                  </a:lnTo>
                  <a:lnTo>
                    <a:pt x="12695" y="10674"/>
                  </a:lnTo>
                  <a:lnTo>
                    <a:pt x="12697" y="10668"/>
                  </a:lnTo>
                  <a:lnTo>
                    <a:pt x="12697" y="10662"/>
                  </a:lnTo>
                  <a:lnTo>
                    <a:pt x="12698" y="10656"/>
                  </a:lnTo>
                  <a:lnTo>
                    <a:pt x="12698" y="77"/>
                  </a:lnTo>
                  <a:lnTo>
                    <a:pt x="12697" y="68"/>
                  </a:lnTo>
                  <a:lnTo>
                    <a:pt x="12696" y="61"/>
                  </a:lnTo>
                  <a:lnTo>
                    <a:pt x="12694" y="53"/>
                  </a:lnTo>
                  <a:lnTo>
                    <a:pt x="12692" y="46"/>
                  </a:lnTo>
                  <a:lnTo>
                    <a:pt x="12689" y="40"/>
                  </a:lnTo>
                  <a:lnTo>
                    <a:pt x="12685" y="34"/>
                  </a:lnTo>
                  <a:lnTo>
                    <a:pt x="12681" y="28"/>
                  </a:lnTo>
                  <a:lnTo>
                    <a:pt x="12676" y="22"/>
                  </a:lnTo>
                  <a:lnTo>
                    <a:pt x="12670" y="17"/>
                  </a:lnTo>
                  <a:lnTo>
                    <a:pt x="12665" y="12"/>
                  </a:lnTo>
                  <a:lnTo>
                    <a:pt x="12659" y="9"/>
                  </a:lnTo>
                  <a:lnTo>
                    <a:pt x="12652" y="5"/>
                  </a:lnTo>
                  <a:lnTo>
                    <a:pt x="12644" y="3"/>
                  </a:lnTo>
                  <a:lnTo>
                    <a:pt x="12637" y="1"/>
                  </a:lnTo>
                  <a:lnTo>
                    <a:pt x="12629" y="0"/>
                  </a:lnTo>
                  <a:lnTo>
                    <a:pt x="12622" y="0"/>
                  </a:lnTo>
                  <a:lnTo>
                    <a:pt x="1217" y="0"/>
                  </a:lnTo>
                  <a:lnTo>
                    <a:pt x="1209" y="0"/>
                  </a:lnTo>
                  <a:lnTo>
                    <a:pt x="1200" y="1"/>
                  </a:lnTo>
                  <a:lnTo>
                    <a:pt x="1193" y="3"/>
                  </a:lnTo>
                  <a:lnTo>
                    <a:pt x="1186" y="5"/>
                  </a:lnTo>
                  <a:lnTo>
                    <a:pt x="1179" y="9"/>
                  </a:lnTo>
                  <a:lnTo>
                    <a:pt x="1173" y="12"/>
                  </a:lnTo>
                  <a:lnTo>
                    <a:pt x="1168" y="17"/>
                  </a:lnTo>
                  <a:lnTo>
                    <a:pt x="1162" y="22"/>
                  </a:lnTo>
                  <a:lnTo>
                    <a:pt x="1157" y="28"/>
                  </a:lnTo>
                  <a:lnTo>
                    <a:pt x="1153" y="34"/>
                  </a:lnTo>
                  <a:lnTo>
                    <a:pt x="1149" y="40"/>
                  </a:lnTo>
                  <a:lnTo>
                    <a:pt x="1146" y="46"/>
                  </a:lnTo>
                  <a:lnTo>
                    <a:pt x="1144" y="53"/>
                  </a:lnTo>
                  <a:lnTo>
                    <a:pt x="1142" y="61"/>
                  </a:lnTo>
                  <a:lnTo>
                    <a:pt x="1141" y="68"/>
                  </a:lnTo>
                  <a:lnTo>
                    <a:pt x="1141" y="77"/>
                  </a:lnTo>
                  <a:lnTo>
                    <a:pt x="1141" y="10656"/>
                  </a:lnTo>
                  <a:lnTo>
                    <a:pt x="1141" y="10662"/>
                  </a:lnTo>
                  <a:lnTo>
                    <a:pt x="1141" y="10668"/>
                  </a:lnTo>
                  <a:lnTo>
                    <a:pt x="1143" y="10674"/>
                  </a:lnTo>
                  <a:lnTo>
                    <a:pt x="1144" y="10680"/>
                  </a:lnTo>
                  <a:lnTo>
                    <a:pt x="1146" y="10685"/>
                  </a:lnTo>
                  <a:lnTo>
                    <a:pt x="1148" y="10690"/>
                  </a:lnTo>
                  <a:lnTo>
                    <a:pt x="1151" y="10695"/>
                  </a:lnTo>
                  <a:lnTo>
                    <a:pt x="1154" y="10700"/>
                  </a:lnTo>
                  <a:lnTo>
                    <a:pt x="1158" y="10705"/>
                  </a:lnTo>
                  <a:lnTo>
                    <a:pt x="1162" y="10709"/>
                  </a:lnTo>
                  <a:lnTo>
                    <a:pt x="1166" y="10714"/>
                  </a:lnTo>
                  <a:lnTo>
                    <a:pt x="1170" y="10718"/>
                  </a:lnTo>
                  <a:lnTo>
                    <a:pt x="1175" y="10721"/>
                  </a:lnTo>
                  <a:lnTo>
                    <a:pt x="1180" y="10724"/>
                  </a:lnTo>
                  <a:lnTo>
                    <a:pt x="1186" y="10726"/>
                  </a:lnTo>
                  <a:lnTo>
                    <a:pt x="1192" y="10729"/>
                  </a:lnTo>
                  <a:lnTo>
                    <a:pt x="1225" y="10739"/>
                  </a:lnTo>
                  <a:lnTo>
                    <a:pt x="1239" y="10742"/>
                  </a:lnTo>
                  <a:lnTo>
                    <a:pt x="1278" y="10752"/>
                  </a:lnTo>
                  <a:lnTo>
                    <a:pt x="1341" y="10767"/>
                  </a:lnTo>
                  <a:lnTo>
                    <a:pt x="1426" y="10787"/>
                  </a:lnTo>
                  <a:lnTo>
                    <a:pt x="1533" y="10810"/>
                  </a:lnTo>
                  <a:lnTo>
                    <a:pt x="1662" y="10838"/>
                  </a:lnTo>
                  <a:lnTo>
                    <a:pt x="1811" y="10868"/>
                  </a:lnTo>
                  <a:lnTo>
                    <a:pt x="1980" y="10902"/>
                  </a:lnTo>
                  <a:lnTo>
                    <a:pt x="2170" y="10938"/>
                  </a:lnTo>
                  <a:lnTo>
                    <a:pt x="2379" y="10975"/>
                  </a:lnTo>
                  <a:lnTo>
                    <a:pt x="2605" y="11012"/>
                  </a:lnTo>
                  <a:lnTo>
                    <a:pt x="2849" y="11051"/>
                  </a:lnTo>
                  <a:lnTo>
                    <a:pt x="3111" y="11089"/>
                  </a:lnTo>
                  <a:lnTo>
                    <a:pt x="3389" y="11126"/>
                  </a:lnTo>
                  <a:lnTo>
                    <a:pt x="3683" y="11163"/>
                  </a:lnTo>
                  <a:lnTo>
                    <a:pt x="3993" y="11199"/>
                  </a:lnTo>
                  <a:lnTo>
                    <a:pt x="3993" y="11787"/>
                  </a:lnTo>
                  <a:lnTo>
                    <a:pt x="1502" y="11787"/>
                  </a:lnTo>
                  <a:lnTo>
                    <a:pt x="1497" y="11787"/>
                  </a:lnTo>
                  <a:lnTo>
                    <a:pt x="1492" y="11787"/>
                  </a:lnTo>
                  <a:lnTo>
                    <a:pt x="1488" y="11788"/>
                  </a:lnTo>
                  <a:lnTo>
                    <a:pt x="1483" y="11789"/>
                  </a:lnTo>
                  <a:lnTo>
                    <a:pt x="1479" y="11790"/>
                  </a:lnTo>
                  <a:lnTo>
                    <a:pt x="1474" y="11791"/>
                  </a:lnTo>
                  <a:lnTo>
                    <a:pt x="1469" y="11793"/>
                  </a:lnTo>
                  <a:lnTo>
                    <a:pt x="1465" y="11795"/>
                  </a:lnTo>
                  <a:lnTo>
                    <a:pt x="1461" y="11797"/>
                  </a:lnTo>
                  <a:lnTo>
                    <a:pt x="1457" y="11800"/>
                  </a:lnTo>
                  <a:lnTo>
                    <a:pt x="1454" y="11803"/>
                  </a:lnTo>
                  <a:lnTo>
                    <a:pt x="1450" y="11805"/>
                  </a:lnTo>
                  <a:lnTo>
                    <a:pt x="1447" y="11809"/>
                  </a:lnTo>
                  <a:lnTo>
                    <a:pt x="1444" y="11812"/>
                  </a:lnTo>
                  <a:lnTo>
                    <a:pt x="1441" y="11816"/>
                  </a:lnTo>
                  <a:lnTo>
                    <a:pt x="1439" y="11821"/>
                  </a:lnTo>
                  <a:lnTo>
                    <a:pt x="25" y="13964"/>
                  </a:lnTo>
                  <a:lnTo>
                    <a:pt x="22" y="13966"/>
                  </a:lnTo>
                  <a:lnTo>
                    <a:pt x="19" y="13969"/>
                  </a:lnTo>
                  <a:lnTo>
                    <a:pt x="17" y="13971"/>
                  </a:lnTo>
                  <a:lnTo>
                    <a:pt x="14" y="13974"/>
                  </a:lnTo>
                  <a:lnTo>
                    <a:pt x="12" y="13978"/>
                  </a:lnTo>
                  <a:lnTo>
                    <a:pt x="10" y="13981"/>
                  </a:lnTo>
                  <a:lnTo>
                    <a:pt x="8" y="13985"/>
                  </a:lnTo>
                  <a:lnTo>
                    <a:pt x="6" y="13988"/>
                  </a:lnTo>
                  <a:lnTo>
                    <a:pt x="5" y="13991"/>
                  </a:lnTo>
                  <a:lnTo>
                    <a:pt x="3" y="13995"/>
                  </a:lnTo>
                  <a:lnTo>
                    <a:pt x="2" y="13999"/>
                  </a:lnTo>
                  <a:lnTo>
                    <a:pt x="1" y="14002"/>
                  </a:lnTo>
                  <a:lnTo>
                    <a:pt x="1" y="14006"/>
                  </a:lnTo>
                  <a:lnTo>
                    <a:pt x="0" y="14010"/>
                  </a:lnTo>
                  <a:lnTo>
                    <a:pt x="0" y="14014"/>
                  </a:lnTo>
                  <a:lnTo>
                    <a:pt x="0" y="14018"/>
                  </a:lnTo>
                  <a:lnTo>
                    <a:pt x="0" y="14450"/>
                  </a:lnTo>
                  <a:lnTo>
                    <a:pt x="0" y="14457"/>
                  </a:lnTo>
                  <a:lnTo>
                    <a:pt x="1" y="14465"/>
                  </a:lnTo>
                  <a:lnTo>
                    <a:pt x="3" y="14472"/>
                  </a:lnTo>
                  <a:lnTo>
                    <a:pt x="5" y="14479"/>
                  </a:lnTo>
                  <a:lnTo>
                    <a:pt x="8" y="14486"/>
                  </a:lnTo>
                  <a:lnTo>
                    <a:pt x="12" y="14492"/>
                  </a:lnTo>
                  <a:lnTo>
                    <a:pt x="16" y="14497"/>
                  </a:lnTo>
                  <a:lnTo>
                    <a:pt x="21" y="14504"/>
                  </a:lnTo>
                  <a:lnTo>
                    <a:pt x="26" y="14509"/>
                  </a:lnTo>
                  <a:lnTo>
                    <a:pt x="32" y="14513"/>
                  </a:lnTo>
                  <a:lnTo>
                    <a:pt x="38" y="14517"/>
                  </a:lnTo>
                  <a:lnTo>
                    <a:pt x="46" y="14520"/>
                  </a:lnTo>
                  <a:lnTo>
                    <a:pt x="52" y="14522"/>
                  </a:lnTo>
                  <a:lnTo>
                    <a:pt x="60" y="14524"/>
                  </a:lnTo>
                  <a:lnTo>
                    <a:pt x="67" y="14525"/>
                  </a:lnTo>
                  <a:lnTo>
                    <a:pt x="75" y="14526"/>
                  </a:lnTo>
                  <a:lnTo>
                    <a:pt x="13763" y="14526"/>
                  </a:lnTo>
                  <a:lnTo>
                    <a:pt x="13770" y="14525"/>
                  </a:lnTo>
                  <a:lnTo>
                    <a:pt x="13777" y="14524"/>
                  </a:lnTo>
                  <a:lnTo>
                    <a:pt x="13785" y="14522"/>
                  </a:lnTo>
                  <a:lnTo>
                    <a:pt x="13792" y="14520"/>
                  </a:lnTo>
                  <a:lnTo>
                    <a:pt x="13798" y="14517"/>
                  </a:lnTo>
                  <a:lnTo>
                    <a:pt x="13804" y="14513"/>
                  </a:lnTo>
                  <a:lnTo>
                    <a:pt x="13811" y="14509"/>
                  </a:lnTo>
                  <a:lnTo>
                    <a:pt x="13816" y="14504"/>
                  </a:lnTo>
                  <a:lnTo>
                    <a:pt x="13821" y="14497"/>
                  </a:lnTo>
                  <a:lnTo>
                    <a:pt x="13826" y="14492"/>
                  </a:lnTo>
                  <a:lnTo>
                    <a:pt x="13829" y="14486"/>
                  </a:lnTo>
                  <a:lnTo>
                    <a:pt x="13833" y="14479"/>
                  </a:lnTo>
                  <a:lnTo>
                    <a:pt x="13835" y="14472"/>
                  </a:lnTo>
                  <a:lnTo>
                    <a:pt x="13837" y="14465"/>
                  </a:lnTo>
                  <a:lnTo>
                    <a:pt x="13838" y="14457"/>
                  </a:lnTo>
                  <a:lnTo>
                    <a:pt x="13839" y="14450"/>
                  </a:lnTo>
                  <a:lnTo>
                    <a:pt x="13839" y="14018"/>
                  </a:lnTo>
                  <a:lnTo>
                    <a:pt x="13838" y="14015"/>
                  </a:lnTo>
                  <a:lnTo>
                    <a:pt x="13838" y="14012"/>
                  </a:lnTo>
                  <a:lnTo>
                    <a:pt x="13838" y="14010"/>
                  </a:lnTo>
                  <a:lnTo>
                    <a:pt x="13838" y="14007"/>
                  </a:lnTo>
                  <a:lnTo>
                    <a:pt x="13837" y="14004"/>
                  </a:lnTo>
                  <a:lnTo>
                    <a:pt x="13836" y="14002"/>
                  </a:lnTo>
                  <a:lnTo>
                    <a:pt x="13836" y="13999"/>
                  </a:lnTo>
                  <a:lnTo>
                    <a:pt x="13835" y="13996"/>
                  </a:lnTo>
                  <a:lnTo>
                    <a:pt x="13834" y="13994"/>
                  </a:lnTo>
                  <a:lnTo>
                    <a:pt x="13833" y="13991"/>
                  </a:lnTo>
                  <a:lnTo>
                    <a:pt x="13832" y="13989"/>
                  </a:lnTo>
                  <a:lnTo>
                    <a:pt x="13831" y="13986"/>
                  </a:lnTo>
                  <a:lnTo>
                    <a:pt x="13830" y="13984"/>
                  </a:lnTo>
                  <a:lnTo>
                    <a:pt x="13828" y="13981"/>
                  </a:lnTo>
                  <a:lnTo>
                    <a:pt x="13827" y="13979"/>
                  </a:lnTo>
                  <a:lnTo>
                    <a:pt x="13826" y="13977"/>
                  </a:lnTo>
                  <a:close/>
                  <a:moveTo>
                    <a:pt x="1542" y="11939"/>
                  </a:moveTo>
                  <a:lnTo>
                    <a:pt x="4069" y="11939"/>
                  </a:lnTo>
                  <a:lnTo>
                    <a:pt x="4076" y="11938"/>
                  </a:lnTo>
                  <a:lnTo>
                    <a:pt x="4083" y="11937"/>
                  </a:lnTo>
                  <a:lnTo>
                    <a:pt x="4091" y="11935"/>
                  </a:lnTo>
                  <a:lnTo>
                    <a:pt x="4097" y="11933"/>
                  </a:lnTo>
                  <a:lnTo>
                    <a:pt x="4104" y="11929"/>
                  </a:lnTo>
                  <a:lnTo>
                    <a:pt x="4110" y="11926"/>
                  </a:lnTo>
                  <a:lnTo>
                    <a:pt x="4116" y="11920"/>
                  </a:lnTo>
                  <a:lnTo>
                    <a:pt x="4121" y="11915"/>
                  </a:lnTo>
                  <a:lnTo>
                    <a:pt x="4126" y="11910"/>
                  </a:lnTo>
                  <a:lnTo>
                    <a:pt x="4130" y="11904"/>
                  </a:lnTo>
                  <a:lnTo>
                    <a:pt x="4134" y="11898"/>
                  </a:lnTo>
                  <a:lnTo>
                    <a:pt x="4137" y="11892"/>
                  </a:lnTo>
                  <a:lnTo>
                    <a:pt x="4139" y="11885"/>
                  </a:lnTo>
                  <a:lnTo>
                    <a:pt x="4141" y="11877"/>
                  </a:lnTo>
                  <a:lnTo>
                    <a:pt x="4142" y="11870"/>
                  </a:lnTo>
                  <a:lnTo>
                    <a:pt x="4143" y="11862"/>
                  </a:lnTo>
                  <a:lnTo>
                    <a:pt x="4143" y="11130"/>
                  </a:lnTo>
                  <a:lnTo>
                    <a:pt x="4142" y="11122"/>
                  </a:lnTo>
                  <a:lnTo>
                    <a:pt x="4141" y="11116"/>
                  </a:lnTo>
                  <a:lnTo>
                    <a:pt x="4140" y="11109"/>
                  </a:lnTo>
                  <a:lnTo>
                    <a:pt x="4137" y="11102"/>
                  </a:lnTo>
                  <a:lnTo>
                    <a:pt x="4135" y="11096"/>
                  </a:lnTo>
                  <a:lnTo>
                    <a:pt x="4131" y="11090"/>
                  </a:lnTo>
                  <a:lnTo>
                    <a:pt x="4128" y="11085"/>
                  </a:lnTo>
                  <a:lnTo>
                    <a:pt x="4123" y="11079"/>
                  </a:lnTo>
                  <a:lnTo>
                    <a:pt x="4119" y="11074"/>
                  </a:lnTo>
                  <a:lnTo>
                    <a:pt x="4113" y="11070"/>
                  </a:lnTo>
                  <a:lnTo>
                    <a:pt x="4108" y="11066"/>
                  </a:lnTo>
                  <a:lnTo>
                    <a:pt x="4102" y="11062"/>
                  </a:lnTo>
                  <a:lnTo>
                    <a:pt x="4096" y="11060"/>
                  </a:lnTo>
                  <a:lnTo>
                    <a:pt x="4089" y="11057"/>
                  </a:lnTo>
                  <a:lnTo>
                    <a:pt x="4083" y="11056"/>
                  </a:lnTo>
                  <a:lnTo>
                    <a:pt x="4076" y="11055"/>
                  </a:lnTo>
                  <a:lnTo>
                    <a:pt x="3786" y="11022"/>
                  </a:lnTo>
                  <a:lnTo>
                    <a:pt x="3510" y="10990"/>
                  </a:lnTo>
                  <a:lnTo>
                    <a:pt x="3248" y="10955"/>
                  </a:lnTo>
                  <a:lnTo>
                    <a:pt x="3000" y="10920"/>
                  </a:lnTo>
                  <a:lnTo>
                    <a:pt x="2766" y="10885"/>
                  </a:lnTo>
                  <a:lnTo>
                    <a:pt x="2547" y="10849"/>
                  </a:lnTo>
                  <a:lnTo>
                    <a:pt x="2343" y="10814"/>
                  </a:lnTo>
                  <a:lnTo>
                    <a:pt x="2156" y="10782"/>
                  </a:lnTo>
                  <a:lnTo>
                    <a:pt x="1985" y="10749"/>
                  </a:lnTo>
                  <a:lnTo>
                    <a:pt x="1832" y="10719"/>
                  </a:lnTo>
                  <a:lnTo>
                    <a:pt x="1695" y="10691"/>
                  </a:lnTo>
                  <a:lnTo>
                    <a:pt x="1577" y="10666"/>
                  </a:lnTo>
                  <a:lnTo>
                    <a:pt x="1477" y="10643"/>
                  </a:lnTo>
                  <a:lnTo>
                    <a:pt x="1396" y="10625"/>
                  </a:lnTo>
                  <a:lnTo>
                    <a:pt x="1334" y="10610"/>
                  </a:lnTo>
                  <a:lnTo>
                    <a:pt x="1293" y="10600"/>
                  </a:lnTo>
                  <a:lnTo>
                    <a:pt x="1293" y="152"/>
                  </a:lnTo>
                  <a:lnTo>
                    <a:pt x="12547" y="152"/>
                  </a:lnTo>
                  <a:lnTo>
                    <a:pt x="12547" y="10600"/>
                  </a:lnTo>
                  <a:lnTo>
                    <a:pt x="12508" y="10610"/>
                  </a:lnTo>
                  <a:lnTo>
                    <a:pt x="12447" y="10623"/>
                  </a:lnTo>
                  <a:lnTo>
                    <a:pt x="12367" y="10641"/>
                  </a:lnTo>
                  <a:lnTo>
                    <a:pt x="12267" y="10663"/>
                  </a:lnTo>
                  <a:lnTo>
                    <a:pt x="12149" y="10687"/>
                  </a:lnTo>
                  <a:lnTo>
                    <a:pt x="12011" y="10715"/>
                  </a:lnTo>
                  <a:lnTo>
                    <a:pt x="11857" y="10744"/>
                  </a:lnTo>
                  <a:lnTo>
                    <a:pt x="11685" y="10777"/>
                  </a:lnTo>
                  <a:lnTo>
                    <a:pt x="11496" y="10809"/>
                  </a:lnTo>
                  <a:lnTo>
                    <a:pt x="11291" y="10844"/>
                  </a:lnTo>
                  <a:lnTo>
                    <a:pt x="11071" y="10880"/>
                  </a:lnTo>
                  <a:lnTo>
                    <a:pt x="10836" y="10914"/>
                  </a:lnTo>
                  <a:lnTo>
                    <a:pt x="10587" y="10950"/>
                  </a:lnTo>
                  <a:lnTo>
                    <a:pt x="10326" y="10985"/>
                  </a:lnTo>
                  <a:lnTo>
                    <a:pt x="10050" y="11017"/>
                  </a:lnTo>
                  <a:lnTo>
                    <a:pt x="9763" y="11050"/>
                  </a:lnTo>
                  <a:lnTo>
                    <a:pt x="9755" y="11051"/>
                  </a:lnTo>
                  <a:lnTo>
                    <a:pt x="9749" y="11052"/>
                  </a:lnTo>
                  <a:lnTo>
                    <a:pt x="9742" y="11055"/>
                  </a:lnTo>
                  <a:lnTo>
                    <a:pt x="9736" y="11057"/>
                  </a:lnTo>
                  <a:lnTo>
                    <a:pt x="9730" y="11061"/>
                  </a:lnTo>
                  <a:lnTo>
                    <a:pt x="9725" y="11065"/>
                  </a:lnTo>
                  <a:lnTo>
                    <a:pt x="9719" y="11069"/>
                  </a:lnTo>
                  <a:lnTo>
                    <a:pt x="9715" y="11074"/>
                  </a:lnTo>
                  <a:lnTo>
                    <a:pt x="9710" y="11079"/>
                  </a:lnTo>
                  <a:lnTo>
                    <a:pt x="9707" y="11085"/>
                  </a:lnTo>
                  <a:lnTo>
                    <a:pt x="9703" y="11091"/>
                  </a:lnTo>
                  <a:lnTo>
                    <a:pt x="9701" y="11097"/>
                  </a:lnTo>
                  <a:lnTo>
                    <a:pt x="9698" y="11104"/>
                  </a:lnTo>
                  <a:lnTo>
                    <a:pt x="9696" y="11111"/>
                  </a:lnTo>
                  <a:lnTo>
                    <a:pt x="9695" y="11117"/>
                  </a:lnTo>
                  <a:lnTo>
                    <a:pt x="9695" y="11125"/>
                  </a:lnTo>
                  <a:lnTo>
                    <a:pt x="9695" y="11862"/>
                  </a:lnTo>
                  <a:lnTo>
                    <a:pt x="9695" y="11870"/>
                  </a:lnTo>
                  <a:lnTo>
                    <a:pt x="9696" y="11877"/>
                  </a:lnTo>
                  <a:lnTo>
                    <a:pt x="9699" y="11885"/>
                  </a:lnTo>
                  <a:lnTo>
                    <a:pt x="9701" y="11892"/>
                  </a:lnTo>
                  <a:lnTo>
                    <a:pt x="9705" y="11898"/>
                  </a:lnTo>
                  <a:lnTo>
                    <a:pt x="9708" y="11904"/>
                  </a:lnTo>
                  <a:lnTo>
                    <a:pt x="9713" y="11910"/>
                  </a:lnTo>
                  <a:lnTo>
                    <a:pt x="9718" y="11915"/>
                  </a:lnTo>
                  <a:lnTo>
                    <a:pt x="9723" y="11920"/>
                  </a:lnTo>
                  <a:lnTo>
                    <a:pt x="9729" y="11926"/>
                  </a:lnTo>
                  <a:lnTo>
                    <a:pt x="9735" y="11929"/>
                  </a:lnTo>
                  <a:lnTo>
                    <a:pt x="9741" y="11933"/>
                  </a:lnTo>
                  <a:lnTo>
                    <a:pt x="9748" y="11935"/>
                  </a:lnTo>
                  <a:lnTo>
                    <a:pt x="9756" y="11937"/>
                  </a:lnTo>
                  <a:lnTo>
                    <a:pt x="9763" y="11938"/>
                  </a:lnTo>
                  <a:lnTo>
                    <a:pt x="9771" y="11939"/>
                  </a:lnTo>
                  <a:lnTo>
                    <a:pt x="12298" y="11939"/>
                  </a:lnTo>
                  <a:lnTo>
                    <a:pt x="13688" y="14042"/>
                  </a:lnTo>
                  <a:lnTo>
                    <a:pt x="13688" y="14374"/>
                  </a:lnTo>
                  <a:lnTo>
                    <a:pt x="152" y="14374"/>
                  </a:lnTo>
                  <a:lnTo>
                    <a:pt x="152" y="14049"/>
                  </a:lnTo>
                  <a:lnTo>
                    <a:pt x="1542" y="11939"/>
                  </a:lnTo>
                  <a:close/>
                  <a:moveTo>
                    <a:pt x="75" y="14096"/>
                  </a:moveTo>
                  <a:lnTo>
                    <a:pt x="77" y="14095"/>
                  </a:lnTo>
                  <a:lnTo>
                    <a:pt x="79" y="14095"/>
                  </a:lnTo>
                  <a:lnTo>
                    <a:pt x="81" y="14095"/>
                  </a:lnTo>
                  <a:lnTo>
                    <a:pt x="83" y="14095"/>
                  </a:lnTo>
                  <a:lnTo>
                    <a:pt x="85" y="14094"/>
                  </a:lnTo>
                  <a:lnTo>
                    <a:pt x="87" y="14094"/>
                  </a:lnTo>
                  <a:lnTo>
                    <a:pt x="89" y="14094"/>
                  </a:lnTo>
                  <a:lnTo>
                    <a:pt x="91" y="14093"/>
                  </a:lnTo>
                  <a:lnTo>
                    <a:pt x="92" y="14092"/>
                  </a:lnTo>
                  <a:lnTo>
                    <a:pt x="94" y="14092"/>
                  </a:lnTo>
                  <a:lnTo>
                    <a:pt x="96" y="14091"/>
                  </a:lnTo>
                  <a:lnTo>
                    <a:pt x="98" y="14090"/>
                  </a:lnTo>
                  <a:lnTo>
                    <a:pt x="100" y="14090"/>
                  </a:lnTo>
                  <a:lnTo>
                    <a:pt x="102" y="14089"/>
                  </a:lnTo>
                  <a:lnTo>
                    <a:pt x="104" y="14088"/>
                  </a:lnTo>
                  <a:lnTo>
                    <a:pt x="107" y="14088"/>
                  </a:lnTo>
                  <a:lnTo>
                    <a:pt x="105" y="14088"/>
                  </a:lnTo>
                  <a:lnTo>
                    <a:pt x="103" y="14089"/>
                  </a:lnTo>
                  <a:lnTo>
                    <a:pt x="101" y="14090"/>
                  </a:lnTo>
                  <a:lnTo>
                    <a:pt x="99" y="14091"/>
                  </a:lnTo>
                  <a:lnTo>
                    <a:pt x="97" y="14092"/>
                  </a:lnTo>
                  <a:lnTo>
                    <a:pt x="95" y="14092"/>
                  </a:lnTo>
                  <a:lnTo>
                    <a:pt x="93" y="14093"/>
                  </a:lnTo>
                  <a:lnTo>
                    <a:pt x="91" y="14093"/>
                  </a:lnTo>
                  <a:lnTo>
                    <a:pt x="89" y="14094"/>
                  </a:lnTo>
                  <a:lnTo>
                    <a:pt x="87" y="14094"/>
                  </a:lnTo>
                  <a:lnTo>
                    <a:pt x="85" y="14095"/>
                  </a:lnTo>
                  <a:lnTo>
                    <a:pt x="83" y="14095"/>
                  </a:lnTo>
                  <a:lnTo>
                    <a:pt x="81" y="14095"/>
                  </a:lnTo>
                  <a:lnTo>
                    <a:pt x="79" y="14095"/>
                  </a:lnTo>
                  <a:lnTo>
                    <a:pt x="77" y="14095"/>
                  </a:lnTo>
                  <a:lnTo>
                    <a:pt x="75" y="14096"/>
                  </a:lnTo>
                  <a:close/>
                  <a:moveTo>
                    <a:pt x="46" y="13951"/>
                  </a:moveTo>
                  <a:lnTo>
                    <a:pt x="45" y="13951"/>
                  </a:lnTo>
                  <a:lnTo>
                    <a:pt x="45" y="13952"/>
                  </a:lnTo>
                  <a:lnTo>
                    <a:pt x="44" y="13952"/>
                  </a:lnTo>
                  <a:lnTo>
                    <a:pt x="44" y="13953"/>
                  </a:lnTo>
                  <a:lnTo>
                    <a:pt x="44" y="13952"/>
                  </a:lnTo>
                  <a:lnTo>
                    <a:pt x="45" y="13952"/>
                  </a:lnTo>
                  <a:lnTo>
                    <a:pt x="45" y="13951"/>
                  </a:lnTo>
                  <a:lnTo>
                    <a:pt x="46" y="139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64"/>
          <p:cNvSpPr/>
          <p:nvPr/>
        </p:nvSpPr>
        <p:spPr>
          <a:xfrm>
            <a:off x="2579400" y="6383160"/>
            <a:ext cx="72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新エントリシステ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5" descr="MCj02233500000[1]"/>
          <p:cNvPicPr/>
          <p:nvPr/>
        </p:nvPicPr>
        <p:blipFill>
          <a:blip r:embed="rId2"/>
          <a:stretch/>
        </p:blipFill>
        <p:spPr>
          <a:xfrm>
            <a:off x="4202280" y="2846520"/>
            <a:ext cx="433080" cy="3474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6"/>
          <p:cNvSpPr/>
          <p:nvPr/>
        </p:nvSpPr>
        <p:spPr>
          <a:xfrm>
            <a:off x="4226400" y="2662200"/>
            <a:ext cx="38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ＦＡＸ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67"/>
          <p:cNvSpPr/>
          <p:nvPr/>
        </p:nvSpPr>
        <p:spPr>
          <a:xfrm>
            <a:off x="7189920" y="2276640"/>
            <a:ext cx="360360" cy="1584000"/>
          </a:xfrm>
          <a:custGeom>
            <a:avLst/>
            <a:gdLst>
              <a:gd name="textAreaLeft" fmla="*/ 0 w 360360"/>
              <a:gd name="textAreaRight" fmla="*/ 129960 w 360360"/>
              <a:gd name="textAreaTop" fmla="*/ 37080 h 1584000"/>
              <a:gd name="textAreaBottom" fmla="*/ 1546920 h 158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12"/>
                  <a:pt x="10800" y="1623"/>
                </a:cubicBezTo>
                <a:lnTo>
                  <a:pt x="10800" y="9177"/>
                </a:lnTo>
                <a:cubicBezTo>
                  <a:pt x="10800" y="9989"/>
                  <a:pt x="16200" y="10800"/>
                  <a:pt x="21600" y="10800"/>
                </a:cubicBezTo>
                <a:cubicBezTo>
                  <a:pt x="16200" y="10800"/>
                  <a:pt x="10800" y="11612"/>
                  <a:pt x="10800" y="12423"/>
                </a:cubicBezTo>
                <a:lnTo>
                  <a:pt x="10800" y="19977"/>
                </a:lnTo>
                <a:cubicBezTo>
                  <a:pt x="10800" y="2078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AutoShape 68"/>
          <p:cNvCxnSpPr>
            <a:endCxn id="155" idx="0"/>
          </p:cNvCxnSpPr>
          <p:nvPr/>
        </p:nvCxnSpPr>
        <p:spPr>
          <a:xfrm rot="5400000">
            <a:off x="312120" y="1928520"/>
            <a:ext cx="1296360" cy="696240"/>
          </a:xfrm>
          <a:prstGeom prst="bentConnector3">
            <a:avLst>
              <a:gd name="adj1" fmla="val -8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Line 69"/>
          <p:cNvSpPr/>
          <p:nvPr/>
        </p:nvSpPr>
        <p:spPr>
          <a:xfrm>
            <a:off x="1030320" y="31417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0"/>
          <p:cNvSpPr/>
          <p:nvPr/>
        </p:nvSpPr>
        <p:spPr>
          <a:xfrm>
            <a:off x="2729880" y="102384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事務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71"/>
          <p:cNvSpPr/>
          <p:nvPr/>
        </p:nvSpPr>
        <p:spPr>
          <a:xfrm>
            <a:off x="2268360" y="5445000"/>
            <a:ext cx="2592720" cy="505080"/>
          </a:xfrm>
          <a:prstGeom prst="downArrow">
            <a:avLst>
              <a:gd name="adj1" fmla="val 60444"/>
              <a:gd name="adj2" fmla="val 5261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正規取次処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2"/>
          <p:cNvSpPr/>
          <p:nvPr/>
        </p:nvSpPr>
        <p:spPr>
          <a:xfrm>
            <a:off x="7486560" y="292428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＜最短１時間後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73"/>
          <p:cNvSpPr/>
          <p:nvPr/>
        </p:nvSpPr>
        <p:spPr>
          <a:xfrm>
            <a:off x="5460840" y="4757760"/>
            <a:ext cx="1657440" cy="23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申込取次票（コンサル結果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4" descr="MCj02233500000[1]"/>
          <p:cNvPicPr/>
          <p:nvPr/>
        </p:nvPicPr>
        <p:blipFill>
          <a:blip r:embed="rId3"/>
          <a:stretch/>
        </p:blipFill>
        <p:spPr>
          <a:xfrm>
            <a:off x="4211640" y="4724280"/>
            <a:ext cx="433440" cy="3477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75"/>
          <p:cNvSpPr/>
          <p:nvPr/>
        </p:nvSpPr>
        <p:spPr>
          <a:xfrm>
            <a:off x="4232520" y="4508640"/>
            <a:ext cx="38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ＦＡＸ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76"/>
          <p:cNvSpPr/>
          <p:nvPr/>
        </p:nvSpPr>
        <p:spPr>
          <a:xfrm>
            <a:off x="2581200" y="4757760"/>
            <a:ext cx="790560" cy="23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受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AutoShape 77"/>
          <p:cNvCxnSpPr>
            <a:stCxn id="212" idx="1"/>
            <a:endCxn id="215" idx="3"/>
          </p:cNvCxnSpPr>
          <p:nvPr/>
        </p:nvCxnSpPr>
        <p:spPr>
          <a:xfrm flipH="1">
            <a:off x="3371040" y="4876560"/>
            <a:ext cx="2089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Line 78"/>
          <p:cNvSpPr/>
          <p:nvPr/>
        </p:nvSpPr>
        <p:spPr>
          <a:xfrm>
            <a:off x="3203640" y="62373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9"/>
          <p:cNvSpPr/>
          <p:nvPr/>
        </p:nvSpPr>
        <p:spPr>
          <a:xfrm>
            <a:off x="4167720" y="5005440"/>
            <a:ext cx="5464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コンサル結果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80"/>
          <p:cNvSpPr/>
          <p:nvPr/>
        </p:nvSpPr>
        <p:spPr>
          <a:xfrm>
            <a:off x="5435640" y="6113520"/>
            <a:ext cx="1657440" cy="23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即応オーダ括り付け／ＳＯ処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81"/>
          <p:cNvSpPr/>
          <p:nvPr/>
        </p:nvSpPr>
        <p:spPr>
          <a:xfrm>
            <a:off x="1258920" y="2565360"/>
            <a:ext cx="936720" cy="216000"/>
          </a:xfrm>
          <a:prstGeom prst="wedgeRectCallout">
            <a:avLst>
              <a:gd name="adj1" fmla="val 4069"/>
              <a:gd name="adj2" fmla="val 115439"/>
            </a:avLst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連絡先なるべく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２つヒアリング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2"/>
          <p:cNvSpPr/>
          <p:nvPr/>
        </p:nvSpPr>
        <p:spPr>
          <a:xfrm>
            <a:off x="2411280" y="3576600"/>
            <a:ext cx="1008360" cy="25884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ff3300"/>
                </a:solidFill>
                <a:latin typeface="HGP創英角ｺﾞｼｯｸUB"/>
                <a:ea typeface="HGP創英角ｺﾞｼｯｸUB"/>
              </a:rPr>
              <a:t>工事日等連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3"/>
          <p:cNvSpPr/>
          <p:nvPr/>
        </p:nvSpPr>
        <p:spPr>
          <a:xfrm>
            <a:off x="1258920" y="4033800"/>
            <a:ext cx="1008000" cy="25884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ff3300"/>
                </a:solidFill>
                <a:latin typeface="HGP創英角ｺﾞｼｯｸUB"/>
                <a:ea typeface="HGP創英角ｺﾞｼｯｸUB"/>
              </a:rPr>
              <a:t>代理店コンサル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AutoShape 84"/>
          <p:cNvCxnSpPr>
            <a:stCxn id="158" idx="2"/>
            <a:endCxn id="222" idx="1"/>
          </p:cNvCxnSpPr>
          <p:nvPr/>
        </p:nvCxnSpPr>
        <p:spPr>
          <a:xfrm flipH="1" rot="16200000">
            <a:off x="753120" y="3657960"/>
            <a:ext cx="354960" cy="658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AutoShape 85"/>
          <p:cNvCxnSpPr>
            <a:stCxn id="222" idx="3"/>
            <a:endCxn id="160" idx="2"/>
          </p:cNvCxnSpPr>
          <p:nvPr/>
        </p:nvCxnSpPr>
        <p:spPr>
          <a:xfrm flipV="1">
            <a:off x="2266920" y="3809520"/>
            <a:ext cx="4023360" cy="35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25" name="Picture 86" descr="MCj02233500000[1]"/>
          <p:cNvPicPr/>
          <p:nvPr/>
        </p:nvPicPr>
        <p:blipFill>
          <a:blip r:embed="rId4"/>
          <a:stretch/>
        </p:blipFill>
        <p:spPr>
          <a:xfrm>
            <a:off x="4211640" y="3441600"/>
            <a:ext cx="433440" cy="3477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87"/>
          <p:cNvSpPr/>
          <p:nvPr/>
        </p:nvSpPr>
        <p:spPr>
          <a:xfrm>
            <a:off x="4228560" y="3257640"/>
            <a:ext cx="38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ＴＥ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88" descr="MCj02233500000[1]"/>
          <p:cNvPicPr/>
          <p:nvPr/>
        </p:nvPicPr>
        <p:blipFill>
          <a:blip r:embed="rId5"/>
          <a:stretch/>
        </p:blipFill>
        <p:spPr>
          <a:xfrm>
            <a:off x="4211640" y="3973680"/>
            <a:ext cx="433440" cy="3474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89"/>
          <p:cNvSpPr/>
          <p:nvPr/>
        </p:nvSpPr>
        <p:spPr>
          <a:xfrm>
            <a:off x="4228560" y="3789360"/>
            <a:ext cx="38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ＴＥ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0"/>
          <p:cNvSpPr/>
          <p:nvPr/>
        </p:nvSpPr>
        <p:spPr>
          <a:xfrm>
            <a:off x="8196480" y="47520"/>
            <a:ext cx="798120" cy="231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ファミリータイプ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91"/>
          <p:cNvSpPr/>
          <p:nvPr/>
        </p:nvSpPr>
        <p:spPr>
          <a:xfrm>
            <a:off x="2268360" y="2565360"/>
            <a:ext cx="936720" cy="216000"/>
          </a:xfrm>
          <a:prstGeom prst="wedgeRectCallout">
            <a:avLst>
              <a:gd name="adj1" fmla="val -41185"/>
              <a:gd name="adj2" fmla="val 168384"/>
            </a:avLst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事前に提供判定実施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０１２０－６６６－６１２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7:01:14Z</dcterms:created>
  <dc:creator>kurodah</dc:creator>
  <dc:description/>
  <dc:language>en-US</dc:language>
  <cp:lastModifiedBy>大久保　充</cp:lastModifiedBy>
  <dcterms:modified xsi:type="dcterms:W3CDTF">2013-04-10T03:58:50Z</dcterms:modified>
  <cp:revision>38</cp:revision>
  <dc:subject/>
  <dc:title>スライド 1</dc:title>
</cp:coreProperties>
</file>