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1744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1744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60CCF3-3A71-4392-A408-7D62DA9A2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4B773AE-8677-49A4-A24F-B3497D43092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BA033D-D996-4132-8BC3-8A6C9BD1906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8200" y="468468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32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34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32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34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FE4-AB9A-4E4D-87B1-86725892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187-385A-4AC2-AEC2-16B3416F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8C1-F0F9-4A16-9C92-55B8BB9F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CAA-4545-4F79-AF94-65D0C7D2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0D4-3771-438C-A2ED-A633CF5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880" y="41400"/>
            <a:ext cx="708660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7C3-F25B-4C9E-8A52-45FABB2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151-F381-4997-87D5-E483C00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04E-CE1A-4D61-85EE-9B5C2CA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3CA-5FAB-4B66-82FD-218E542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45C-445C-48BA-9232-0217908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0B8-F009-4DC7-BFEA-344480B0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32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34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0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32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34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D55-9AAC-43CF-AAA8-7235EBBE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6172-450B-47F9-B022-3DE54A85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97D8-96DF-4265-9CB4-5A92DCD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FC1-16DF-4BD0-AEB6-DB418155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2507-A157-455F-8F00-0A440C81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B29-F167-44CB-8D4B-2F1ABE4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6880" y="41400"/>
            <a:ext cx="708660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44D-F17C-4CA0-84E2-A991D3AA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FBE-A4EE-43AF-9276-BDD438D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1AC1-ED61-4891-8540-DE12E52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5F51-772F-490F-B69A-1BDCBBC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B80-164C-4791-A6D2-BA9A9B80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099D-5CA5-4F26-8AE7-837329A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032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34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30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032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34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2C1E-25AB-4481-BA05-D89F4F9E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6880" y="41400"/>
            <a:ext cx="708660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032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43400" y="56052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30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032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43400" y="3727080"/>
            <a:ext cx="28951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880" y="41400"/>
            <a:ext cx="708660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72708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560520"/>
            <a:ext cx="438768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" y="3727080"/>
            <a:ext cx="8991720" cy="28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4"/>
          <p:cNvSpPr/>
          <p:nvPr/>
        </p:nvSpPr>
        <p:spPr>
          <a:xfrm>
            <a:off x="4038480" y="6672240"/>
            <a:ext cx="10670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－ </a:t>
            </a:r>
            <a:fld id="{506CEEF7-73B0-4B16-AAF7-D8E9E78CCF35}" type="slidenum"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－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3" name="Picture 31" descr="new_logo"/>
          <p:cNvPicPr/>
          <p:nvPr/>
        </p:nvPicPr>
        <p:blipFill>
          <a:blip r:embed="rId2"/>
          <a:stretch/>
        </p:blipFill>
        <p:spPr>
          <a:xfrm>
            <a:off x="8299440" y="146160"/>
            <a:ext cx="835200" cy="447480"/>
          </a:xfrm>
          <a:prstGeom prst="rect">
            <a:avLst/>
          </a:prstGeom>
          <a:ln w="0">
            <a:noFill/>
          </a:ln>
        </p:spPr>
      </p:pic>
      <p:sp>
        <p:nvSpPr>
          <p:cNvPr id="4" name="Line 32"/>
          <p:cNvSpPr/>
          <p:nvPr/>
        </p:nvSpPr>
        <p:spPr>
          <a:xfrm>
            <a:off x="47520" y="498600"/>
            <a:ext cx="81914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559-8F31-4C27-BD3D-FEA750D005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64D-32AF-4341-9466-4FD3D53EC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4" descr="new_logo"/>
          <p:cNvPicPr/>
          <p:nvPr/>
        </p:nvPicPr>
        <p:blipFill>
          <a:blip r:embed="rId2"/>
          <a:stretch/>
        </p:blipFill>
        <p:spPr>
          <a:xfrm>
            <a:off x="8001000" y="152280"/>
            <a:ext cx="1066680" cy="571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414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3000" y="560520"/>
            <a:ext cx="8991720" cy="60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37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nisweb.osk.usen.co.jp/siten/tokusoku_manual_set.zip" TargetMode="External"/><Relationship Id="rId2" Type="http://schemas.openxmlformats.org/officeDocument/2006/relationships/hyperlink" Target="http://www.mxa.usen.co.jp/~u8111/eisui_web/03_gyoumumanual/data/kaiyaku/kaiyaku_guideline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imes New Roman"/>
              </a:rPr>
              <a:t>解約・貸倒処理ガイドライ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14/03/04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ペレーション企画部 管理課 債権管理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880" y="12708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目　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363600" y="294156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4610160" y="1962000"/>
            <a:ext cx="4438440" cy="3048120"/>
          </a:xfrm>
          <a:prstGeom prst="roundRect">
            <a:avLst>
              <a:gd name="adj" fmla="val 3542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AutoShape 32"/>
          <p:cNvSpPr/>
          <p:nvPr/>
        </p:nvSpPr>
        <p:spPr>
          <a:xfrm>
            <a:off x="82440" y="1963800"/>
            <a:ext cx="4465800" cy="3056040"/>
          </a:xfrm>
          <a:prstGeom prst="roundRect">
            <a:avLst>
              <a:gd name="adj" fmla="val 3968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82440" y="596880"/>
            <a:ext cx="8947440" cy="1278000"/>
          </a:xfrm>
          <a:prstGeom prst="roundRect">
            <a:avLst>
              <a:gd name="adj" fmla="val 5843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3443400" y="78264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.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解約処理について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3438360" y="142704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.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貸倒処理について　</a:t>
            </a:r>
            <a:endParaRPr b="1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8" name="Text Box 51"/>
          <p:cNvSpPr/>
          <p:nvPr/>
        </p:nvSpPr>
        <p:spPr>
          <a:xfrm>
            <a:off x="4700520" y="1968480"/>
            <a:ext cx="414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対　象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Text Box 52"/>
          <p:cNvSpPr/>
          <p:nvPr/>
        </p:nvSpPr>
        <p:spPr>
          <a:xfrm>
            <a:off x="4594320" y="3489480"/>
            <a:ext cx="43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業種：業務店　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4621320" y="2558880"/>
            <a:ext cx="4408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上記以外については各ルール・事務マニュアルに従ってください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放送以外の商材・グルメＧｙａＯ等について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1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ルール・事務マニュアルを参照の上で処理してください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Text Box 54"/>
          <p:cNvSpPr/>
          <p:nvPr/>
        </p:nvSpPr>
        <p:spPr>
          <a:xfrm>
            <a:off x="158760" y="1965240"/>
            <a:ext cx="414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目　的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Text Box 55"/>
          <p:cNvSpPr/>
          <p:nvPr/>
        </p:nvSpPr>
        <p:spPr>
          <a:xfrm>
            <a:off x="109440" y="2583000"/>
            <a:ext cx="44355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現状、支店運営におけるサービス処理・解約処理・貸倒処理については、ＵＮＩＳの機能拡充や月次での連絡事項等で、ある程度指針を示しながらも、支店長並びに支店スタッフの経験に基づいた運用になっています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本ガイドラインでは、それぞれに関連する基準事項を示すことにより、業務プロセスの統一化を実現することにあります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3" name="Text Box 56"/>
          <p:cNvSpPr/>
          <p:nvPr/>
        </p:nvSpPr>
        <p:spPr>
          <a:xfrm>
            <a:off x="77760" y="2262240"/>
            <a:ext cx="35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業務プロセスの統一化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Text Box 57"/>
          <p:cNvSpPr/>
          <p:nvPr/>
        </p:nvSpPr>
        <p:spPr>
          <a:xfrm>
            <a:off x="4614840" y="3776760"/>
            <a:ext cx="44290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『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業務店未収督促センター化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』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施策については別途「業務店未収督促センター化マニュアルフロー」をご確認ください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unisweb.osk.usen.co.jp/siten/tokusoku_manual_set.zip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Text Box 58"/>
          <p:cNvSpPr/>
          <p:nvPr/>
        </p:nvSpPr>
        <p:spPr>
          <a:xfrm>
            <a:off x="4605480" y="2273400"/>
            <a:ext cx="43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商材：放送商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主にケーブ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USEN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OUND PLANE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Rectangle 69"/>
          <p:cNvSpPr/>
          <p:nvPr/>
        </p:nvSpPr>
        <p:spPr>
          <a:xfrm>
            <a:off x="3195720" y="1163520"/>
            <a:ext cx="2741400" cy="190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個店は業務店受付センターが一次対応します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AutoShape 38"/>
          <p:cNvSpPr/>
          <p:nvPr/>
        </p:nvSpPr>
        <p:spPr>
          <a:xfrm>
            <a:off x="96840" y="5135400"/>
            <a:ext cx="8947080" cy="1509840"/>
          </a:xfrm>
          <a:prstGeom prst="roundRect">
            <a:avLst>
              <a:gd name="adj" fmla="val 5843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158760" y="515952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業務店受付センターの運用について、以下も併読願います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160200" y="5521320"/>
            <a:ext cx="877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業務店受付センター　解約・休止受付ガイドライン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http://www.mxa.usen.co.jp/~u8111/eisui_web/03_gyoumumanual/data/kaiyaku/kaiyaku_guideline.pdf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162000" y="6054840"/>
            <a:ext cx="8775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期 業務店解約・休止運用変更点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http://www.mxa.usen.co.jp/~u8111/eisui_web/03_gyoumumanual/data/kaiyaku/henkou_point.pdf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880" y="1080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‐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１．解約処理につい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363600" y="510696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7520" y="585720"/>
            <a:ext cx="9037800" cy="6112080"/>
          </a:xfrm>
          <a:prstGeom prst="roundRect">
            <a:avLst>
              <a:gd name="adj" fmla="val 231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90440" y="2770200"/>
            <a:ext cx="8717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通常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顧客申出による解約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AutoShape 26"/>
          <p:cNvSpPr/>
          <p:nvPr/>
        </p:nvSpPr>
        <p:spPr>
          <a:xfrm>
            <a:off x="144360" y="2754360"/>
            <a:ext cx="8847360" cy="3876480"/>
          </a:xfrm>
          <a:prstGeom prst="roundRect">
            <a:avLst>
              <a:gd name="adj" fmla="val 3278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114480" y="642960"/>
            <a:ext cx="8991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解約処理フロー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7200" y="990720"/>
            <a:ext cx="8721720" cy="958680"/>
          </a:xfrm>
          <a:prstGeom prst="roundRect">
            <a:avLst>
              <a:gd name="adj" fmla="val 6014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366840" y="1427040"/>
            <a:ext cx="8496000" cy="61920"/>
          </a:xfrm>
          <a:prstGeom prst="line">
            <a:avLst/>
          </a:prstGeom>
          <a:ln w="12708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727200" y="1125360"/>
            <a:ext cx="1523880" cy="62100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IC</a:t>
            </a: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・営業受付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／業務店受付センター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対応依頼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顧客申出・発見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2139840" y="1106640"/>
            <a:ext cx="1524240" cy="6429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業務店受付センター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交渉／確認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事由・時期を確定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AutoShape 33"/>
          <p:cNvSpPr/>
          <p:nvPr/>
        </p:nvSpPr>
        <p:spPr>
          <a:xfrm>
            <a:off x="3578400" y="1108080"/>
            <a:ext cx="1523880" cy="6350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承認／決裁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支店長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最終判断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252360" y="2066760"/>
            <a:ext cx="8596440" cy="562320"/>
          </a:xfrm>
          <a:prstGeom prst="rect">
            <a:avLst/>
          </a:prstGeom>
          <a:gradFill rotWithShape="0">
            <a:gsLst>
              <a:gs pos="0">
                <a:srgbClr val="deefad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通常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顧客申出による解約</a:t>
            </a: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②強制</a:t>
            </a:r>
            <a:r>
              <a:rPr b="1" lang="en-US" sz="13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当社判断による解約</a:t>
            </a:r>
            <a:endParaRPr b="1" lang="en-US" sz="13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</a:rPr>
              <a:t>　　　それぞれのパターンについて重要な項目・ポイントを記します。</a:t>
            </a:r>
            <a:endParaRPr b="1" lang="en-US" sz="13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AutoShape 37"/>
          <p:cNvSpPr/>
          <p:nvPr/>
        </p:nvSpPr>
        <p:spPr>
          <a:xfrm>
            <a:off x="4983120" y="1109520"/>
            <a:ext cx="1523880" cy="6350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解約確定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総務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S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入力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AutoShape 39"/>
          <p:cNvSpPr/>
          <p:nvPr/>
        </p:nvSpPr>
        <p:spPr>
          <a:xfrm>
            <a:off x="6405480" y="1112760"/>
            <a:ext cx="1524240" cy="6350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チューナー撤去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断線処理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総務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S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入力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403200" y="3097080"/>
            <a:ext cx="293364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業者向け（業務店）約款の条件について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384120" y="4403880"/>
            <a:ext cx="295272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解約申請書到着時の支店対応について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709560" y="5111640"/>
            <a:ext cx="49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主に「総務」は以下の対応をしてください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701640" y="4664160"/>
            <a:ext cx="49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訪問時の直接受付はしないでください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1028880" y="5343480"/>
            <a:ext cx="8092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確認すべき項目　⇒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支店長・営業への報告タイミングと方法　⇒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1015920" y="4878360"/>
            <a:ext cx="809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UIC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0120-117-44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）の電話番号を伝えて、お客様から直接連絡を入れてもらうよう誘導してください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582480" y="6191280"/>
            <a:ext cx="8136000" cy="398520"/>
          </a:xfrm>
          <a:prstGeom prst="rect">
            <a:avLst/>
          </a:prstGeom>
          <a:gradFill rotWithShape="0">
            <a:gsLst>
              <a:gs pos="0">
                <a:srgbClr val="ffff7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押え交渉の必要性や新店情報獲得など営業対応が</a:t>
            </a:r>
            <a:r>
              <a:rPr b="0" lang="ja-JP" sz="1000" spc="-1" strike="noStrike">
                <a:solidFill>
                  <a:srgbClr val="3333cc"/>
                </a:solidFill>
                <a:latin typeface="ＭＳ Ｐゴシック"/>
              </a:rPr>
              <a:t>必須です。</a:t>
            </a: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総務が電話対応する場合は、あくまでも承るのみとすることを推奨します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ＭＳ Ｐゴシック"/>
              </a:rPr>
              <a:t>（対応者個々のスキルや顧客ボリュームなどを考慮して判断してください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425520" y="4163760"/>
            <a:ext cx="635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短期解約を防ぐため、解約押えの手段として有効活用が望ましい。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Text Box 56"/>
          <p:cNvSpPr/>
          <p:nvPr/>
        </p:nvSpPr>
        <p:spPr>
          <a:xfrm>
            <a:off x="311040" y="3375000"/>
            <a:ext cx="7907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解約を希望する日の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ヶ月前までに当社へ通知すること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契約期間が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年未満の場合、解約料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0,00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円を支払うこと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Text Box 57"/>
          <p:cNvSpPr/>
          <p:nvPr/>
        </p:nvSpPr>
        <p:spPr>
          <a:xfrm>
            <a:off x="433440" y="3606480"/>
            <a:ext cx="8559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原則、全ての顧客に対して適用すべきであるが、解約事由が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『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閉店・廃業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』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場合かつ、申出月中にチューナー撤去もしくは断線・施錠が出来る場合は、この限りではない。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430200" y="3765240"/>
            <a:ext cx="786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前受金返金を行う場合、計算式は次の通り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Text Box 59"/>
          <p:cNvSpPr/>
          <p:nvPr/>
        </p:nvSpPr>
        <p:spPr>
          <a:xfrm>
            <a:off x="3614760" y="5925960"/>
            <a:ext cx="507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随時にまたは当日中～遅くても翌営業日に、申請内容と上記確認結果を報告すること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2425680" y="5335560"/>
            <a:ext cx="629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UNIS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で確認する　・・・　①設置先情報　②契約内容　③契約期間　④入金（未収）状況　⑤支払方法　⑥最終課金月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2424240" y="5535720"/>
            <a:ext cx="622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　顧客に聞く　・・・　解約申請書の内容で不足もしくは補足が必要な内容（今後の連絡先や支払方法など）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9" name="Text Box 63"/>
          <p:cNvSpPr/>
          <p:nvPr/>
        </p:nvSpPr>
        <p:spPr>
          <a:xfrm>
            <a:off x="2685960" y="3756240"/>
            <a:ext cx="4556160" cy="151920"/>
          </a:xfrm>
          <a:prstGeom prst="rect">
            <a:avLst/>
          </a:prstGeom>
          <a:solidFill>
            <a:srgbClr val="ffff00"/>
          </a:solidFill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900" spc="-1" strike="noStrike">
                <a:solidFill>
                  <a:srgbClr val="3333cc"/>
                </a:solidFill>
                <a:latin typeface="ＭＳ Ｐゴシック"/>
              </a:rPr>
              <a:t>返金額計算式＝</a:t>
            </a:r>
            <a:r>
              <a:rPr b="0" lang="en-US" sz="900" spc="-1" strike="noStrike">
                <a:solidFill>
                  <a:srgbClr val="3333cc"/>
                </a:solidFill>
                <a:latin typeface="ＭＳ Ｐゴシック"/>
              </a:rPr>
              <a:t>〔</a:t>
            </a:r>
            <a:r>
              <a:rPr b="0" lang="ja-JP" sz="900" spc="-1" strike="noStrike">
                <a:solidFill>
                  <a:srgbClr val="3333cc"/>
                </a:solidFill>
                <a:latin typeface="ＭＳ Ｐゴシック"/>
              </a:rPr>
              <a:t>一括払い入金額（値引後）</a:t>
            </a:r>
            <a:r>
              <a:rPr b="0" lang="en-US" sz="900" spc="-1" strike="noStrike">
                <a:solidFill>
                  <a:srgbClr val="3333cc"/>
                </a:solidFill>
                <a:latin typeface="ＭＳ Ｐゴシック"/>
              </a:rPr>
              <a:t>〕</a:t>
            </a:r>
            <a:r>
              <a:rPr b="0" lang="ja-JP" sz="900" spc="-1" strike="noStrike">
                <a:solidFill>
                  <a:srgbClr val="3333cc"/>
                </a:solidFill>
                <a:latin typeface="ＭＳ Ｐゴシック"/>
              </a:rPr>
              <a:t>－</a:t>
            </a:r>
            <a:r>
              <a:rPr b="0" lang="en-US" sz="900" spc="-1" strike="noStrike">
                <a:solidFill>
                  <a:srgbClr val="3333cc"/>
                </a:solidFill>
                <a:latin typeface="ＭＳ Ｐゴシック"/>
              </a:rPr>
              <a:t>〔</a:t>
            </a:r>
            <a:r>
              <a:rPr b="0" lang="ja-JP" sz="900" spc="-1" strike="noStrike">
                <a:solidFill>
                  <a:srgbClr val="3333cc"/>
                </a:solidFill>
                <a:latin typeface="ＭＳ Ｐゴシック"/>
              </a:rPr>
              <a:t>月額単価（税込）</a:t>
            </a:r>
            <a:r>
              <a:rPr b="0" lang="en-US" sz="900" spc="-1" strike="noStrike">
                <a:solidFill>
                  <a:srgbClr val="3333cc"/>
                </a:solidFill>
                <a:latin typeface="ＭＳ Ｐゴシック"/>
              </a:rPr>
              <a:t>×</a:t>
            </a:r>
            <a:r>
              <a:rPr b="0" lang="ja-JP" sz="900" spc="-1" strike="noStrike">
                <a:solidFill>
                  <a:srgbClr val="3333cc"/>
                </a:solidFill>
                <a:latin typeface="ＭＳ Ｐゴシック"/>
              </a:rPr>
              <a:t>一括該当内の使用月数</a:t>
            </a:r>
            <a:r>
              <a:rPr b="0" lang="en-US" sz="900" spc="-1" strike="noStrike">
                <a:solidFill>
                  <a:srgbClr val="3333cc"/>
                </a:solidFill>
                <a:latin typeface="ＭＳ Ｐゴシック"/>
              </a:rPr>
              <a:t>〕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0" name="Rectangle 69"/>
          <p:cNvSpPr/>
          <p:nvPr/>
        </p:nvSpPr>
        <p:spPr>
          <a:xfrm>
            <a:off x="1679400" y="712800"/>
            <a:ext cx="2660760" cy="190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個店は業務店受付センターが一次対応します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1" name="Rectangle 69"/>
          <p:cNvSpPr/>
          <p:nvPr/>
        </p:nvSpPr>
        <p:spPr>
          <a:xfrm>
            <a:off x="2654280" y="2855880"/>
            <a:ext cx="2624040" cy="190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個店は業務店受付センターが一次対応します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880" y="10800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‐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２．解約処理につい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363600" y="464328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47520" y="587520"/>
            <a:ext cx="9037800" cy="6111720"/>
          </a:xfrm>
          <a:prstGeom prst="roundRect">
            <a:avLst>
              <a:gd name="adj" fmla="val 2144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65040" y="6221520"/>
            <a:ext cx="836928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事業者向け（業務店）約款より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悪質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支払不良顧客に対しては、相当の期間を定めた催告のうえ、サービス停止並びに契約解除を行うことができる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6" name="AutoShape 31"/>
          <p:cNvSpPr/>
          <p:nvPr/>
        </p:nvSpPr>
        <p:spPr>
          <a:xfrm>
            <a:off x="125280" y="725400"/>
            <a:ext cx="8872560" cy="5900760"/>
          </a:xfrm>
          <a:prstGeom prst="roundRect">
            <a:avLst>
              <a:gd name="adj" fmla="val 225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868320" y="1284120"/>
            <a:ext cx="8055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．連絡なしの閉店・廃業、夜逃げ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⇒　加入申込書、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UNIS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契約入力状況を確認し、店舗以外の連絡先も確認する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       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現地確認は看板の有無・店内の状況・チューナー回収可否・近隣への聞き込みなどを行い、時間を変えて数回訪問し、最終判断する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．会社更生法申請、自己破産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⇒　必ず代理人（弁護士や管財人）からの通知を確認すること。裁判所からの文書が届いて確定となる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849240" y="2568600"/>
            <a:ext cx="753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顧客からの理不尽な要求に応じることが出来ない（クレーマー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当社のサービス提供の内容変更（番組改編やデジタル化）について理解を得られない場合は「①通常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顧客申出による解約」となります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119160" y="730080"/>
            <a:ext cx="8717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強制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当社判断による解約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344520" y="1030320"/>
            <a:ext cx="48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連絡不能顧客　≪顧客と交渉が不可能≫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345960" y="2303640"/>
            <a:ext cx="48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悪質顧客　≪顧客と交渉が可能≫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2" name="Text Box 54"/>
          <p:cNvSpPr/>
          <p:nvPr/>
        </p:nvSpPr>
        <p:spPr>
          <a:xfrm>
            <a:off x="846000" y="3432240"/>
            <a:ext cx="73836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．未収督促の交渉には応じるが回収に進捗が見られない（払うとの意思表示は見せるが実際回収がない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．再三の未収督促を無視し交渉の場にすらつくことができない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◆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支払不良から強制解約までは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下記の</a:t>
            </a:r>
            <a:r>
              <a:rPr b="1" lang="ja-JP" sz="1000" spc="-1" strike="noStrike">
                <a:solidFill>
                  <a:srgbClr val="000000"/>
                </a:solidFill>
                <a:latin typeface="ＭＳ Ｐゴシック"/>
              </a:rPr>
              <a:t>サービス処理　②悪質・支払い不良顧客の場合フロー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に従い、期間を定めて処理してください。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3" name="Text Box 55"/>
          <p:cNvSpPr/>
          <p:nvPr/>
        </p:nvSpPr>
        <p:spPr>
          <a:xfrm>
            <a:off x="343080" y="3166920"/>
            <a:ext cx="48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支払不良顧客　≪顧客と交渉が可能≫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4" name="AutoShape 57"/>
          <p:cNvSpPr/>
          <p:nvPr/>
        </p:nvSpPr>
        <p:spPr>
          <a:xfrm>
            <a:off x="162000" y="4537080"/>
            <a:ext cx="8810640" cy="1455840"/>
          </a:xfrm>
          <a:prstGeom prst="roundRect">
            <a:avLst>
              <a:gd name="adj" fmla="val 4574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Line 58"/>
          <p:cNvSpPr/>
          <p:nvPr/>
        </p:nvSpPr>
        <p:spPr>
          <a:xfrm flipV="1">
            <a:off x="376200" y="5657400"/>
            <a:ext cx="8406000" cy="2556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6" name="Line 62"/>
          <p:cNvSpPr/>
          <p:nvPr/>
        </p:nvSpPr>
        <p:spPr>
          <a:xfrm flipV="1">
            <a:off x="930240" y="5292360"/>
            <a:ext cx="7093080" cy="17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7" name="AutoShape 63"/>
          <p:cNvSpPr/>
          <p:nvPr/>
        </p:nvSpPr>
        <p:spPr>
          <a:xfrm>
            <a:off x="1046160" y="4660920"/>
            <a:ext cx="380880" cy="8078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07840"/>
              <a:gd name="textAreaBottom" fmla="*/ 789480 h 807840"/>
            </a:gdLst>
            <a:ahLst/>
            <a:rect l="textAreaLeft" t="textAreaTop" r="textAreaRight" b="textAreaBottom"/>
            <a:pathLst>
              <a:path w="21600" h="45790">
                <a:moveTo>
                  <a:pt x="3600" y="0"/>
                </a:moveTo>
                <a:arcTo wR="3600" hR="3600" stAng="16200000" swAng="-5400000"/>
                <a:lnTo>
                  <a:pt x="0" y="42190"/>
                </a:lnTo>
                <a:arcTo wR="3600" hR="3600" stAng="10800000" swAng="-5400000"/>
                <a:lnTo>
                  <a:pt x="18000" y="45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a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督促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8" name="AutoShape 64"/>
          <p:cNvSpPr/>
          <p:nvPr/>
        </p:nvSpPr>
        <p:spPr>
          <a:xfrm>
            <a:off x="2352600" y="4654440"/>
            <a:ext cx="381240" cy="82404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824040"/>
              <a:gd name="textAreaBottom" fmla="*/ 805680 h 824040"/>
            </a:gdLst>
            <a:ahLst/>
            <a:rect l="textAreaLeft" t="textAreaTop" r="textAreaRight" b="textAreaBottom"/>
            <a:pathLst>
              <a:path w="21600" h="46664">
                <a:moveTo>
                  <a:pt x="3600" y="0"/>
                </a:moveTo>
                <a:arcTo wR="3600" hR="3600" stAng="16200000" swAng="-5400000"/>
                <a:lnTo>
                  <a:pt x="0" y="43064"/>
                </a:lnTo>
                <a:arcTo wR="3600" hR="3600" stAng="10800000" swAng="-5400000"/>
                <a:lnTo>
                  <a:pt x="18000" y="46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a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督促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AutoShape 65"/>
          <p:cNvSpPr/>
          <p:nvPr/>
        </p:nvSpPr>
        <p:spPr>
          <a:xfrm>
            <a:off x="3699000" y="4640400"/>
            <a:ext cx="380880" cy="8334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33400"/>
              <a:gd name="textAreaBottom" fmla="*/ 815040 h 833400"/>
            </a:gdLst>
            <a:ahLst/>
            <a:rect l="textAreaLeft" t="textAreaTop" r="textAreaRight" b="textAreaBottom"/>
            <a:pathLst>
              <a:path w="21600" h="47239">
                <a:moveTo>
                  <a:pt x="3600" y="0"/>
                </a:moveTo>
                <a:arcTo wR="3600" hR="3600" stAng="16200000" swAng="-5400000"/>
                <a:lnTo>
                  <a:pt x="0" y="43639"/>
                </a:lnTo>
                <a:arcTo wR="3600" hR="3600" stAng="10800000" swAng="-5400000"/>
                <a:lnTo>
                  <a:pt x="18000" y="47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a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音止め告知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督促＋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Rectangle 66"/>
          <p:cNvSpPr/>
          <p:nvPr/>
        </p:nvSpPr>
        <p:spPr>
          <a:xfrm>
            <a:off x="1800360" y="5111640"/>
            <a:ext cx="477720" cy="3114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未収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1" name="Rectangle 67"/>
          <p:cNvSpPr/>
          <p:nvPr/>
        </p:nvSpPr>
        <p:spPr>
          <a:xfrm>
            <a:off x="3151080" y="5089680"/>
            <a:ext cx="478080" cy="311040"/>
          </a:xfrm>
          <a:prstGeom prst="rect">
            <a:avLst/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未収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2" name="Rectangle 68"/>
          <p:cNvSpPr/>
          <p:nvPr/>
        </p:nvSpPr>
        <p:spPr>
          <a:xfrm>
            <a:off x="4557600" y="5091120"/>
            <a:ext cx="478080" cy="311040"/>
          </a:xfrm>
          <a:prstGeom prst="rect">
            <a:avLst/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未収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AutoShape 69"/>
          <p:cNvSpPr/>
          <p:nvPr/>
        </p:nvSpPr>
        <p:spPr>
          <a:xfrm>
            <a:off x="5613480" y="4648320"/>
            <a:ext cx="380880" cy="9270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27000"/>
              <a:gd name="textAreaBottom" fmla="*/ 908640 h 927000"/>
            </a:gdLst>
            <a:ahLst/>
            <a:rect l="textAreaLeft" t="textAreaTop" r="textAreaRight" b="textAreaBottom"/>
            <a:pathLst>
              <a:path w="21600" h="52542">
                <a:moveTo>
                  <a:pt x="3600" y="0"/>
                </a:moveTo>
                <a:arcTo wR="3600" hR="3600" stAng="16200000" swAng="-5400000"/>
                <a:lnTo>
                  <a:pt x="0" y="48942"/>
                </a:lnTo>
                <a:arcTo wR="3600" hR="3600" stAng="10800000" swAng="-5400000"/>
                <a:lnTo>
                  <a:pt x="18000" y="52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ff99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音止め・施錠判断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Rectangle 70"/>
          <p:cNvSpPr/>
          <p:nvPr/>
        </p:nvSpPr>
        <p:spPr>
          <a:xfrm>
            <a:off x="6654960" y="4902120"/>
            <a:ext cx="1029960" cy="4446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900" spc="-1" strike="noStrike">
                <a:solidFill>
                  <a:srgbClr val="0000ff"/>
                </a:solidFill>
                <a:latin typeface="ＭＳ Ｐゴシック"/>
              </a:rPr>
              <a:t>サービス入力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900" spc="-1" strike="noStrike">
                <a:solidFill>
                  <a:srgbClr val="0000ff"/>
                </a:solidFill>
                <a:latin typeface="ＭＳ Ｐゴシック"/>
              </a:rPr>
              <a:t>強制施錠ｻｰﾋﾞｽ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AutoShape 71"/>
          <p:cNvSpPr/>
          <p:nvPr/>
        </p:nvSpPr>
        <p:spPr>
          <a:xfrm>
            <a:off x="8039160" y="4651200"/>
            <a:ext cx="380880" cy="8240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24040"/>
              <a:gd name="textAreaBottom" fmla="*/ 805680 h 824040"/>
            </a:gdLst>
            <a:ahLst/>
            <a:rect l="textAreaLeft" t="textAreaTop" r="textAreaRight" b="textAreaBottom"/>
            <a:pathLst>
              <a:path w="21600" h="46708">
                <a:moveTo>
                  <a:pt x="3600" y="0"/>
                </a:moveTo>
                <a:arcTo wR="3600" hR="3600" stAng="16200000" swAng="-5400000"/>
                <a:lnTo>
                  <a:pt x="0" y="43108"/>
                </a:lnTo>
                <a:arcTo wR="3600" hR="3600" stAng="10800000" swAng="-5400000"/>
                <a:lnTo>
                  <a:pt x="18000" y="46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ff99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解約処理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Rectangle 73"/>
          <p:cNvSpPr/>
          <p:nvPr/>
        </p:nvSpPr>
        <p:spPr>
          <a:xfrm>
            <a:off x="498600" y="5095800"/>
            <a:ext cx="477720" cy="3114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未収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AutoShape 74"/>
          <p:cNvSpPr/>
          <p:nvPr/>
        </p:nvSpPr>
        <p:spPr>
          <a:xfrm>
            <a:off x="5106960" y="4651200"/>
            <a:ext cx="380880" cy="833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33760"/>
              <a:gd name="textAreaBottom" fmla="*/ 815400 h 833760"/>
            </a:gdLst>
            <a:ahLst/>
            <a:rect l="textAreaLeft" t="textAreaTop" r="textAreaRight" b="textAreaBottom"/>
            <a:pathLst>
              <a:path w="21600" h="47259">
                <a:moveTo>
                  <a:pt x="3600" y="0"/>
                </a:moveTo>
                <a:arcTo wR="3600" hR="3600" stAng="16200000" swAng="-5400000"/>
                <a:lnTo>
                  <a:pt x="0" y="43659"/>
                </a:lnTo>
                <a:arcTo wR="3600" hR="3600" stAng="10800000" swAng="-5400000"/>
                <a:lnTo>
                  <a:pt x="18000" y="47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a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Times New Roman"/>
              </a:rPr>
              <a:t>契約解除告知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督促＋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6342120" y="5334120"/>
            <a:ext cx="169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※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強制施錠Ｓの累積はＮＧです</a:t>
            </a:r>
            <a:endParaRPr b="1" lang="en-US" sz="9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9" name="Oval 77"/>
          <p:cNvSpPr/>
          <p:nvPr/>
        </p:nvSpPr>
        <p:spPr>
          <a:xfrm>
            <a:off x="471600" y="5556240"/>
            <a:ext cx="587160" cy="2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Oval 78"/>
          <p:cNvSpPr/>
          <p:nvPr/>
        </p:nvSpPr>
        <p:spPr>
          <a:xfrm>
            <a:off x="1754280" y="5551560"/>
            <a:ext cx="614160" cy="2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Oval 79"/>
          <p:cNvSpPr/>
          <p:nvPr/>
        </p:nvSpPr>
        <p:spPr>
          <a:xfrm>
            <a:off x="3129120" y="5538960"/>
            <a:ext cx="542880" cy="250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Oval 80"/>
          <p:cNvSpPr/>
          <p:nvPr/>
        </p:nvSpPr>
        <p:spPr>
          <a:xfrm>
            <a:off x="6754680" y="5526000"/>
            <a:ext cx="569880" cy="2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3" name="Oval 81"/>
          <p:cNvSpPr/>
          <p:nvPr/>
        </p:nvSpPr>
        <p:spPr>
          <a:xfrm>
            <a:off x="4519440" y="5532480"/>
            <a:ext cx="613080" cy="2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4" name="Text Box 82"/>
          <p:cNvSpPr/>
          <p:nvPr/>
        </p:nvSpPr>
        <p:spPr>
          <a:xfrm>
            <a:off x="461880" y="5575320"/>
            <a:ext cx="6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１ヶ月累積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Text Box 83"/>
          <p:cNvSpPr/>
          <p:nvPr/>
        </p:nvSpPr>
        <p:spPr>
          <a:xfrm>
            <a:off x="1757520" y="5570640"/>
            <a:ext cx="77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２ヶ月累積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Text Box 84"/>
          <p:cNvSpPr/>
          <p:nvPr/>
        </p:nvSpPr>
        <p:spPr>
          <a:xfrm>
            <a:off x="3100320" y="5564160"/>
            <a:ext cx="7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３ヶ月累積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Text Box 85"/>
          <p:cNvSpPr/>
          <p:nvPr/>
        </p:nvSpPr>
        <p:spPr>
          <a:xfrm>
            <a:off x="6788160" y="55515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５ヶ月目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Text Box 86"/>
          <p:cNvSpPr/>
          <p:nvPr/>
        </p:nvSpPr>
        <p:spPr>
          <a:xfrm>
            <a:off x="4502160" y="5559480"/>
            <a:ext cx="7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４ヶ月累積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Text Box 87"/>
          <p:cNvSpPr/>
          <p:nvPr/>
        </p:nvSpPr>
        <p:spPr>
          <a:xfrm>
            <a:off x="372960" y="4270320"/>
            <a:ext cx="4721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サービス処理　②悪質・支払不良顧客の場合フロー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2654280" y="817560"/>
            <a:ext cx="3852720" cy="192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業務店受付センターへ対応依頼してください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6113520" y="4649760"/>
            <a:ext cx="380880" cy="9270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927000"/>
              <a:gd name="textAreaBottom" fmla="*/ 908640 h 927000"/>
            </a:gdLst>
            <a:ahLst/>
            <a:rect l="textAreaLeft" t="textAreaTop" r="textAreaRight" b="textAreaBottom"/>
            <a:pathLst>
              <a:path w="21600" h="52542">
                <a:moveTo>
                  <a:pt x="3600" y="0"/>
                </a:moveTo>
                <a:arcTo wR="3600" hR="3600" stAng="16200000" swAng="-5400000"/>
                <a:lnTo>
                  <a:pt x="0" y="48942"/>
                </a:lnTo>
                <a:arcTo wR="3600" hR="3600" stAng="10800000" swAng="-5400000"/>
                <a:lnTo>
                  <a:pt x="18000" y="52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19080">
            <a:solidFill>
              <a:srgbClr val="ff00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受付Ｃ対応依頼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Text Box 107"/>
          <p:cNvSpPr/>
          <p:nvPr/>
        </p:nvSpPr>
        <p:spPr>
          <a:xfrm>
            <a:off x="6261120" y="4697280"/>
            <a:ext cx="169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ＭＳ Ｐゴシック"/>
              </a:rPr>
              <a:t>※</a:t>
            </a:r>
            <a:r>
              <a:rPr b="1" lang="en-US" sz="800" spc="-1" strike="noStrike">
                <a:solidFill>
                  <a:srgbClr val="ff0000"/>
                </a:solidFill>
                <a:latin typeface="ＭＳ Ｐゴシック"/>
              </a:rPr>
              <a:t>1</a:t>
            </a:r>
            <a:r>
              <a:rPr b="1" lang="ja-JP" sz="800" spc="-1" strike="noStrike">
                <a:solidFill>
                  <a:srgbClr val="ff0000"/>
                </a:solidFill>
                <a:latin typeface="ＭＳ Ｐゴシック"/>
              </a:rPr>
              <a:t>ヶ月以内で判断</a:t>
            </a:r>
            <a:endParaRPr b="1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6880" y="127080"/>
            <a:ext cx="7086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２．貸倒処理につい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363600" y="4643280"/>
            <a:ext cx="88920" cy="8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47520" y="569880"/>
            <a:ext cx="9037800" cy="6148440"/>
          </a:xfrm>
          <a:prstGeom prst="roundRect">
            <a:avLst>
              <a:gd name="adj" fmla="val 188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90440" y="1314360"/>
            <a:ext cx="899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連絡不能顧客の場合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77720" y="1527120"/>
            <a:ext cx="832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閉店廃業、行方不明、会社更生法申請、自己破産などの事由により、事実上顧客と接触ができない場合</a:t>
            </a:r>
            <a:endParaRPr b="1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1074600" y="3395520"/>
            <a:ext cx="799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手順を踏んで督促行為を行い、最終期限までに支払いがなかった場合は、必ず解約処理を行ってください。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87200" y="2998800"/>
            <a:ext cx="899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悪質・支払不良顧客の場合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468360" y="3209760"/>
            <a:ext cx="888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未収の交渉・請求相手との接触が可能（事由⇒回収困難等）</a:t>
            </a:r>
            <a:endParaRPr b="1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160" y="560520"/>
            <a:ext cx="89917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 u="sng">
                <a:solidFill>
                  <a:srgbClr val="000000"/>
                </a:solidFill>
                <a:uFillTx/>
                <a:latin typeface="ＭＳ Ｐゴシック"/>
              </a:rPr>
              <a:t>貸倒判断・申請の確認事項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442800" y="779400"/>
            <a:ext cx="85266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最低限確認しなければならない事項、処理までの期間について、以下の３区分に記します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なお、業務店センター督促案件については、債権委託１年後一括貸倒対象となりますので、個別の貸倒申請は不要です。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AutoShape 20"/>
          <p:cNvSpPr/>
          <p:nvPr/>
        </p:nvSpPr>
        <p:spPr>
          <a:xfrm>
            <a:off x="154080" y="1314360"/>
            <a:ext cx="8815320" cy="1648080"/>
          </a:xfrm>
          <a:prstGeom prst="roundRect">
            <a:avLst>
              <a:gd name="adj" fmla="val 7389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157320" y="3014640"/>
            <a:ext cx="8797680" cy="1389240"/>
          </a:xfrm>
          <a:prstGeom prst="roundRect">
            <a:avLst>
              <a:gd name="adj" fmla="val 8981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1092240" y="1717560"/>
            <a:ext cx="792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顧客と直接的には未収交渉が出来ないケースです。未収交渉が可能な場合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『②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悪質・支払不良顧客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』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401760" y="1962000"/>
            <a:ext cx="8334360" cy="66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主な事項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閉店廃業、行方不明の場合　⇒　現地情報収集（近隣店舗・ビルオーナー・不動産管理会社への聞込み調査、オーナー自宅への訪問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                     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会社更生法申請・自己破産の場合　⇒　公的書類の受理、代理人（弁護士・管財人等）との折衝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確認必須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支店長による事実確認（交渉担当者へのヒアリングや現地確認、公的書類の内容確認など）、</a:t>
            </a:r>
            <a:r>
              <a:rPr b="0" lang="ja-JP" sz="1000" spc="-1" strike="noStrike">
                <a:solidFill>
                  <a:srgbClr val="3333cc"/>
                </a:solidFill>
                <a:latin typeface="ＭＳ Ｐゴシック"/>
              </a:rPr>
              <a:t>チューナーの存在を確認⇒引上げ手配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407880" y="2666880"/>
            <a:ext cx="8326440" cy="246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処理までの期間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弁護士からの受任通知の場合　⇒　裁判所決定通知後　　　以外　⇒　</a:t>
            </a:r>
            <a:r>
              <a:rPr b="0" lang="ja-JP" sz="1000" spc="-1" strike="noStrike">
                <a:solidFill>
                  <a:srgbClr val="3333cc"/>
                </a:solidFill>
                <a:latin typeface="ＭＳ Ｐゴシック"/>
              </a:rPr>
              <a:t>発覚から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3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ヶ月</a:t>
            </a:r>
            <a:r>
              <a:rPr b="0" lang="ja-JP" sz="1000" spc="-1" strike="noStrike">
                <a:solidFill>
                  <a:srgbClr val="3333cc"/>
                </a:solidFill>
                <a:latin typeface="ＭＳ Ｐゴシック"/>
              </a:rPr>
              <a:t>が目安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（進捗がある場合でも最長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6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ヶ月以内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1071720" y="3552840"/>
            <a:ext cx="799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未収金額により、回収に費やす時間・労力・経費が上回る場合は、サービス停止を前提とした判断も必要になります。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409680" y="4091040"/>
            <a:ext cx="8326440" cy="246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貸倒処理までの期間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解約後１年以内　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407880" y="3800520"/>
            <a:ext cx="8334360" cy="246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主な事項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解約処理、チューナー撤去、支店長による事実確認（交渉営業担当へのヒアリングや現地確認）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458640" y="4840200"/>
            <a:ext cx="864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事実上、請求をあきらめざるを得ない（事由⇒火災・地震等、経営者死亡など）</a:t>
            </a:r>
            <a:endParaRPr b="1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2" name="Text Box 32"/>
          <p:cNvSpPr/>
          <p:nvPr/>
        </p:nvSpPr>
        <p:spPr>
          <a:xfrm>
            <a:off x="181080" y="4440240"/>
            <a:ext cx="8991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766800"/>
                <a:tab algn="l" pos="17193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請求不可の場合</a:t>
            </a: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Text Box 33"/>
          <p:cNvSpPr/>
          <p:nvPr/>
        </p:nvSpPr>
        <p:spPr>
          <a:xfrm>
            <a:off x="469800" y="4676760"/>
            <a:ext cx="858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❑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当社責任のため請求できない（事由⇒商品トラブル、当社対応トラブルなど）</a:t>
            </a:r>
            <a:endParaRPr b="1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AutoShape 34"/>
          <p:cNvSpPr/>
          <p:nvPr/>
        </p:nvSpPr>
        <p:spPr>
          <a:xfrm>
            <a:off x="146160" y="4467240"/>
            <a:ext cx="8797680" cy="1420920"/>
          </a:xfrm>
          <a:prstGeom prst="roundRect">
            <a:avLst>
              <a:gd name="adj" fmla="val 11037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Text Box 35"/>
          <p:cNvSpPr/>
          <p:nvPr/>
        </p:nvSpPr>
        <p:spPr>
          <a:xfrm>
            <a:off x="378000" y="5270400"/>
            <a:ext cx="8334360" cy="246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主な事項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電話確認、現地確認、営業担当への状況ヒアリング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374760" y="5565600"/>
            <a:ext cx="8343720" cy="246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【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貸倒処理までの期間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】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　　確認後</a:t>
            </a:r>
            <a:r>
              <a:rPr b="0" lang="en-US" sz="1000" spc="-1" strike="noStrike">
                <a:solidFill>
                  <a:srgbClr val="0033cc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33cc"/>
                </a:solidFill>
                <a:latin typeface="ＭＳ Ｐゴシック"/>
              </a:rPr>
              <a:t>ヶ月以内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Text Box 37"/>
          <p:cNvSpPr/>
          <p:nvPr/>
        </p:nvSpPr>
        <p:spPr>
          <a:xfrm>
            <a:off x="1066680" y="5016600"/>
            <a:ext cx="78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契約継続が困難なケースとなりますので、必ず解約処理を行ってください。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Text Box 38"/>
          <p:cNvSpPr/>
          <p:nvPr/>
        </p:nvSpPr>
        <p:spPr>
          <a:xfrm>
            <a:off x="258840" y="6205680"/>
            <a:ext cx="8653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詳細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UNIS-WEB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内 「貸倒・誤計上売上訂正関連」を参照ください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UNIS-WEB ⇒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種マニュアルダウンロード</a:t>
            </a:r>
            <a:endParaRPr b="1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spcBef>
                <a:spcPts val="31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⇒● 入金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サービス・貸倒 含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http://www.mxa.usen.co.jp/~u8031/unis_man/man/kasidaore-gokeijo.zip</a:t>
            </a:r>
            <a:endParaRPr b="1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Text Box 39"/>
          <p:cNvSpPr/>
          <p:nvPr/>
        </p:nvSpPr>
        <p:spPr>
          <a:xfrm>
            <a:off x="255600" y="5925960"/>
            <a:ext cx="86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注意点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１．</a:t>
            </a:r>
            <a:r>
              <a:rPr b="0" lang="ja-JP" sz="1100" spc="-1" strike="noStrike" u="sng">
                <a:solidFill>
                  <a:srgbClr val="000000"/>
                </a:solidFill>
                <a:uFillTx/>
                <a:latin typeface="ＭＳ Ｐゴシック"/>
              </a:rPr>
              <a:t>「貸倒」・・・然るべき請求に対する未払い金（売掛金）が対象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　２．</a:t>
            </a:r>
            <a:r>
              <a:rPr b="0" lang="ja-JP" sz="1100" spc="-1" strike="noStrike" u="sng">
                <a:solidFill>
                  <a:srgbClr val="000000"/>
                </a:solidFill>
                <a:uFillTx/>
                <a:latin typeface="ＭＳ Ｐゴシック"/>
              </a:rPr>
              <a:t>「誤計上売上訂正」・・・請求できない誤った売上が対象</a:t>
            </a:r>
            <a:endParaRPr b="1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5"/>
          <p:cNvSpPr/>
          <p:nvPr/>
        </p:nvSpPr>
        <p:spPr>
          <a:xfrm>
            <a:off x="76320" y="587520"/>
            <a:ext cx="8966160" cy="6111720"/>
          </a:xfrm>
          <a:prstGeom prst="roundRect">
            <a:avLst>
              <a:gd name="adj" fmla="val 2144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6880" y="123480"/>
            <a:ext cx="7086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３．本書に関わる問合せ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560520"/>
            <a:ext cx="8858160" cy="60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◆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本書の問合せ先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indent="0" algn="ct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オペレーション企画部 管理課 債権管理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G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3-6823-205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-mail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aiken@mxb.usen.co.jp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57320" y="695160"/>
            <a:ext cx="8797680" cy="1265400"/>
          </a:xfrm>
          <a:prstGeom prst="roundRect">
            <a:avLst>
              <a:gd name="adj" fmla="val 8981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4:47:40Z</dcterms:created>
  <dc:creator>DTC</dc:creator>
  <dc:description/>
  <dc:language>en-US</dc:language>
  <cp:lastModifiedBy>柴田　武士</cp:lastModifiedBy>
  <cp:lastPrinted>2001-05-07T11:47:55Z</cp:lastPrinted>
  <dcterms:modified xsi:type="dcterms:W3CDTF">2014-03-04T00:58:31Z</dcterms:modified>
  <cp:revision>824</cp:revision>
  <dc:subject/>
  <dc:title>タイトル欄</dc:title>
</cp:coreProperties>
</file>